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0.jpeg" ContentType="image/jpeg"/>
  <Override PartName="/ppt/media/image32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media/image28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4A4-C0BA-444B-8449-9C48497F9B70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es explain observed natural behaviors in terms of our human experience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0B6-E880-4936-A252-349E237D019E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C01-8527-4BDD-8C9E-83DE90B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7EB-41F3-4906-A27B-DDB12CA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BCB-60A1-42C8-B37E-A75D3551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677-16C6-43C8-831D-457083C3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FEE-B84F-428F-BFDC-9301D96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3B2-2925-4752-B995-37B1081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221-9D6B-4C13-8C1B-049C4FE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CC0-1EB8-47E3-874E-0A0D7A7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B8D-260D-4CFD-A848-85B01595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150-545D-41D7-A61E-D35BA79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711-9408-4ED7-95D5-E54D309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D49-E248-4DE2-8152-FF60C87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01F-0BA3-4EFD-9E48-4CC7414CA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95280" y="259092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troduction to Chemistry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 of Observation or Dat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nt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Numerical information describing a quantity.  It usually includes a number and a unit (454.6 g, 2.2 lb., 25 student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l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scribes a quality of the data such as color, odor, shape, or some other physical characteristic (granular, whit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ory or a Law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(model)  tested set of hypothesis that gives an overall EXPLANATION of some part of nature. (tells WHY it happe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tum Theory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A summary of accepted facts of nature.  (tells WHAT happened again and again and again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hemical equilibri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blem/Observation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is plant is dying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pose possible solutions.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or hypothesi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cide how to 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luate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ossibly draw conclusion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olled Experi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that will be manipulated or chang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whose value depends on the independent vari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s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hat is kept the same throughout the experiment to keep “samey samey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ro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standard that is used for comparis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s of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ure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o gain knowledge for the sake of knowledge itself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pplied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research undertaken to solve a specific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zone Case Stud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  +  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B or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rst three steps:  normal containment of UV radi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C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  +  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single chlorine molecule can break down 100,000 ozone molecul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2590920"/>
            <a:ext cx="495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—Properties and Changes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38080" y="762120"/>
            <a:ext cx="71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smallest unit of an element that maintai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operties of that elemen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5" descr="table"/>
          <p:cNvPicPr/>
          <p:nvPr/>
        </p:nvPicPr>
        <p:blipFill>
          <a:blip r:embed="rId1"/>
          <a:stretch/>
        </p:blipFill>
        <p:spPr>
          <a:xfrm>
            <a:off x="1295280" y="2971800"/>
            <a:ext cx="63216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57200" y="1371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lem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182880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ure substance that cannot be broken down into simpler substances by physical or chemical mea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p T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Top-ten_chap2"/>
          <p:cNvPicPr/>
          <p:nvPr/>
        </p:nvPicPr>
        <p:blipFill>
          <a:blip r:embed="rId1"/>
          <a:stretch/>
        </p:blipFill>
        <p:spPr>
          <a:xfrm>
            <a:off x="4535640" y="152280"/>
            <a:ext cx="443376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96048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substance that is made from the atoms of two o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re elements that are chemically bond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4724280" y="2133720"/>
          <a:ext cx="39625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39625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1"/>
          <p:cNvSpPr/>
          <p:nvPr/>
        </p:nvSpPr>
        <p:spPr>
          <a:xfrm>
            <a:off x="685800" y="2332080"/>
            <a:ext cx="37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–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46280" y="30178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is also known as table sugar, and is used to make Gummy Bear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7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cce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in chemistr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sitive attitude: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lieve you ca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st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class/take good not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mori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at I ask you to/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ig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ut the re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chapt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lf-check exercises/odd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acti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plete homework ahead of time (so c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k quest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eep 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ganiz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notebook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om Combina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3" descr="atom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hys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9907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a substance that does not involve a change in the identity of the substan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68520" y="19051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91320" y="259092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ase Chang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8" descr="boiling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sol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2_07a"/>
          <p:cNvPicPr/>
          <p:nvPr/>
        </p:nvPicPr>
        <p:blipFill>
          <a:blip r:embed="rId1"/>
          <a:stretch/>
        </p:blipFill>
        <p:spPr>
          <a:xfrm>
            <a:off x="5334120" y="190440"/>
            <a:ext cx="25527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2" name="TextBox 3"/>
          <p:cNvSpPr/>
          <p:nvPr/>
        </p:nvSpPr>
        <p:spPr>
          <a:xfrm>
            <a:off x="685800" y="3048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ol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has its own definite shape and volume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liqu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3" descr="Zumdahl02_07b"/>
          <p:cNvPicPr/>
          <p:nvPr/>
        </p:nvPicPr>
        <p:blipFill>
          <a:blip r:embed="rId1"/>
          <a:stretch/>
        </p:blipFill>
        <p:spPr>
          <a:xfrm>
            <a:off x="5410080" y="152280"/>
            <a:ext cx="255924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90720" y="266688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iqu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flows, has constant volume and takes the shap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ga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Picture 3" descr="Zumdahl02_07c"/>
          <p:cNvPicPr/>
          <p:nvPr/>
        </p:nvPicPr>
        <p:blipFill>
          <a:blip r:embed="rId1"/>
          <a:stretch/>
        </p:blipFill>
        <p:spPr>
          <a:xfrm>
            <a:off x="5486400" y="228600"/>
            <a:ext cx="251136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990720" y="2209680"/>
            <a:ext cx="396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state of matter that takes the shape and volum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Vap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the gaseous state of a substanc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Sol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1030" descr="coppersolidanimate"/>
          <p:cNvPicPr/>
          <p:nvPr/>
        </p:nvPicPr>
        <p:blipFill>
          <a:blip r:embed="rId1"/>
          <a:stretch/>
        </p:blipFill>
        <p:spPr>
          <a:xfrm>
            <a:off x="1523880" y="1295280"/>
            <a:ext cx="5767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Liqu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Picture 4" descr="copperliquidanimate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– Vapor (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coppergasanimate"/>
          <p:cNvPicPr/>
          <p:nvPr/>
        </p:nvPicPr>
        <p:blipFill>
          <a:blip r:embed="rId1"/>
          <a:stretch/>
        </p:blipFill>
        <p:spPr>
          <a:xfrm>
            <a:off x="1600200" y="1981080"/>
            <a:ext cx="59198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ase Dif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971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ol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and shape; particles packed in fixed positi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iqu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but indefinite shape; particles close together but not in fixed positi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5720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a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neither definite volume nor definite shape; particles are at great distances from one ano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tates"/>
          <p:cNvPicPr/>
          <p:nvPr/>
        </p:nvPicPr>
        <p:blipFill>
          <a:blip r:embed="rId1"/>
          <a:stretch/>
        </p:blipFill>
        <p:spPr>
          <a:xfrm>
            <a:off x="3581280" y="152280"/>
            <a:ext cx="5292720" cy="2822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57200" y="54100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high temperature, ionized phase of matter as found on the su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ysical Changes/Propert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change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ype of change that alters the physical properties of a substance but does not change its compos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property: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haracteristic that can be observed or measured without changing the sample’s composition (density, color, odor, hardness, melting point, boiling point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x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pendent of the amount of substance present (mass, length, volum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independent of the amount of substance present (dens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is CHEMISTRY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5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o chemical change occurs when salt water is distille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3" descr="Zumdahl02_15"/>
          <p:cNvPicPr/>
          <p:nvPr/>
        </p:nvPicPr>
        <p:blipFill>
          <a:blip r:embed="rId1"/>
          <a:stretch/>
        </p:blipFill>
        <p:spPr>
          <a:xfrm>
            <a:off x="190440" y="2438280"/>
            <a:ext cx="8763120" cy="294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hem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which one or more substances are converted into different substanc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715000" y="20574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at and light are often evidence of a chemical chang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7" descr="fireworks-03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5867280" y="35053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hemical Property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bility of a substance to combine with or change into one or more other substanc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2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8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lysis, the decomposition of water by an electric current, is a chemical proc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3" descr="Zumdahl02_08"/>
          <p:cNvPicPr/>
          <p:nvPr/>
        </p:nvPicPr>
        <p:blipFill>
          <a:blip r:embed="rId1"/>
          <a:stretch/>
        </p:blipFill>
        <p:spPr>
          <a:xfrm>
            <a:off x="4191120" y="343080"/>
            <a:ext cx="472104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Conservation of Mas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=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s that:  mass is neither created nor destroyed during a chemical reac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ssification of 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2" descr="matter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95280" y="48006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stituents of the mixture retain their identity and may be separated by physical mea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9" descr="mixture"/>
          <p:cNvPicPr/>
          <p:nvPr/>
        </p:nvPicPr>
        <p:blipFill>
          <a:blip r:embed="rId1"/>
          <a:stretch/>
        </p:blipFill>
        <p:spPr>
          <a:xfrm>
            <a:off x="2133720" y="11430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2.16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iltration separates a liquid from a sol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0" name="Picture 3" descr="Zumdahl02_16"/>
          <p:cNvPicPr/>
          <p:nvPr/>
        </p:nvPicPr>
        <p:blipFill>
          <a:blip r:embed="rId1"/>
          <a:stretch/>
        </p:blipFill>
        <p:spPr>
          <a:xfrm>
            <a:off x="5105520" y="190440"/>
            <a:ext cx="32385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7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Separation of a sand-saltwater mixtur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3" descr="Zumdahl02_17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32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5" descr="distillation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248520" y="12193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still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8" descr="ink"/>
          <p:cNvPicPr/>
          <p:nvPr/>
        </p:nvPicPr>
        <p:blipFill>
          <a:blip r:embed="rId1"/>
          <a:stretch/>
        </p:blipFill>
        <p:spPr>
          <a:xfrm>
            <a:off x="228600" y="9907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4724280" y="137160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mponents of dyes such as ink may be separated by paper chromatography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emistry i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95680" y="13716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udy of matter and the changes it undergoes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11360" y="5486400"/>
            <a:ext cx="60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2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3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+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09720" y="609588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actants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Produc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8" descr="lightmyfire1"/>
          <p:cNvPicPr/>
          <p:nvPr/>
        </p:nvPicPr>
        <p:blipFill>
          <a:blip r:embed="rId1"/>
          <a:stretch/>
        </p:blipFill>
        <p:spPr>
          <a:xfrm>
            <a:off x="380880" y="304920"/>
            <a:ext cx="3529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gure 2.10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nty-four-karat gold is an el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ighteen-karat gold is an allo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een-karat gold is an allo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3" descr="Zumdahl02_10"/>
          <p:cNvPicPr/>
          <p:nvPr/>
        </p:nvPicPr>
        <p:blipFill>
          <a:blip r:embed="rId1"/>
          <a:stretch/>
        </p:blipFill>
        <p:spPr>
          <a:xfrm>
            <a:off x="228600" y="2819520"/>
            <a:ext cx="8686800" cy="263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9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composition of ai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3" descr="Zumdahl02_09"/>
          <p:cNvPicPr/>
          <p:nvPr/>
        </p:nvPicPr>
        <p:blipFill>
          <a:blip r:embed="rId1"/>
          <a:stretch/>
        </p:blipFill>
        <p:spPr>
          <a:xfrm>
            <a:off x="1085760" y="1150920"/>
            <a:ext cx="6972480" cy="509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t examining each substance of ai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3" descr="chart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Definit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A compound is always composed of the same elements in the same proportion by mass no matter how large or small the samp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mass of the compound is equal to the sum of the masses in the elements that make it up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can be expressed a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ss of el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x  10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ss of compoun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Multipl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compounds can be composed of the same elements in different ratios  (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, H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 or (CO and C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end Ch. 3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f the element carbon: Diamond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3" descr="Zumdahl02"/>
          <p:cNvPicPr/>
          <p:nvPr/>
        </p:nvPicPr>
        <p:blipFill>
          <a:blip r:embed="rId1"/>
          <a:stretch/>
        </p:blipFill>
        <p:spPr>
          <a:xfrm>
            <a:off x="4894200" y="228600"/>
            <a:ext cx="406728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1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of the element carbon: Graphite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Zumdahl02_05b"/>
          <p:cNvPicPr/>
          <p:nvPr/>
        </p:nvPicPr>
        <p:blipFill>
          <a:blip r:embed="rId1"/>
          <a:stretch/>
        </p:blipFill>
        <p:spPr>
          <a:xfrm>
            <a:off x="3962520" y="228600"/>
            <a:ext cx="499104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© by Houghton Mifflin Company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hree forms of the element carbon: Buckminsterfullere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3" descr="Zumdahl02_05c"/>
          <p:cNvPicPr/>
          <p:nvPr/>
        </p:nvPicPr>
        <p:blipFill>
          <a:blip r:embed="rId1"/>
          <a:stretch/>
        </p:blipFill>
        <p:spPr>
          <a:xfrm>
            <a:off x="3745080" y="266760"/>
            <a:ext cx="5244840" cy="613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11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esentation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 molec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2_11"/>
          <p:cNvPicPr/>
          <p:nvPr/>
        </p:nvPicPr>
        <p:blipFill>
          <a:blip r:embed="rId1"/>
          <a:stretch/>
        </p:blipFill>
        <p:spPr>
          <a:xfrm>
            <a:off x="3276720" y="228600"/>
            <a:ext cx="5600520" cy="540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89680" y="12952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ything that has mass and occupies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19810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590920"/>
            <a:ext cx="55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mount of matt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5800" y="3276720"/>
            <a:ext cx="69343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eigh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easure of the amount of matter in and the gravitational force exerted on the object.  (product of mass and the local acceleration of grav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general terms:  “the heaviness” of an objec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ode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29360" y="129528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visual, verbal, or mathematical explanation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experimental data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2362320"/>
            <a:ext cx="6019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nches of Chemistr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ble 1.1, p. 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stry is the “Central Scienc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are chemists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o are chemis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ou must be more than a talking head….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eps for Problem Solving/The “Scientific Metho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”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ations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thing that is witnessed and can be record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 the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 hypoth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estable statements or predictions to propose possible solution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ide what is reasonable an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fo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erime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(must be able to THINK CRITICALLY and creatively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data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done/replicate, or start again?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1.1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arious parts of the scientific metho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Zumdahl01_01_fin"/>
          <p:cNvPicPr/>
          <p:nvPr/>
        </p:nvPicPr>
        <p:blipFill>
          <a:blip r:embed="rId1"/>
          <a:stretch/>
        </p:blipFill>
        <p:spPr>
          <a:xfrm>
            <a:off x="4595760" y="152280"/>
            <a:ext cx="43401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2:17:25Z</dcterms:created>
  <dc:creator>Andrew Allan</dc:creator>
  <dc:description/>
  <dc:language>en-US</dc:language>
  <cp:lastModifiedBy> </cp:lastModifiedBy>
  <dcterms:modified xsi:type="dcterms:W3CDTF">2011-08-12T02:21:00Z</dcterms:modified>
  <cp:revision>208</cp:revision>
  <dc:subject/>
  <dc:title>Chapter 1</dc:title>
</cp:coreProperties>
</file>