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30.jpeg" ContentType="image/jpeg"/>
  <Override PartName="/ppt/media/image32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20.png" ContentType="image/png"/>
  <Override PartName="/ppt/media/image28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C56-AC24-47C9-8B94-298964146874}" type="slidenum"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ies explain observed natural behaviors in terms of our human experience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D5A-4557-4AF2-87BF-40EB54E338EB}" type="slidenum">
              <a:rPr b="1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DB6-9043-4F56-AC28-E0DB3631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4A2-A6EC-4CE0-9B61-2F92A58D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8FA-44A9-41EC-991A-F3B7B7DC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74D-5110-41A5-9B5B-47452C4F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CC4-D4DA-4412-A57F-FC23492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EF2-B000-4FE4-944B-92AF349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65B-5D2E-4DF6-951E-FB797C1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4F9-893F-4482-B738-044D4C1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15B-183C-4DBA-BEDA-F8BB33B7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837-A1A9-4305-A120-E24BBB4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6F4-70D3-4B4A-9D7F-46B8DFC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80A-96EF-4A18-A8B8-B3A6A944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7A75-721D-4D17-A9F4-D8B91F501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1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95280" y="259092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troduction to Chemistry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 of Observation or Dat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nt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Numerical information describing a quantity.  It usually includes a number and a unit (454.6 g, 2.2 lb., 25 student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Qualit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scribes a quality of the data such as color, odor, shape, or some other physical characteristic (granular, whit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ory or a Law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heo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(model)  tested set of hypothesis that gives an overall EXPLANATION of some part of nature. (tells WHY it happens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antum Theory   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Law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A summary of accepted facts of nature.  (tells WHAT happened again and again and again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hemical equilibri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w of conservation of mas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blem/Observation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is plant is dying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pose possible solutions. 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or hypothesis)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ecide how to 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hem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luate results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ossibly draw conclusion.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trolled Experi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that will be manipulated or chang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pendent Variabl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variable whose value depends on the independent variab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s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hat is kept the same throughout the experiment to keep “samey samey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ro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standard that is used for comparis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ypes of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ure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o gain knowledge for the sake of knowledge itself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pplied Researc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research undertaken to solve a specific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zone Case Stud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  +  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UVB or UVC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rst three steps:  normal containment of UV radi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+  C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O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O  +  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Cl  +  O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single chlorine molecule can break down 100,000 ozone molecul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05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Chemistry Chapter 3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2590920"/>
            <a:ext cx="495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Matter—Properties and Changes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Picture 4" descr="Chemistry"/>
          <p:cNvPicPr/>
          <p:nvPr/>
        </p:nvPicPr>
        <p:blipFill>
          <a:blip r:embed="rId1"/>
          <a:stretch/>
        </p:blipFill>
        <p:spPr>
          <a:xfrm>
            <a:off x="6781680" y="1447920"/>
            <a:ext cx="19782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38080" y="762120"/>
            <a:ext cx="71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smallest unit of an element that maintai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properties of that elemen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5" descr="table"/>
          <p:cNvPicPr/>
          <p:nvPr/>
        </p:nvPicPr>
        <p:blipFill>
          <a:blip r:embed="rId1"/>
          <a:stretch/>
        </p:blipFill>
        <p:spPr>
          <a:xfrm>
            <a:off x="1295280" y="2971800"/>
            <a:ext cx="632160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457200" y="1371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leme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n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182880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 pure substance that cannot be broken down into simpler substances by physical or chemical mea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p T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Top-ten_chap2"/>
          <p:cNvPicPr/>
          <p:nvPr/>
        </p:nvPicPr>
        <p:blipFill>
          <a:blip r:embed="rId1"/>
          <a:stretch/>
        </p:blipFill>
        <p:spPr>
          <a:xfrm>
            <a:off x="4535640" y="152280"/>
            <a:ext cx="443376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ompou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96048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substance that is made from the atoms of two or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re elements that are chemically bond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4724280" y="2133720"/>
          <a:ext cx="39625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39625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1"/>
          <p:cNvSpPr/>
          <p:nvPr/>
        </p:nvSpPr>
        <p:spPr>
          <a:xfrm>
            <a:off x="685800" y="2332080"/>
            <a:ext cx="37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– 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46280" y="30178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crose is also known as table sugar, and is used to make Gummy Bear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verb" presetID="1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7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ow t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ccee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in chemistr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sitive attitude: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lieve you ca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iste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class/take good note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emori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at I ask you to/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ig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ut the res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a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chapter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elf-check exercises/odd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racti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plete homework ahead of time (so c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k quest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Keep an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rganiz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notebook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tom Combina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Picture 3" descr="atom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4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hys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99072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a substance that does not involve a change in the identity of the substan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68520" y="190512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91320" y="259092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hase Chang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8" descr="boiling1"/>
          <p:cNvPicPr/>
          <p:nvPr/>
        </p:nvPicPr>
        <p:blipFill>
          <a:blip r:embed="rId1"/>
          <a:stretch/>
        </p:blipFill>
        <p:spPr>
          <a:xfrm>
            <a:off x="457200" y="1981080"/>
            <a:ext cx="51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sol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Picture 3" descr="Zumdahl02_07a"/>
          <p:cNvPicPr/>
          <p:nvPr/>
        </p:nvPicPr>
        <p:blipFill>
          <a:blip r:embed="rId1"/>
          <a:stretch/>
        </p:blipFill>
        <p:spPr>
          <a:xfrm>
            <a:off x="5334120" y="190440"/>
            <a:ext cx="25527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2" name="TextBox 3"/>
          <p:cNvSpPr/>
          <p:nvPr/>
        </p:nvSpPr>
        <p:spPr>
          <a:xfrm>
            <a:off x="685800" y="3048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Sol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has its own definite shape and volume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liqui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3" descr="Zumdahl02_07b"/>
          <p:cNvPicPr/>
          <p:nvPr/>
        </p:nvPicPr>
        <p:blipFill>
          <a:blip r:embed="rId1"/>
          <a:stretch/>
        </p:blipFill>
        <p:spPr>
          <a:xfrm>
            <a:off x="5410080" y="152280"/>
            <a:ext cx="255924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TextBox 3"/>
          <p:cNvSpPr/>
          <p:nvPr/>
        </p:nvSpPr>
        <p:spPr>
          <a:xfrm>
            <a:off x="990720" y="2666880"/>
            <a:ext cx="403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iqui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form of matter that flows, has constant volume and takes the shap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7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three states of matter: ga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Picture 3" descr="Zumdahl02_07c"/>
          <p:cNvPicPr/>
          <p:nvPr/>
        </p:nvPicPr>
        <p:blipFill>
          <a:blip r:embed="rId1"/>
          <a:stretch/>
        </p:blipFill>
        <p:spPr>
          <a:xfrm>
            <a:off x="5486400" y="228600"/>
            <a:ext cx="251136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8" name="TextBox 3"/>
          <p:cNvSpPr/>
          <p:nvPr/>
        </p:nvSpPr>
        <p:spPr>
          <a:xfrm>
            <a:off x="990720" y="2209680"/>
            <a:ext cx="396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a state of matter that takes the shape and volume of its container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Vapo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:  the gaseous state of a substanc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Sol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0" name="Picture 1030" descr="coppersolidanimate"/>
          <p:cNvPicPr/>
          <p:nvPr/>
        </p:nvPicPr>
        <p:blipFill>
          <a:blip r:embed="rId1"/>
          <a:stretch/>
        </p:blipFill>
        <p:spPr>
          <a:xfrm>
            <a:off x="1523880" y="1295280"/>
            <a:ext cx="57675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- Liqui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Picture 4" descr="copperliquidanimate"/>
          <p:cNvPicPr/>
          <p:nvPr/>
        </p:nvPicPr>
        <p:blipFill>
          <a:blip r:embed="rId1"/>
          <a:stretch/>
        </p:blipFill>
        <p:spPr>
          <a:xfrm>
            <a:off x="1523880" y="1600200"/>
            <a:ext cx="6248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pper Phases – Vapor (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coppergasanimate"/>
          <p:cNvPicPr/>
          <p:nvPr/>
        </p:nvPicPr>
        <p:blipFill>
          <a:blip r:embed="rId1"/>
          <a:stretch/>
        </p:blipFill>
        <p:spPr>
          <a:xfrm>
            <a:off x="1600200" y="1981080"/>
            <a:ext cx="591984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hase Differenc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971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ol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and shape; particles packed in fixed positio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733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iqui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definite volume but indefinite shape; particles close together but not in fixed position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5720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a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neither definite volume nor definite shape; particles are at great distances from one anoth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7" descr="states"/>
          <p:cNvPicPr/>
          <p:nvPr/>
        </p:nvPicPr>
        <p:blipFill>
          <a:blip r:embed="rId1"/>
          <a:stretch/>
        </p:blipFill>
        <p:spPr>
          <a:xfrm>
            <a:off x="3581280" y="152280"/>
            <a:ext cx="5292720" cy="2822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57200" y="541008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high temperature, ionized phase of matter as found on the su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ysical Changes/Properti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change: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ype of change that alters the physical properties of a substance but does not change its compos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ysical property: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characteristic that can be observed or measured without changing the sample’s composition (density, color, odor, hardness, melting point, boiling point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Ex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dependent of the amount of substance present (mass, length, volume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tens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independent of the amount of substance present (dens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hat is CHEMISTRY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5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No chemical change occurs when salt water is distille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4" name="Picture 3" descr="Zumdahl02_15"/>
          <p:cNvPicPr/>
          <p:nvPr/>
        </p:nvPicPr>
        <p:blipFill>
          <a:blip r:embed="rId1"/>
          <a:stretch/>
        </p:blipFill>
        <p:spPr>
          <a:xfrm>
            <a:off x="190440" y="2438280"/>
            <a:ext cx="8763120" cy="294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Chemical Chang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143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change in which one or more substances are converted into different substanc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715000" y="205740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eat and light are often evidence of a chemical chang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Picture 7" descr="fireworks-03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5867280" y="3505320"/>
            <a:ext cx="29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hemical Property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ability of a substance to combine with or change into one or more other substanc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32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8: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lectrolysis, the decomposition of water by an electric current, is a chemical proc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3" descr="Zumdahl02_08"/>
          <p:cNvPicPr/>
          <p:nvPr/>
        </p:nvPicPr>
        <p:blipFill>
          <a:blip r:embed="rId1"/>
          <a:stretch/>
        </p:blipFill>
        <p:spPr>
          <a:xfrm>
            <a:off x="4191120" y="343080"/>
            <a:ext cx="472104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Conservation of Mas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=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ss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s that:  mass is neither created nor destroyed during a chemical reac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ssification of 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2" descr="matter"/>
          <p:cNvPicPr/>
          <p:nvPr/>
        </p:nvPicPr>
        <p:blipFill>
          <a:blip r:embed="rId1"/>
          <a:stretch/>
        </p:blipFill>
        <p:spPr>
          <a:xfrm>
            <a:off x="1447920" y="762120"/>
            <a:ext cx="64008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95280" y="48006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stituents of the mixture retain their identity and may be separated by physical mean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8" name="Picture 9" descr="mixture"/>
          <p:cNvPicPr/>
          <p:nvPr/>
        </p:nvPicPr>
        <p:blipFill>
          <a:blip r:embed="rId1"/>
          <a:stretch/>
        </p:blipFill>
        <p:spPr>
          <a:xfrm>
            <a:off x="2133720" y="11430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40" y="38052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2.16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iltration separates a liquid from a soli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0" name="Picture 3" descr="Zumdahl02_16"/>
          <p:cNvPicPr/>
          <p:nvPr/>
        </p:nvPicPr>
        <p:blipFill>
          <a:blip r:embed="rId1"/>
          <a:stretch/>
        </p:blipFill>
        <p:spPr>
          <a:xfrm>
            <a:off x="5105520" y="190440"/>
            <a:ext cx="323856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17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Separation of a sand-saltwater mixture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3" descr="Zumdahl02_17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32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5" descr="distillation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248520" y="12193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Distill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paration of a Mixtur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8" descr="ink"/>
          <p:cNvPicPr/>
          <p:nvPr/>
        </p:nvPicPr>
        <p:blipFill>
          <a:blip r:embed="rId1"/>
          <a:stretch/>
        </p:blipFill>
        <p:spPr>
          <a:xfrm>
            <a:off x="228600" y="9907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4724280" y="137160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mponents of dyes such as ink may be separated by paper chromatography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emistry is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495680" y="1371600"/>
            <a:ext cx="41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study of matter and the changes it undergoes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11360" y="5486400"/>
            <a:ext cx="60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2 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+ 3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 + Energ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809720" y="609588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actants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Product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" name="Picture 8" descr="lightmyfire1"/>
          <p:cNvPicPr/>
          <p:nvPr/>
        </p:nvPicPr>
        <p:blipFill>
          <a:blip r:embed="rId1"/>
          <a:stretch/>
        </p:blipFill>
        <p:spPr>
          <a:xfrm>
            <a:off x="380880" y="304920"/>
            <a:ext cx="3529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igure 2.10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nty-four-karat gold is an elemen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ighteen-karat gold is an allo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een-karat gold is an allo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3" descr="Zumdahl02_10"/>
          <p:cNvPicPr/>
          <p:nvPr/>
        </p:nvPicPr>
        <p:blipFill>
          <a:blip r:embed="rId1"/>
          <a:stretch/>
        </p:blipFill>
        <p:spPr>
          <a:xfrm>
            <a:off x="228600" y="2819520"/>
            <a:ext cx="8686800" cy="263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igure 2.9: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composition of air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2" name="Picture 3" descr="Zumdahl02_09"/>
          <p:cNvPicPr/>
          <p:nvPr/>
        </p:nvPicPr>
        <p:blipFill>
          <a:blip r:embed="rId1"/>
          <a:stretch/>
        </p:blipFill>
        <p:spPr>
          <a:xfrm>
            <a:off x="1085760" y="1150920"/>
            <a:ext cx="6972480" cy="509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1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rt examining each substance of air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4" name="Picture 3" descr="chart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Definit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A compound is always composed of the same elements in the same proportion by mass no matter how large or small the sampl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he mass of the compound is equal to the sum of the masses in the elements that make it up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can be expressed a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% mass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ass of el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x  100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1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ss of compoun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aw of Multiple Propor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States th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 compounds can be composed of the same elements in different ratios  (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, H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  or (CO and CO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end Ch. 3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f the element carbon: Diamond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3" descr="Zumdahl02"/>
          <p:cNvPicPr/>
          <p:nvPr/>
        </p:nvPicPr>
        <p:blipFill>
          <a:blip r:embed="rId1"/>
          <a:stretch/>
        </p:blipFill>
        <p:spPr>
          <a:xfrm>
            <a:off x="4894200" y="228600"/>
            <a:ext cx="406728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1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The three forms of the element carbon: Graphite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Picture 3" descr="Zumdahl02_05b"/>
          <p:cNvPicPr/>
          <p:nvPr/>
        </p:nvPicPr>
        <p:blipFill>
          <a:blip r:embed="rId1"/>
          <a:stretch/>
        </p:blipFill>
        <p:spPr>
          <a:xfrm>
            <a:off x="3962520" y="228600"/>
            <a:ext cx="4991040" cy="640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© by Houghton Mifflin Company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5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hree forms of the element carbon: Buckminsterfullere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3" descr="Zumdahl02_05c"/>
          <p:cNvPicPr/>
          <p:nvPr/>
        </p:nvPicPr>
        <p:blipFill>
          <a:blip r:embed="rId1"/>
          <a:stretch/>
        </p:blipFill>
        <p:spPr>
          <a:xfrm>
            <a:off x="3745080" y="266760"/>
            <a:ext cx="5244840" cy="6134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gure 2.11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esentation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 molec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7" name="Picture 3" descr="Zumdahl02_11"/>
          <p:cNvPicPr/>
          <p:nvPr/>
        </p:nvPicPr>
        <p:blipFill>
          <a:blip r:embed="rId1"/>
          <a:stretch/>
        </p:blipFill>
        <p:spPr>
          <a:xfrm>
            <a:off x="3276720" y="228600"/>
            <a:ext cx="5600520" cy="540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89680" y="12952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nything that has mass and occupies spac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198108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590920"/>
            <a:ext cx="55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asure of the amount of matt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5800" y="3276720"/>
            <a:ext cx="69343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Weigh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measure of the amount of matter in and the gravitational force exerted on the object.  (product of mass and the local acceleration of gravity)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 general terms:  “the heaviness” of an objec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828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ode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29360" y="1295280"/>
            <a:ext cx="718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visual, verbal, or mathematical explanation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f experimental data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85800" y="2362320"/>
            <a:ext cx="60199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nches of Chemistry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ble 1.1, p. 1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stry is the “Central Science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at are chemists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ho are chemis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ou must be more than a talking head….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64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teps for Problem Solving/The “Scientific Metho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”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ak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ations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mething that is witnessed and can be record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ate the problem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 hypoth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testable statements or predictions to propose possible solution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ide what is reasonable an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rform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eriment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(must be able to THINK CRITICALLY and creatively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z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he data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spcBef>
                <a:spcPts val="7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done/replicate, or start again?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3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gure 1.1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various parts of the scientific metho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Zumdahl01_01_fin"/>
          <p:cNvPicPr/>
          <p:nvPr/>
        </p:nvPicPr>
        <p:blipFill>
          <a:blip r:embed="rId1"/>
          <a:stretch/>
        </p:blipFill>
        <p:spPr>
          <a:xfrm>
            <a:off x="4595760" y="152280"/>
            <a:ext cx="4340160" cy="6477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2:17:25Z</dcterms:created>
  <dc:creator>Andrew Allan</dc:creator>
  <dc:description/>
  <dc:language>en-US</dc:language>
  <cp:lastModifiedBy> </cp:lastModifiedBy>
  <dcterms:modified xsi:type="dcterms:W3CDTF">2011-08-12T02:21:00Z</dcterms:modified>
  <cp:revision>208</cp:revision>
  <dc:subject/>
  <dc:title>Chapter 1</dc:title>
</cp:coreProperties>
</file>