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2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30.jpeg" ContentType="image/jpeg"/>
  <Override PartName="/ppt/media/image32.jpeg" ContentType="image/jpeg"/>
  <Override PartName="/ppt/media/image13.gif" ContentType="image/gif"/>
  <Override PartName="/ppt/media/image16.png" ContentType="image/pn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1.png" ContentType="image/png"/>
  <Override PartName="/ppt/media/image31.jpeg" ContentType="image/jpeg"/>
  <Override PartName="/ppt/media/image14.gif" ContentType="image/gif"/>
  <Override PartName="/ppt/media/image15.gif" ContentType="image/gif"/>
  <Override PartName="/ppt/media/image2.jpeg" ContentType="image/jpeg"/>
  <Override PartName="/ppt/media/image20.png" ContentType="image/png"/>
  <Override PartName="/ppt/media/image28.jpeg" ContentType="image/jpeg"/>
  <Override PartName="/ppt/media/image18.jpeg" ContentType="image/jpeg"/>
  <Override PartName="/ppt/media/image1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50E3-5A21-4DDF-8B67-9E7791B247BD}" type="slidenum">
              <a:rPr b="1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ies explain observed natural behaviors in terms of our human experiences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E593-F4B8-434A-8207-C064F0F08DBC}" type="slidenum">
              <a:rPr b="1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099F-AA8A-483B-861C-26F4162F7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99D9-9196-4574-BE27-CE80DEC8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1DA5-6B8E-49A9-ADF5-60373BB98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49D8-C0F4-4A5E-9F84-8138EB666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56AE-D40F-4B8F-A847-8F1282AD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9B3F-8BE0-4E60-A565-FB32B7F9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6C78-3B3B-4235-8B83-0EA409F7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D418-D26C-43D6-BF00-5DF26C51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C623-93D5-4E0F-8808-64ECD842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88AA-2108-47D4-B0E1-FF485631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F865-F4D5-4DA8-86F5-B52EF706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B1AC-8EAA-40F2-A5E2-31A44C1F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4C4E-808E-4E1F-AA73-1D0AA0C49B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67053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Chemistry Chapter 1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295280" y="2590920"/>
            <a:ext cx="495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Introduction to Chemistry 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0" name="Picture 4" descr="Chemistry"/>
          <p:cNvPicPr/>
          <p:nvPr/>
        </p:nvPicPr>
        <p:blipFill>
          <a:blip r:embed="rId1"/>
          <a:stretch/>
        </p:blipFill>
        <p:spPr>
          <a:xfrm>
            <a:off x="6781680" y="1447920"/>
            <a:ext cx="197820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ype of Observation or Data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Quantitativ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:  Numerical information describing a quantity.  It usually includes a number and a unit (454.6 g, 2.2 lb., 25 students)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Qualitativ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:  Describes a quality of the data such as color, odor, shape, or some other physical characteristic (granular, white)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eory or a Law?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Theory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:  (model)  tested set of hypothesis that gives an overall EXPLANATION of some part of nature. (tells WHY it happens)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Quantum Theory   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Law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:  A summary of accepted facts of nature.  (tells WHAT happened again and again and again)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aw of chemical equilibriu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aw of conservation of energ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aw of conservation of mas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roblem/Observation: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This plant is dying…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opose possible solutions. 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(or hypothesis)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Decide how to test them.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est them.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valuate results.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ossibly draw conclusion.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ontrolled Experiment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ndependent Variabl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the variable that will be manipulated or changed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-52812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Dependent Variabl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the variable whose value depends on the independent variabl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-52812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onstant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what is kept the same throughout the experiment to keep “samey samey”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-52812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ontrol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the standard that is used for comparison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ypes of Research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ure Research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to gain knowledge for the sake of knowledge itself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pplied Research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research undertaken to solve a specific problem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zone Case Study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+  UVC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O  +  0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spcBef>
                <a:spcPts val="4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  +  O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O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+  UVB or UVC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O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+ O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irst three steps:  normal containment of UV radiation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spcBef>
                <a:spcPts val="4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+  Cl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ClO  +  O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spcBef>
                <a:spcPts val="4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lO  +  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Cl  +  O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 single chlorine molecule can break down 100,000 ozone molecule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67053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Chemistry Chapter 3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295280" y="2590920"/>
            <a:ext cx="4953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Matter—Properties and Changes 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9" name="Picture 4" descr="Chemistry"/>
          <p:cNvPicPr/>
          <p:nvPr/>
        </p:nvPicPr>
        <p:blipFill>
          <a:blip r:embed="rId1"/>
          <a:stretch/>
        </p:blipFill>
        <p:spPr>
          <a:xfrm>
            <a:off x="6781680" y="1447920"/>
            <a:ext cx="197820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Atom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838080" y="762120"/>
            <a:ext cx="716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 smallest unit of an element that maintai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 properties of that elemen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2" name="Picture 5" descr="table"/>
          <p:cNvPicPr/>
          <p:nvPr/>
        </p:nvPicPr>
        <p:blipFill>
          <a:blip r:embed="rId1"/>
          <a:stretch/>
        </p:blipFill>
        <p:spPr>
          <a:xfrm>
            <a:off x="1295280" y="2971800"/>
            <a:ext cx="6321600" cy="3429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457200" y="13716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Eleme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nt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914400" y="1828800"/>
            <a:ext cx="632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 pure substance that cannot be broken down into simpler substances by physical or chemical mea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53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op Te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6" name="Picture 3" descr="Top-ten_chap2"/>
          <p:cNvPicPr/>
          <p:nvPr/>
        </p:nvPicPr>
        <p:blipFill>
          <a:blip r:embed="rId1"/>
          <a:stretch/>
        </p:blipFill>
        <p:spPr>
          <a:xfrm>
            <a:off x="4535640" y="152280"/>
            <a:ext cx="4433760" cy="6553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Compoun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720720" y="960480"/>
            <a:ext cx="79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substance that is made from the atoms of two or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ore elements that are chemically bonded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99" name="Object 9"/>
          <p:cNvGraphicFramePr/>
          <p:nvPr/>
        </p:nvGraphicFramePr>
        <p:xfrm>
          <a:off x="4724280" y="2133720"/>
          <a:ext cx="396252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133720"/>
                    <a:ext cx="396252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11"/>
          <p:cNvSpPr/>
          <p:nvPr/>
        </p:nvSpPr>
        <p:spPr>
          <a:xfrm>
            <a:off x="685800" y="2332080"/>
            <a:ext cx="37339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ucrose – 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1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2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11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746280" y="3017880"/>
            <a:ext cx="344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ucrose is also known as table sugar, and is used to make Gummy Bears!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verb" presetID="1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78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ow to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ucceed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in chemistry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ositive attitude: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believe you ca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!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Liste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n class/take good note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Memoriz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what I ask you to/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igur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out the rest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ea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the chapter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elf-check exercises/odds (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ractic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omplete homework ahead of time (so can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sk question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!)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Keep an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rganize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notebook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Study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!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tom Combination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4" name="Picture 3" descr="atom"/>
          <p:cNvPicPr/>
          <p:nvPr/>
        </p:nvPicPr>
        <p:blipFill>
          <a:blip r:embed="rId1"/>
          <a:stretch/>
        </p:blipFill>
        <p:spPr>
          <a:xfrm>
            <a:off x="1200240" y="1219320"/>
            <a:ext cx="6743520" cy="5040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37335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Physical Chang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533520" y="990720"/>
            <a:ext cx="786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change in a substance that does not involve a change in the identity of the substance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6068520" y="1905120"/>
            <a:ext cx="15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xample: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5791320" y="2590920"/>
            <a:ext cx="26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hase Chang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9" name="Picture 8" descr="boiling1"/>
          <p:cNvPicPr/>
          <p:nvPr/>
        </p:nvPicPr>
        <p:blipFill>
          <a:blip r:embed="rId1"/>
          <a:stretch/>
        </p:blipFill>
        <p:spPr>
          <a:xfrm>
            <a:off x="457200" y="1981080"/>
            <a:ext cx="510552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Figure 2.7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The three states of matter: solid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1" name="Picture 3" descr="Zumdahl02_07a"/>
          <p:cNvPicPr/>
          <p:nvPr/>
        </p:nvPicPr>
        <p:blipFill>
          <a:blip r:embed="rId1"/>
          <a:stretch/>
        </p:blipFill>
        <p:spPr>
          <a:xfrm>
            <a:off x="5334120" y="190440"/>
            <a:ext cx="2552760" cy="6477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12" name="TextBox 3"/>
          <p:cNvSpPr/>
          <p:nvPr/>
        </p:nvSpPr>
        <p:spPr>
          <a:xfrm>
            <a:off x="685800" y="3048120"/>
            <a:ext cx="4114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Soli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:  a form of matter that has its own definite shape and volume 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409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Figure 2.7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The three states of matter: liquid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4" name="Picture 3" descr="Zumdahl02_07b"/>
          <p:cNvPicPr/>
          <p:nvPr/>
        </p:nvPicPr>
        <p:blipFill>
          <a:blip r:embed="rId1"/>
          <a:stretch/>
        </p:blipFill>
        <p:spPr>
          <a:xfrm>
            <a:off x="5410080" y="152280"/>
            <a:ext cx="2559240" cy="6553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15" name="TextBox 3"/>
          <p:cNvSpPr/>
          <p:nvPr/>
        </p:nvSpPr>
        <p:spPr>
          <a:xfrm>
            <a:off x="990720" y="2666880"/>
            <a:ext cx="4038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Liqui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:  a form of matter that flows, has constant volume and takes the shape of its container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409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Figure 2.7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The three states of matter: gas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7" name="Picture 3" descr="Zumdahl02_07c"/>
          <p:cNvPicPr/>
          <p:nvPr/>
        </p:nvPicPr>
        <p:blipFill>
          <a:blip r:embed="rId1"/>
          <a:stretch/>
        </p:blipFill>
        <p:spPr>
          <a:xfrm>
            <a:off x="5486400" y="228600"/>
            <a:ext cx="2511360" cy="6400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18" name="TextBox 3"/>
          <p:cNvSpPr/>
          <p:nvPr/>
        </p:nvSpPr>
        <p:spPr>
          <a:xfrm>
            <a:off x="990720" y="2209680"/>
            <a:ext cx="3962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Ga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:  a state of matter that takes the shape and volume of its container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Vapor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:  the gaseous state of a substance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pper Phases - Soli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0" name="Picture 1030" descr="coppersolidanimate"/>
          <p:cNvPicPr/>
          <p:nvPr/>
        </p:nvPicPr>
        <p:blipFill>
          <a:blip r:embed="rId1"/>
          <a:stretch/>
        </p:blipFill>
        <p:spPr>
          <a:xfrm>
            <a:off x="1523880" y="1295280"/>
            <a:ext cx="576756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6" dur="1" fill="hold"/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pper Phases - Liqui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2" name="Picture 4" descr="copperliquidanimate"/>
          <p:cNvPicPr/>
          <p:nvPr/>
        </p:nvPicPr>
        <p:blipFill>
          <a:blip r:embed="rId1"/>
          <a:stretch/>
        </p:blipFill>
        <p:spPr>
          <a:xfrm>
            <a:off x="1523880" y="1600200"/>
            <a:ext cx="62485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6" dur="1" fill="hold"/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pper Phases – Vapor (gas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4" name="Picture 5" descr="coppergasanimate"/>
          <p:cNvPicPr/>
          <p:nvPr/>
        </p:nvPicPr>
        <p:blipFill>
          <a:blip r:embed="rId1"/>
          <a:stretch/>
        </p:blipFill>
        <p:spPr>
          <a:xfrm>
            <a:off x="1600200" y="1981080"/>
            <a:ext cx="5919840" cy="31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37339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hase Difference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457200" y="2971800"/>
            <a:ext cx="80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Soli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– definite volume and shape; particles packed in fixed position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57200" y="3733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Liqui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– definite volume but indefinite shape; particles close together but not in fixed position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457200" y="4572000"/>
            <a:ext cx="794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Gas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– neither definite volume nor definite shape; particles are at great distances from one another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9" name="Picture 7" descr="states"/>
          <p:cNvPicPr/>
          <p:nvPr/>
        </p:nvPicPr>
        <p:blipFill>
          <a:blip r:embed="rId1"/>
          <a:stretch/>
        </p:blipFill>
        <p:spPr>
          <a:xfrm>
            <a:off x="3581280" y="152280"/>
            <a:ext cx="5292720" cy="28227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8"/>
          <p:cNvSpPr/>
          <p:nvPr/>
        </p:nvSpPr>
        <p:spPr>
          <a:xfrm>
            <a:off x="457200" y="5410080"/>
            <a:ext cx="80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Plasma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– high temperature, ionized phase of matter as found on the sun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hysical Changes/Propertie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Physical change: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type of change that alters the physical properties of a substance but does not change its composition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Physical property: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characteristic that can be observed or measured without changing the sample’s composition (density, color, odor, hardness, melting point, boiling point)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Extensiv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:  dependent of the amount of substance present (mass, length, volume)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Intensiv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:  independent of the amount of substance present (density)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What is CHEMISTRY?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Figure 2.15: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No chemical change occurs when salt water is distilled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4" name="Picture 3" descr="Zumdahl02_15"/>
          <p:cNvPicPr/>
          <p:nvPr/>
        </p:nvPicPr>
        <p:blipFill>
          <a:blip r:embed="rId1"/>
          <a:stretch/>
        </p:blipFill>
        <p:spPr>
          <a:xfrm>
            <a:off x="190440" y="2438280"/>
            <a:ext cx="8763120" cy="2943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4038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Chemical Chang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380880" y="114300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change in which one or more substances are converted into different substance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5715000" y="205740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eat and light are often evidence of a chemical change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8" name="Picture 7" descr="fireworks-03"/>
          <p:cNvPicPr/>
          <p:nvPr/>
        </p:nvPicPr>
        <p:blipFill>
          <a:blip r:embed="rId1"/>
          <a:stretch/>
        </p:blipFill>
        <p:spPr>
          <a:xfrm>
            <a:off x="228600" y="205740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5"/>
          <p:cNvSpPr/>
          <p:nvPr/>
        </p:nvSpPr>
        <p:spPr>
          <a:xfrm>
            <a:off x="5867280" y="3505320"/>
            <a:ext cx="2971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Chemical Property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ability of a substance to combine with or change into one or more other substanc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325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igure 2.8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lectrolysis, the decomposition of water by an electric current, is a chemical proces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1" name="Picture 3" descr="Zumdahl02_08"/>
          <p:cNvPicPr/>
          <p:nvPr/>
        </p:nvPicPr>
        <p:blipFill>
          <a:blip r:embed="rId1"/>
          <a:stretch/>
        </p:blipFill>
        <p:spPr>
          <a:xfrm>
            <a:off x="4191120" y="343080"/>
            <a:ext cx="4721040" cy="6172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Law of Conservation of Mas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ass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reactant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=  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ass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product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tates that:  mass is neither created nor destroyed during a chemical reaction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lassification of Matter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5" name="Picture 2" descr="matter"/>
          <p:cNvPicPr/>
          <p:nvPr/>
        </p:nvPicPr>
        <p:blipFill>
          <a:blip r:embed="rId1"/>
          <a:stretch/>
        </p:blipFill>
        <p:spPr>
          <a:xfrm>
            <a:off x="1447920" y="762120"/>
            <a:ext cx="6400800" cy="52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eparation of a Mixtur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1295280" y="4800600"/>
            <a:ext cx="69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constituents of the mixture retain their identity and may be separated by physical mean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8" name="Picture 9" descr="mixture"/>
          <p:cNvPicPr/>
          <p:nvPr/>
        </p:nvPicPr>
        <p:blipFill>
          <a:blip r:embed="rId1"/>
          <a:stretch/>
        </p:blipFill>
        <p:spPr>
          <a:xfrm>
            <a:off x="2133720" y="1143000"/>
            <a:ext cx="507996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0440" y="380520"/>
            <a:ext cx="453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Figure 2.16: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Filtration separates a liquid from a solid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0" name="Picture 3" descr="Zumdahl02_16"/>
          <p:cNvPicPr/>
          <p:nvPr/>
        </p:nvPicPr>
        <p:blipFill>
          <a:blip r:embed="rId1"/>
          <a:stretch/>
        </p:blipFill>
        <p:spPr>
          <a:xfrm>
            <a:off x="5105520" y="190440"/>
            <a:ext cx="323856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Figure 2.17: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Separation of a sand-saltwater mixture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2" name="Picture 3" descr="Zumdahl02_17"/>
          <p:cNvPicPr/>
          <p:nvPr/>
        </p:nvPicPr>
        <p:blipFill>
          <a:blip r:embed="rId1"/>
          <a:stretch/>
        </p:blipFill>
        <p:spPr>
          <a:xfrm>
            <a:off x="228600" y="1905120"/>
            <a:ext cx="8686800" cy="4322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paration of a Mixtu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4" name="Picture 5" descr="distillation"/>
          <p:cNvPicPr/>
          <p:nvPr/>
        </p:nvPicPr>
        <p:blipFill>
          <a:blip r:embed="rId1"/>
          <a:stretch/>
        </p:blipFill>
        <p:spPr>
          <a:xfrm>
            <a:off x="0" y="800280"/>
            <a:ext cx="9144000" cy="60577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6"/>
          <p:cNvSpPr/>
          <p:nvPr/>
        </p:nvSpPr>
        <p:spPr>
          <a:xfrm>
            <a:off x="6248520" y="1219320"/>
            <a:ext cx="213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Distillation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eparation of a Mixtur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7" name="Picture 8" descr="ink"/>
          <p:cNvPicPr/>
          <p:nvPr/>
        </p:nvPicPr>
        <p:blipFill>
          <a:blip r:embed="rId1"/>
          <a:stretch/>
        </p:blipFill>
        <p:spPr>
          <a:xfrm>
            <a:off x="228600" y="990720"/>
            <a:ext cx="5638680" cy="42289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9"/>
          <p:cNvSpPr/>
          <p:nvPr/>
        </p:nvSpPr>
        <p:spPr>
          <a:xfrm>
            <a:off x="4724280" y="1371600"/>
            <a:ext cx="3810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components of dyes such as ink may be separated by paper chromatography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724280" y="3049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hemistry is…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495680" y="1371600"/>
            <a:ext cx="411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…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study of matter and the changes it undergoes 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2511360" y="5486400"/>
            <a:ext cx="6005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+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3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2 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+ 3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 + Energ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1809720" y="6095880"/>
            <a:ext cx="47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eactants   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     Product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0" name="Picture 8" descr="lightmyfire1"/>
          <p:cNvPicPr/>
          <p:nvPr/>
        </p:nvPicPr>
        <p:blipFill>
          <a:blip r:embed="rId1"/>
          <a:stretch/>
        </p:blipFill>
        <p:spPr>
          <a:xfrm>
            <a:off x="380880" y="304920"/>
            <a:ext cx="35290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igure 2.10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nty-four-karat gold is an element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ighteen-karat gold is an alloy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urteen-karat gold is an alloy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0" name="Picture 3" descr="Zumdahl02_10"/>
          <p:cNvPicPr/>
          <p:nvPr/>
        </p:nvPicPr>
        <p:blipFill>
          <a:blip r:embed="rId1"/>
          <a:stretch/>
        </p:blipFill>
        <p:spPr>
          <a:xfrm>
            <a:off x="228600" y="2819520"/>
            <a:ext cx="8686800" cy="2633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Figure 2.9: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The composition of air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2" name="Picture 3" descr="Zumdahl02_09"/>
          <p:cNvPicPr/>
          <p:nvPr/>
        </p:nvPicPr>
        <p:blipFill>
          <a:blip r:embed="rId1"/>
          <a:stretch/>
        </p:blipFill>
        <p:spPr>
          <a:xfrm>
            <a:off x="1085760" y="1150920"/>
            <a:ext cx="6972480" cy="5097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213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art examining each substance of air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4" name="Picture 3" descr="chart"/>
          <p:cNvPicPr/>
          <p:nvPr/>
        </p:nvPicPr>
        <p:blipFill>
          <a:blip r:embed="rId1"/>
          <a:stretch/>
        </p:blipFill>
        <p:spPr>
          <a:xfrm>
            <a:off x="2860560" y="0"/>
            <a:ext cx="6283440" cy="6858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Law of Definite Proportion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States that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:  A compound is always composed of the same elements in the same proportion by mass no matter how large or small the sampl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1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the mass of the compound is equal to the sum of the masses in the elements that make it up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1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can be expressed as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% mas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17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% mass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mass of element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  x  100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17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ass of compound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Law of Multiple Proportion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States that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:  compounds can be composed of the same elements in different ratios  (H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, H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)  or (CO and CO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end Ch. 3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omic Sans MS"/>
              </a:rPr>
              <a:t>Figure 2.5:</a:t>
            </a: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The three forms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of the element carbon: Diamond.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0" name="Picture 3" descr="Zumdahl02"/>
          <p:cNvPicPr/>
          <p:nvPr/>
        </p:nvPicPr>
        <p:blipFill>
          <a:blip r:embed="rId1"/>
          <a:stretch/>
        </p:blipFill>
        <p:spPr>
          <a:xfrm>
            <a:off x="4894200" y="228600"/>
            <a:ext cx="4067280" cy="6477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116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omic Sans MS"/>
              </a:rPr>
              <a:t>Figure 2.5: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The three forms of the element carbon: Graphite.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2" name="Picture 3" descr="Zumdahl02_05b"/>
          <p:cNvPicPr/>
          <p:nvPr/>
        </p:nvPicPr>
        <p:blipFill>
          <a:blip r:embed="rId1"/>
          <a:stretch/>
        </p:blipFill>
        <p:spPr>
          <a:xfrm>
            <a:off x="3962520" y="228600"/>
            <a:ext cx="4991040" cy="6400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pyright © by Houghton Mifflin Company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320" y="380880"/>
            <a:ext cx="3657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igure 2.5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three forms of the element carbon: Buckminsterfulleren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5" name="Picture 3" descr="Zumdahl02_05c"/>
          <p:cNvPicPr/>
          <p:nvPr/>
        </p:nvPicPr>
        <p:blipFill>
          <a:blip r:embed="rId1"/>
          <a:stretch/>
        </p:blipFill>
        <p:spPr>
          <a:xfrm>
            <a:off x="3745080" y="266760"/>
            <a:ext cx="5244840" cy="6134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igure 2.11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presentation of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 molecul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7" name="Picture 3" descr="Zumdahl02_11"/>
          <p:cNvPicPr/>
          <p:nvPr/>
        </p:nvPicPr>
        <p:blipFill>
          <a:blip r:embed="rId1"/>
          <a:stretch/>
        </p:blipFill>
        <p:spPr>
          <a:xfrm>
            <a:off x="3276720" y="228600"/>
            <a:ext cx="5600520" cy="5405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1828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Matter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589680" y="1295280"/>
            <a:ext cx="67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nything that has mass and occupies spac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609480" y="1981080"/>
            <a:ext cx="128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Mas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685800" y="2590920"/>
            <a:ext cx="555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measure of the amount of matter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685800" y="3276720"/>
            <a:ext cx="69343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Weight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measure of the amount of matter in and the gravitational force exerted on the object.  (product of mass and the local acceleration of gravity)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 general terms:  “the heaviness” of an object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1828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Model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729360" y="1295280"/>
            <a:ext cx="718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visual, verbal, or mathematical explanation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f experimental data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TextBox 8"/>
          <p:cNvSpPr/>
          <p:nvPr/>
        </p:nvSpPr>
        <p:spPr>
          <a:xfrm>
            <a:off x="685800" y="2362320"/>
            <a:ext cx="60199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Branches of Chemistry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able 1.1, p. 11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hemistry is the “Central Science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hat are chemists?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ho are chemist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You must be more than a talking head….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2514600" y="1676520"/>
            <a:ext cx="4645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teps for Problem Solving/The “Scientific Metho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”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64040" indent="-46404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Mak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bservations-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omething that is witnessed and can be recorded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64040" indent="-464040"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tate the problem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64040" indent="-46404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orm hypothesi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testable statements or predictions to propose possible solution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64040" indent="-464040"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Decide what is reasonable and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erform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experiment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 (must be able to THINK CRITICALLY and creatively)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64040" indent="-46404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nalyz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the data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64040" indent="-464040"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orm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onclusion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(done/replicate, or start again?)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53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Figure 1.1: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various parts of the scientific method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4" name="Picture 3" descr="Zumdahl01_01_fin"/>
          <p:cNvPicPr/>
          <p:nvPr/>
        </p:nvPicPr>
        <p:blipFill>
          <a:blip r:embed="rId1"/>
          <a:stretch/>
        </p:blipFill>
        <p:spPr>
          <a:xfrm>
            <a:off x="4595760" y="152280"/>
            <a:ext cx="4340160" cy="6477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02:17:25Z</dcterms:created>
  <dc:creator>Andrew Allan</dc:creator>
  <dc:description/>
  <dc:language>en-US</dc:language>
  <cp:lastModifiedBy> </cp:lastModifiedBy>
  <dcterms:modified xsi:type="dcterms:W3CDTF">2011-08-12T02:21:00Z</dcterms:modified>
  <cp:revision>208</cp:revision>
  <dc:subject/>
  <dc:title>Chapter 1</dc:title>
</cp:coreProperties>
</file>