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3.png" ContentType="image/png"/>
  <Override PartName="/ppt/media/image20.jpeg" ContentType="image/jpeg"/>
  <Override PartName="/ppt/media/image30.png" ContentType="image/png"/>
  <Override PartName="/ppt/media/image12.png" ContentType="image/png"/>
  <Override PartName="/ppt/media/image49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applause.wav" ContentType="audio/x-wav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43.png" ContentType="image/png"/>
  <Override PartName="/ppt/media/image46.jpeg" ContentType="image/jpeg"/>
  <Override PartName="/ppt/media/image53.png" ContentType="image/png"/>
  <Override PartName="/ppt/media/image48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50.png" ContentType="image/png"/>
  <Override PartName="/ppt/media/image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ADCF-6A37-42E4-B870-2DCCF43D48A5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36D5-1B6D-4FA6-9B9B-55E9DA57031A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EF1-84E3-42E9-8B01-D4E3BB754464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83D7-3646-42C7-BC12-0FED02D28BB0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2956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1EF2-6255-4E58-A782-9CD300FFF025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724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9200" cy="40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C45-82F8-4017-8C03-7FFF2CAE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C2A-0475-4656-B8D5-140BB31D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6E1-E63D-48D7-B4C0-52A2A02F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1F7-64BD-4A8C-8BDC-FCD807A9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8D0-FC13-4C5A-94F6-CDC9F956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B90-230D-4447-BB53-F1CBB5F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8F6-57D1-40B9-A787-47372C6A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EFA-05D5-425C-9C25-0D63B6FC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65E-6ED6-4765-A417-22C17D2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EA4-9134-46C1-BF6C-8CDB7DB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DE9-CA85-4067-8FD7-C794A66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B58-B096-432F-A681-C24938D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9D0D-BBAB-4DD0-9732-A964CDA42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hannel/courses/essential/physicalsci/images/s4.dalton.jpg&amp;imgrefurl=http://www.learner.org/channel/courses/essential/physicalsci/session4/closer3.html&amp;h=300&amp;w=300&amp;sz=13&amp;hl=en&amp;start=6&amp;tbnid=EMUJZGzHxbaz0M:&amp;tbnh=116&amp;tbnw=116&amp;prev=/images%3Fq%3DJohn%2BDalton%26gbv%3D2%26svnum%3D10%26hl%3De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odwordediting.com/wp-content/uploads/2007/05/albert-einstein-1.jpg&amp;imgrefurl=http://www.goodwordediting.com/%3Fcat%3D21&amp;h=521&amp;w=400&amp;sz=50&amp;hl=en&amp;start=1&amp;um=1&amp;tbnid=4negaiUu6RGPIM:&amp;tbnh=131&amp;tbnw=101&amp;prev=/images%3Fq%3DAlbert%2BEinstein%26gbv%3D2%26svnum%3D10%26um%3D1%26hl%3Den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hemistry Chapter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4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47920" y="22860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History of  Chemistry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5" descr="MOLE"/>
          <p:cNvPicPr/>
          <p:nvPr/>
        </p:nvPicPr>
        <p:blipFill>
          <a:blip r:embed="rId1"/>
          <a:stretch/>
        </p:blipFill>
        <p:spPr>
          <a:xfrm>
            <a:off x="5715000" y="1905120"/>
            <a:ext cx="2217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of the elements recur in regular cycles (periodically) when the elements are arranged in order of increas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tomic mas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aw of Mendeleev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dern Russian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russiantable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enry Moseley (1887-1915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fter more elements were discovered, order of atomic mass wasn’t workin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13:  Discovered atoms have unique number or protons in nucleus and rearranged table in order of atomic numb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eriodic 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tatement that there is a periodic repetition of chemical and physical properties of elements when they are arranged by increasing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ic numb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Periodic Ta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218200" y="32767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114800" y="2590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         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1" name="Picture 5" descr="periodictab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4761000" y="3808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erio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Line 7"/>
          <p:cNvSpPr/>
          <p:nvPr/>
        </p:nvSpPr>
        <p:spPr>
          <a:xfrm>
            <a:off x="4800600" y="9144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551240" y="7621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or Famil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Line 9"/>
          <p:cNvSpPr/>
          <p:nvPr/>
        </p:nvSpPr>
        <p:spPr>
          <a:xfrm>
            <a:off x="1523880" y="914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2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Elements classifi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s metals and nonmetal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Zumdahl03_12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628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 of 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1143000"/>
            <a:ext cx="4647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luster (shiny) when smooth and clea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solid @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good conductors of heat and 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malle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are ducti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etals have high tensile strengt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cated left of stairstep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Picture 4" descr="1104"/>
          <p:cNvPicPr/>
          <p:nvPr/>
        </p:nvPicPr>
        <p:blipFill>
          <a:blip r:embed="rId1"/>
          <a:stretch/>
        </p:blipFill>
        <p:spPr>
          <a:xfrm>
            <a:off x="5105520" y="914400"/>
            <a:ext cx="376056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7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Spherical atoms packed closely toge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Zumdahl03_17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47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perti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3" descr="pencil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36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822240" y="179856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, the graphite in “pencil lead” is a great example of a nonmetallic element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98560" y="2865600"/>
            <a:ext cx="71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are poor conductors of heat and 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ic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nmetals tend to be brittle and dull looking if soli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ny nonmetals are gases at room 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xamples of Nonmetal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3" descr="S"/>
          <p:cNvPicPr/>
          <p:nvPr/>
        </p:nvPicPr>
        <p:blipFill>
          <a:blip r:embed="rId1"/>
          <a:stretch/>
        </p:blipFill>
        <p:spPr>
          <a:xfrm>
            <a:off x="2590920" y="1371600"/>
            <a:ext cx="2114280" cy="174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P"/>
          <p:cNvPicPr/>
          <p:nvPr/>
        </p:nvPicPr>
        <p:blipFill>
          <a:blip r:embed="rId2"/>
          <a:stretch/>
        </p:blipFill>
        <p:spPr>
          <a:xfrm>
            <a:off x="48769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OPE"/>
          <p:cNvPicPr/>
          <p:nvPr/>
        </p:nvPicPr>
        <p:blipFill>
          <a:blip r:embed="rId3"/>
          <a:stretch/>
        </p:blipFill>
        <p:spPr>
          <a:xfrm>
            <a:off x="4876920" y="3429000"/>
            <a:ext cx="3252600" cy="2657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160020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ulfur, 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as once known as “brimston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05720" y="134136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icrospher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hosphorus, P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 reactive nonmeta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533520" y="35812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raphite is not the only pure form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arbon, C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. Diamond is also carbon; the color comes from impurities caught within the crystal structu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lotrop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forms of a given elemen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ifferen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b/c different arrangement of ato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:  diamond, graphite, Buckminsterfullerene (All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arb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ok in your book—p. 105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rst International Congress of Chemis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60 to 70 of 113 elements had been discover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alian chemist Cannizzaro presented method for measurement of atomic mass that all could agree 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Year 1860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gure 3.13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A collection of argon atoms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7" name="Picture 3" descr="Zumdahl03_13"/>
          <p:cNvPicPr/>
          <p:nvPr/>
        </p:nvPicPr>
        <p:blipFill>
          <a:blip r:embed="rId1"/>
          <a:stretch/>
        </p:blipFill>
        <p:spPr>
          <a:xfrm>
            <a:off x="1447920" y="1063800"/>
            <a:ext cx="6248160" cy="533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Oxygen gas contains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3" descr="Zumdahl03_14b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5105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14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Nitrogen gas contains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olecu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3_14a"/>
          <p:cNvPicPr/>
          <p:nvPr/>
        </p:nvPicPr>
        <p:blipFill>
          <a:blip r:embed="rId1"/>
          <a:stretch/>
        </p:blipFill>
        <p:spPr>
          <a:xfrm>
            <a:off x="1752480" y="1542960"/>
            <a:ext cx="5600880" cy="531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able 3.5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3" descr="Table_3-5"/>
          <p:cNvPicPr/>
          <p:nvPr/>
        </p:nvPicPr>
        <p:blipFill>
          <a:blip r:embed="rId1"/>
          <a:stretch/>
        </p:blipFill>
        <p:spPr>
          <a:xfrm>
            <a:off x="343080" y="1582560"/>
            <a:ext cx="8458200" cy="369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stly brittle soli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perties between metal and non-metal (semi-conductors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nd in nature only as compoun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nce obtained as free metals, are stable in the presence of ai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talloids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istory of Chemistry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late 1700’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st chemists accept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eme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fin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derstood elements combin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various properti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agreed whether compounds are always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rati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at happened in 1790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udy of matter was revolutionized by new emphasis 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antitative Analysi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ided by improv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lanc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asurements were actually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CURATE!!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ohn Dalton—Beginning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dern Atomic Theory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nglishman from a Quaker family (1766-1844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volutionized chemistry by emphasizing that atoms can hav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weights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and weights can b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easure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ative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pened a school at age 1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lor blind/research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terested in botan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not accepted until 1905 Albert Einstein paper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3" name="Picture 7" descr="s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1522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lton’s Atomic Theory (1808)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352728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of two or more different elements combine to form compounds.  A particular compound is always made up of the same kinds of atoms in the same rati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emical reaction involves the rearrangement, separation, or combination of atoms.  Atoms are neither created nor destroyed during a chemical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4" descr="dalton"/>
          <p:cNvPicPr/>
          <p:nvPr/>
        </p:nvPicPr>
        <p:blipFill>
          <a:blip r:embed="rId1"/>
          <a:stretch/>
        </p:blipFill>
        <p:spPr>
          <a:xfrm>
            <a:off x="0" y="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590920" y="9907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matter is made up of tiny particles called atom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ll atoms of a given element are similar to one another and different from atoms of other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965160"/>
          <a:ext cx="8153280" cy="47196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876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matter is made up of tiny  particles called atoms.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 atoms of a given element are similar to one another and different from atoms of other elements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different elements have different numbers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he same element have same 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and 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, but can have different number of 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oms of two ore more different elements combine to form compounds.  A particular compounds is always made up of the same kinds of atoms in the same ratio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 (Law of Definite Proportion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John Newlands (1837-1898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glish chemist that in 1864 proposed an organizational scheme for the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ticed properties repeated periodically every 8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“Law of Octave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not work for all elemen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iticized analogy for being “non-scientific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alton vs.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838080"/>
          <a:ext cx="8153280" cy="1920960"/>
        </p:xfrm>
        <a:graphic>
          <a:graphicData uri="http://schemas.openxmlformats.org/drawingml/2006/table">
            <a:tbl>
              <a:tblPr/>
              <a:tblGrid>
                <a:gridCol w="4038480"/>
                <a:gridCol w="411480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 chemical reaction involves the rearrangement, separation, or combination of atoms.  Atoms are neither created nor destroyed during a chemical reaction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ru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2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presentation of NO,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and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Zumdahl03_0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5116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aw of Definite (or Constant) Composition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act that a chemical compound contain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ame elements in exactly the same proport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mass regardless of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z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sample or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r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ompound.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is is The Modern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The smallest particle of an element that retains the properties of the ele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ly seen by STM (Scanning Tunneling microscop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atomic Partic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1523880"/>
          <a:ext cx="7619760" cy="49467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2286000"/>
                <a:gridCol w="15238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artic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h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Locati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 (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J.J.Thomson 18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0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obert Milllikan (1910s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ss to ch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486x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.1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8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/1840 of 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ctron clou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 (p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omson/Goldstein-1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therford 19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+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7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3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 (n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hadwick 19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bel Prize 19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009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675 x 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24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cover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85800" y="7621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1897, J.J. Thomson used a cathode ray tube to deduce the presence of a negatively charged partic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510552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 tubes pass electricity through a gas that is contained at a very low pres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3" name="Picture 6" descr="cathoderaytube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7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chematic of a cathode ray tub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Zumdahl03_07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87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ome Semi-Modern</a:t>
            </a:r>
            <a:br>
              <a:rPr sz="3600"/>
            </a:b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ho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3" descr="tv"/>
          <p:cNvPicPr/>
          <p:nvPr/>
        </p:nvPicPr>
        <p:blipFill>
          <a:blip r:embed="rId1"/>
          <a:stretch/>
        </p:blipFill>
        <p:spPr>
          <a:xfrm>
            <a:off x="914400" y="1447920"/>
            <a:ext cx="32767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onitor"/>
          <p:cNvPicPr/>
          <p:nvPr/>
        </p:nvPicPr>
        <p:blipFill>
          <a:blip r:embed="rId2"/>
          <a:stretch/>
        </p:blipFill>
        <p:spPr>
          <a:xfrm>
            <a:off x="4800600" y="1447920"/>
            <a:ext cx="320040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029200" y="1600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09 – Robert Millikan determines the mass of the electr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4267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oil drop apparat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9" descr="millikan-pic"/>
          <p:cNvPicPr/>
          <p:nvPr/>
        </p:nvPicPr>
        <p:blipFill>
          <a:blip r:embed="rId1"/>
          <a:stretch/>
        </p:blipFill>
        <p:spPr>
          <a:xfrm>
            <a:off x="7238880" y="3962520"/>
            <a:ext cx="1600200" cy="22636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4114800" y="4419720"/>
            <a:ext cx="3048120" cy="1447560"/>
          </a:xfrm>
          <a:prstGeom prst="wedgeRoundRectCallout">
            <a:avLst>
              <a:gd name="adj1" fmla="val 70157"/>
              <a:gd name="adj2" fmla="val -111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of the electron is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9.1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28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g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1" descr="oildropapparatus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nclusions from the Study of the Electr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360" y="1646280"/>
            <a:ext cx="801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thode rays have identical properties regardless of the element used to produce them.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All elements must contain identically charged elec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s are neutral, so ther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must be positive particles in the atom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alance the negative charge of the elec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lectrons have so little mas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hat atoms must contain other particles that account for most of the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riting a book about the same tim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include new information of atomic mass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nted to find an arrangement for all of the information on the 60-70 eleme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thar Meyer (German chemist) did the same but Mendeleev published fir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mitri Mendeleev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omson’s Atomic Mod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3809880"/>
            <a:ext cx="8610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omson believed that the electrons were like plums embedded in a positively charged “pudding,” thus it was called the “plum pudding” mod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ased on the following facts:  (1) atoms contain small, negatively charged 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(2) the atoms of the element behave as if they have no charge at all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4" descr="plumpudding"/>
          <p:cNvPicPr/>
          <p:nvPr/>
        </p:nvPicPr>
        <p:blipFill>
          <a:blip r:embed="rId1"/>
          <a:stretch/>
        </p:blipFill>
        <p:spPr>
          <a:xfrm>
            <a:off x="5105520" y="83808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jthomson"/>
          <p:cNvPicPr/>
          <p:nvPr/>
        </p:nvPicPr>
        <p:blipFill>
          <a:blip r:embed="rId2"/>
          <a:stretch/>
        </p:blipFill>
        <p:spPr>
          <a:xfrm>
            <a:off x="1523880" y="990720"/>
            <a:ext cx="1905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nest Rutherfor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871-1937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arned physics in JJ Thomson’s lab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d much work with alpha particles (+ charged part with mas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famous for hi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OLD FOIL EXPERIME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8" descr="rutherford1"/>
          <p:cNvPicPr/>
          <p:nvPr/>
        </p:nvPicPr>
        <p:blipFill>
          <a:blip r:embed="rId1"/>
          <a:stretch/>
        </p:blipFill>
        <p:spPr>
          <a:xfrm>
            <a:off x="1009800" y="1447920"/>
            <a:ext cx="3449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5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Rutherford’s experiment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Picture 3" descr="Zumdahl03_05"/>
          <p:cNvPicPr/>
          <p:nvPr/>
        </p:nvPicPr>
        <p:blipFill>
          <a:blip r:embed="rId1"/>
          <a:stretch/>
        </p:blipFill>
        <p:spPr>
          <a:xfrm>
            <a:off x="114480" y="1828800"/>
            <a:ext cx="8915400" cy="2919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y it Yourself!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80880" y="8380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n the following pictures, there is a target hidden by a cloud. To figure out the shape of the target, we shot some beams into the cloud and recorded where the beams came out. Can you figure out the shape of the target?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Picture 5" descr="target1"/>
          <p:cNvPicPr/>
          <p:nvPr/>
        </p:nvPicPr>
        <p:blipFill>
          <a:blip r:embed="rId1"/>
          <a:stretch/>
        </p:blipFill>
        <p:spPr>
          <a:xfrm>
            <a:off x="1295280" y="2895480"/>
            <a:ext cx="249264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arget2"/>
          <p:cNvPicPr/>
          <p:nvPr/>
        </p:nvPicPr>
        <p:blipFill>
          <a:blip r:embed="rId2"/>
          <a:stretch/>
        </p:blipFill>
        <p:spPr>
          <a:xfrm>
            <a:off x="5257800" y="2895480"/>
            <a:ext cx="240336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nsw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naked_target1"/>
          <p:cNvPicPr/>
          <p:nvPr/>
        </p:nvPicPr>
        <p:blipFill>
          <a:blip r:embed="rId1"/>
          <a:stretch/>
        </p:blipFill>
        <p:spPr>
          <a:xfrm>
            <a:off x="1371600" y="1981080"/>
            <a:ext cx="228924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naked_target2"/>
          <p:cNvPicPr/>
          <p:nvPr/>
        </p:nvPicPr>
        <p:blipFill>
          <a:blip r:embed="rId2"/>
          <a:stretch/>
        </p:blipFill>
        <p:spPr>
          <a:xfrm>
            <a:off x="5410080" y="1981080"/>
            <a:ext cx="2222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66320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625360" y="13716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rget #2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3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lum Pudding model of an atom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3_03"/>
          <p:cNvPicPr/>
          <p:nvPr/>
        </p:nvPicPr>
        <p:blipFill>
          <a:blip r:embed="rId1"/>
          <a:stretch/>
        </p:blipFill>
        <p:spPr>
          <a:xfrm>
            <a:off x="2133720" y="1523880"/>
            <a:ext cx="5600520" cy="509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5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Results of foil experiment if Plum Pudding model had been correc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3" descr="Zumdahl03_06a"/>
          <p:cNvPicPr/>
          <p:nvPr/>
        </p:nvPicPr>
        <p:blipFill>
          <a:blip r:embed="rId1"/>
          <a:stretch/>
        </p:blipFill>
        <p:spPr>
          <a:xfrm>
            <a:off x="3398760" y="152280"/>
            <a:ext cx="552132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6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ctual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Picture 3" descr="Zumdahl03_06b"/>
          <p:cNvPicPr/>
          <p:nvPr/>
        </p:nvPicPr>
        <p:blipFill>
          <a:blip r:embed="rId1"/>
          <a:stretch/>
        </p:blipFill>
        <p:spPr>
          <a:xfrm>
            <a:off x="1905120" y="1839960"/>
            <a:ext cx="5410080" cy="474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utherford’s Finding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3" descr="rutherf"/>
          <p:cNvPicPr/>
          <p:nvPr/>
        </p:nvPicPr>
        <p:blipFill>
          <a:blip r:embed="rId1"/>
          <a:stretch/>
        </p:blipFill>
        <p:spPr>
          <a:xfrm>
            <a:off x="304920" y="1509840"/>
            <a:ext cx="2687400" cy="3504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3390840" y="4678200"/>
            <a:ext cx="538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smal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den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nucleus is positively charg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068640" y="2773440"/>
            <a:ext cx="600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particles passed right through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ew particles were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ERY FEW were greatly deflect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819520" y="1523880"/>
            <a:ext cx="5638680" cy="914400"/>
          </a:xfrm>
          <a:prstGeom prst="wedgeRoundRectCallout">
            <a:avLst>
              <a:gd name="adj1" fmla="val -69847"/>
              <a:gd name="adj2" fmla="val 74254"/>
              <a:gd name="adj3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ike cannon balls bouncing off of tissue paper!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67200" y="42973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clusion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sbelievers…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lbert Einstein when to his grave not totally believing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ording to classical physics, the electron would have collapsed into the nucle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910-1930 began the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Quantum Physics Revolution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(the physics of atomic and subatomic particle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3" name="Picture 8" descr="albert-einstein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8920" y="1447920"/>
            <a:ext cx="352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endeleev’s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" name="Picture 3" descr="Mendeleevtable"/>
          <p:cNvPicPr/>
          <p:nvPr/>
        </p:nvPicPr>
        <p:blipFill>
          <a:blip r:embed="rId1"/>
          <a:stretch/>
        </p:blipFill>
        <p:spPr>
          <a:xfrm>
            <a:off x="0" y="1219320"/>
            <a:ext cx="6207120" cy="419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endeleev"/>
          <p:cNvPicPr/>
          <p:nvPr/>
        </p:nvPicPr>
        <p:blipFill>
          <a:blip r:embed="rId2"/>
          <a:stretch/>
        </p:blipFill>
        <p:spPr>
          <a:xfrm>
            <a:off x="6248520" y="1219320"/>
            <a:ext cx="2820960" cy="2895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247440" y="416088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Dmitri Mendeleev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Atomic Sca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4" descr="atomicscale"/>
          <p:cNvPicPr/>
          <p:nvPr/>
        </p:nvPicPr>
        <p:blipFill>
          <a:blip r:embed="rId1"/>
          <a:stretch/>
        </p:blipFill>
        <p:spPr>
          <a:xfrm>
            <a:off x="5029200" y="685800"/>
            <a:ext cx="3586320" cy="4876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65040" y="1951200"/>
            <a:ext cx="420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mass of the atom is in the nucleus (protons and neutro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ctrons are found outside of the nucleus (the electron cloud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st of the volume of the atom is empty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153680" y="5638680"/>
            <a:ext cx="49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” is a particle called a “quark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Quark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9" name="Picture 3" descr="quark"/>
          <p:cNvPicPr/>
          <p:nvPr/>
        </p:nvPicPr>
        <p:blipFill>
          <a:blip r:embed="rId1"/>
          <a:stretch/>
        </p:blipFill>
        <p:spPr>
          <a:xfrm>
            <a:off x="685800" y="1295280"/>
            <a:ext cx="2790720" cy="32767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4299840" y="292104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ops…wrong Quark!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bout Quarks…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Picture 3" descr="atom"/>
          <p:cNvPicPr/>
          <p:nvPr/>
        </p:nvPicPr>
        <p:blipFill>
          <a:blip r:embed="rId1"/>
          <a:stretch/>
        </p:blipFill>
        <p:spPr>
          <a:xfrm>
            <a:off x="3733920" y="1143000"/>
            <a:ext cx="5189400" cy="5154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99072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nd neutrons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fundamental particl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80880" y="198108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tons are made of two “up” quarks and one “down” quark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65040" y="32767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trons are made of one “up” quark and two “down” quark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61440" y="4648320"/>
            <a:ext cx="40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rks are held toge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y “glu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768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ure 3.9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nuclear atom viewed in cross section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Picture 3" descr="Zumdahl03_09"/>
          <p:cNvPicPr/>
          <p:nvPr/>
        </p:nvPicPr>
        <p:blipFill>
          <a:blip r:embed="rId1"/>
          <a:stretch/>
        </p:blipFill>
        <p:spPr>
          <a:xfrm>
            <a:off x="3525840" y="189000"/>
            <a:ext cx="5468760" cy="642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1066680"/>
            <a:ext cx="71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number (Z) of an element is the number of protons in the nucleus of each atom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2438280"/>
          <a:ext cx="6095880" cy="2057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# of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Atomic # (Z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osphor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ld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877320"/>
            <a:ext cx="144792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 u="sng">
              <a:solidFill>
                <a:srgbClr val="ffffff"/>
              </a:solidFill>
              <a:uFillTx/>
              <a:latin typeface="Comic Sans MS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838080" y="754200"/>
            <a:ext cx="716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4" name="Picture 4" descr="table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400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 flipV="1">
            <a:off x="457200" y="1523880"/>
            <a:ext cx="2286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sotop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066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lements occur in nature as mixtures of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sotop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80880" y="2514600"/>
            <a:ext cx="35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that differ in the number of neutr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0" name="Picture 6" descr="isotopes"/>
          <p:cNvPicPr/>
          <p:nvPr/>
        </p:nvPicPr>
        <p:blipFill>
          <a:blip r:embed="rId1"/>
          <a:stretch/>
        </p:blipFill>
        <p:spPr>
          <a:xfrm>
            <a:off x="3870360" y="228600"/>
            <a:ext cx="5273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Atomic # and Atomic Mas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1066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he Periodic Law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4" descr="periodic"/>
          <p:cNvPicPr/>
          <p:nvPr/>
        </p:nvPicPr>
        <p:blipFill>
          <a:blip r:embed="rId1"/>
          <a:stretch/>
        </p:blipFill>
        <p:spPr>
          <a:xfrm>
            <a:off x="0" y="1143000"/>
            <a:ext cx="8305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igure 3.10: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wo isotopes of sodiu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5" name="Picture 3" descr="Zumdahl03_10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651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 Numb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ass number is the number of protons and neutrons in the nucleus of an isotop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54680" y="152388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ass # = 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+  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Comic Sans MS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2133720"/>
          <a:ext cx="8001000" cy="2209680"/>
        </p:xfrm>
        <a:graphic>
          <a:graphicData uri="http://schemas.openxmlformats.org/drawingml/2006/table">
            <a:tbl>
              <a:tblPr/>
              <a:tblGrid>
                <a:gridCol w="3657600"/>
                <a:gridCol w="990720"/>
                <a:gridCol w="914400"/>
                <a:gridCol w="91440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ide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ass #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xygen 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- 3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48"/>
          <p:cNvSpPr/>
          <p:nvPr/>
        </p:nvSpPr>
        <p:spPr>
          <a:xfrm>
            <a:off x="459072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49"/>
          <p:cNvSpPr/>
          <p:nvPr/>
        </p:nvSpPr>
        <p:spPr>
          <a:xfrm>
            <a:off x="6408360" y="2743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748116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1918800" y="2743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591120" y="327672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Arsenic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Text Box 53"/>
          <p:cNvSpPr/>
          <p:nvPr/>
        </p:nvSpPr>
        <p:spPr>
          <a:xfrm>
            <a:off x="212508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6338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3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Text Box 55"/>
          <p:cNvSpPr/>
          <p:nvPr/>
        </p:nvSpPr>
        <p:spPr>
          <a:xfrm>
            <a:off x="7481160" y="3276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Text Box 61"/>
          <p:cNvSpPr/>
          <p:nvPr/>
        </p:nvSpPr>
        <p:spPr>
          <a:xfrm>
            <a:off x="555120" y="380988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Phosphoru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Text Box 62"/>
          <p:cNvSpPr/>
          <p:nvPr/>
        </p:nvSpPr>
        <p:spPr>
          <a:xfrm>
            <a:off x="6338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Text Box 63"/>
          <p:cNvSpPr/>
          <p:nvPr/>
        </p:nvSpPr>
        <p:spPr>
          <a:xfrm>
            <a:off x="74811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64"/>
          <p:cNvSpPr/>
          <p:nvPr/>
        </p:nvSpPr>
        <p:spPr>
          <a:xfrm>
            <a:off x="5423760" y="380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6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issing?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1295280" cy="41148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i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8.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??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Sn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8.7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 Box 13"/>
          <p:cNvSpPr/>
          <p:nvPr/>
        </p:nvSpPr>
        <p:spPr>
          <a:xfrm>
            <a:off x="3886200" y="2666880"/>
            <a:ext cx="33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505320" y="2438280"/>
            <a:ext cx="291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med missing element “Ekasilicon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1280" y="434016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om base word “eka” meanging next in ord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0920" y="-36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ic Mass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752480"/>
          <a:ext cx="7238880" cy="3810240"/>
        </p:xfrm>
        <a:graphic>
          <a:graphicData uri="http://schemas.openxmlformats.org/drawingml/2006/table">
            <a:tbl>
              <a:tblPr/>
              <a:tblGrid>
                <a:gridCol w="1600200"/>
                <a:gridCol w="1295280"/>
                <a:gridCol w="2362320"/>
                <a:gridCol w="19810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ymbo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Composition of the 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% in natur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8.89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1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rbon-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 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 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01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42"/>
          <p:cNvSpPr/>
          <p:nvPr/>
        </p:nvSpPr>
        <p:spPr>
          <a:xfrm>
            <a:off x="746280" y="60948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tomic mass is the average of all the naturally isotopes of that element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43"/>
          <p:cNvSpPr/>
          <p:nvPr/>
        </p:nvSpPr>
        <p:spPr>
          <a:xfrm>
            <a:off x="4889520" y="1087560"/>
            <a:ext cx="337032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rbon = 12.011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otopes…Again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must be on the test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sotopes are atoms of the same element having different masses due to varying numbers of neutr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1752480"/>
          <a:ext cx="7619760" cy="431496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1447560"/>
                <a:gridCol w="1371600"/>
                <a:gridCol w="1828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sotop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rot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c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eutro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Nucleu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–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pro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deuter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Hydrogen-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tritium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9" name="Picture 90" descr="H1"/>
          <p:cNvPicPr/>
          <p:nvPr/>
        </p:nvPicPr>
        <p:blipFill>
          <a:blip r:embed="rId1"/>
          <a:stretch/>
        </p:blipFill>
        <p:spPr>
          <a:xfrm>
            <a:off x="7151760" y="243828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3" descr="H2"/>
          <p:cNvPicPr/>
          <p:nvPr/>
        </p:nvPicPr>
        <p:blipFill>
          <a:blip r:embed="rId2"/>
          <a:stretch/>
        </p:blipFill>
        <p:spPr>
          <a:xfrm>
            <a:off x="7010280" y="358128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7" descr="H3"/>
          <p:cNvPicPr/>
          <p:nvPr/>
        </p:nvPicPr>
        <p:blipFill>
          <a:blip r:embed="rId3"/>
          <a:stretch/>
        </p:blipFill>
        <p:spPr>
          <a:xfrm>
            <a:off x="6934320" y="4724280"/>
            <a:ext cx="116496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at is the % abundance of the Cl-37 isotope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lculate the atomic mass of Chlorine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lorine Practice Problem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hlorine exists as 2 isotopes in nature.  Cl-35 (atomic mass 34.969 amu) has a 75.77% relative abundance.  Cl-37 has an atomic mass 36.966 amu.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w many times more massive is Cl-37 than Cl-35?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Chinese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" name="Picture 3" descr="chinesetable"/>
          <p:cNvPicPr/>
          <p:nvPr/>
        </p:nvPicPr>
        <p:blipFill>
          <a:blip r:embed="rId1"/>
          <a:stretch/>
        </p:blipFill>
        <p:spPr>
          <a:xfrm>
            <a:off x="1143000" y="1560600"/>
            <a:ext cx="6858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riangular Periodic 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3" descr="triangle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5909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ayan”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eriodic </a:t>
            </a:r>
            <a:br>
              <a:rPr sz="2800"/>
            </a:b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" name="Picture 3" descr="Mayan"/>
          <p:cNvPicPr/>
          <p:nvPr/>
        </p:nvPicPr>
        <p:blipFill>
          <a:blip r:embed="rId1"/>
          <a:stretch/>
        </p:blipFill>
        <p:spPr>
          <a:xfrm>
            <a:off x="2514600" y="1522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we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5" name="Picture 3" descr="stowetable"/>
          <p:cNvPicPr/>
          <p:nvPr/>
        </p:nvPicPr>
        <p:blipFill>
          <a:blip r:embed="rId1"/>
          <a:stretch/>
        </p:blipFill>
        <p:spPr>
          <a:xfrm>
            <a:off x="2308320" y="1393920"/>
            <a:ext cx="4525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piral Periodic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" name="Picture 3" descr="spiral"/>
          <p:cNvPicPr/>
          <p:nvPr/>
        </p:nvPicPr>
        <p:blipFill>
          <a:blip r:embed="rId1"/>
          <a:stretch/>
        </p:blipFill>
        <p:spPr>
          <a:xfrm>
            <a:off x="1828800" y="533520"/>
            <a:ext cx="6321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Atomic Mas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2.61 amu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Density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32 g/cm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Melting Poin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25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38° C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kasilicon”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Predict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bserved Propertie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Ox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O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Chloride Formul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eCl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3:21:11Z</dcterms:created>
  <dc:creator>Andrew Allan</dc:creator>
  <dc:description/>
  <dc:language>en-US</dc:language>
  <cp:lastModifiedBy>Cynthia Ahmed</cp:lastModifiedBy>
  <dcterms:modified xsi:type="dcterms:W3CDTF">2017-09-27T12:53:27Z</dcterms:modified>
  <cp:revision>286</cp:revision>
  <dc:subject/>
  <dc:title>PowerPoint Presentation</dc:title>
</cp:coreProperties>
</file>