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9.png" ContentType="image/png"/>
  <Override PartName="/ppt/media/image2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4.png" ContentType="image/png"/>
  <Override PartName="/ppt/media/image29.jpeg" ContentType="image/jpeg"/>
  <Override PartName="/ppt/media/image52.jpeg" ContentType="image/jpeg"/>
  <Override PartName="/ppt/media/image8.jpeg" ContentType="image/jpeg"/>
  <Override PartName="/ppt/media/image39.jpeg" ContentType="image/jpeg"/>
  <Override PartName="/ppt/media/image23.png" ContentType="image/png"/>
  <Override PartName="/ppt/media/image20.jpeg" ContentType="image/jpeg"/>
  <Override PartName="/ppt/media/image30.png" ContentType="image/png"/>
  <Override PartName="/ppt/media/image12.png" ContentType="image/png"/>
  <Override PartName="/ppt/media/image49.png" ContentType="image/png"/>
  <Override PartName="/ppt/media/image34.jpeg" ContentType="image/jpeg"/>
  <Override PartName="/ppt/media/image37.png" ContentType="image/png"/>
  <Override PartName="/ppt/media/image36.jpeg" ContentType="image/jpeg"/>
  <Override PartName="/ppt/media/applause.wav" ContentType="audio/x-wav"/>
  <Override PartName="/ppt/media/image45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43.png" ContentType="image/png"/>
  <Override PartName="/ppt/media/image46.jpeg" ContentType="image/jpeg"/>
  <Override PartName="/ppt/media/image53.png" ContentType="image/png"/>
  <Override PartName="/ppt/media/image48.png" ContentType="image/png"/>
  <Override PartName="/ppt/media/image11.png" ContentType="image/png"/>
  <Override PartName="/ppt/media/image42.jpeg" ContentType="image/jpeg"/>
  <Override PartName="/ppt/media/image19.jpeg" ContentType="image/jpeg"/>
  <Override PartName="/ppt/media/image7.jpeg" ContentType="image/jpeg"/>
  <Override PartName="/ppt/media/image38.jpeg" ContentType="image/jpeg"/>
  <Override PartName="/ppt/media/image28.jpeg" ContentType="image/jpeg"/>
  <Override PartName="/ppt/media/image51.jpeg" ContentType="image/jpeg"/>
  <Override PartName="/ppt/media/image50.png" ContentType="image/png"/>
  <Override PartName="/ppt/media/image5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1760" cy="34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5AE5-FEC6-4078-B00B-205E0E3328E9}" type="slidenum">
              <a:rPr b="1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733E-0D68-4DD0-8267-DA45A37CC7BD}" type="slidenum">
              <a:rPr b="1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25E1-8EED-4E97-99C6-656832550215}" type="slidenum">
              <a:rPr b="1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D7D3-F0DA-42C3-8AC5-75FED8688334}" type="slidenum">
              <a:rPr b="1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F8CC-0B53-4FE7-9C35-0C500AD8523E}" type="slidenum">
              <a:rPr b="1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6760" y="68724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9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2C5A-4163-44EF-8519-2A57A512A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82F6-9049-4ABE-96DA-142632D4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C384-B854-4D79-A3E4-F809D3CCE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D9EC-B103-498D-8B78-152DE90E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4978-3155-47DE-B343-97058820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49B4-BE20-422C-842D-0BB7E2BF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70E2-FEB2-4AA3-9455-AF77220F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4FD6-9713-4264-87B5-960B68F0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8A63-4321-4F74-A665-BEB966E8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0317-35C4-4DE4-A03B-A4DA3626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CA86-9090-48B6-A3DB-6F83EDD5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A479-FBE5-407B-9BC2-A33EBDD5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B7E9-F27D-46A5-8863-49B36E7314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arner.org/channel/courses/essential/physicalsci/images/s4.dalton.jpg&amp;imgrefurl=http://www.learner.org/channel/courses/essential/physicalsci/session4/closer3.html&amp;h=300&amp;w=300&amp;sz=13&amp;hl=en&amp;start=6&amp;tbnid=EMUJZGzHxbaz0M:&amp;tbnh=116&amp;tbnw=116&amp;prev=/images%3Fq%3DJohn%2BDalton%26gbv%3D2%26svnum%3D10%26hl%3Den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oodwordediting.com/wp-content/uploads/2007/05/albert-einstein-1.jpg&amp;imgrefurl=http://www.goodwordediting.com/%3Fcat%3D21&amp;h=521&amp;w=400&amp;sz=50&amp;hl=en&amp;start=1&amp;um=1&amp;tbnid=4negaiUu6RGPIM:&amp;tbnh=131&amp;tbnw=101&amp;prev=/images%3Fq%3DAlbert%2BEinstein%26gbv%3D2%26svnum%3D10%26um%3D1%26hl%3Den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Chemistry Chapter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4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447920" y="2286000"/>
            <a:ext cx="403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History of  Chemistry 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0" name="Picture 5" descr="MOLE"/>
          <p:cNvPicPr/>
          <p:nvPr/>
        </p:nvPicPr>
        <p:blipFill>
          <a:blip r:embed="rId1"/>
          <a:stretch/>
        </p:blipFill>
        <p:spPr>
          <a:xfrm>
            <a:off x="5715000" y="1905120"/>
            <a:ext cx="221760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roperties of the elements recur in regular cycles (periodically) when the elements are arranged in order of increasing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tomic mas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Law of Mendeleev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ff"/>
                </a:solidFill>
                <a:uFillTx/>
                <a:latin typeface="Comic Sans MS"/>
              </a:rPr>
              <a:t>Modern Russian 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5" name="Picture 3" descr="russiantable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Henry Moseley (1887-1915)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fter more elements were discovered, order of atomic mass wasn’t working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913:  Discovered atoms have unique number or protons in nucleus and rearranged table in order of atomic number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Periodic Law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The statement that there is a periodic repetition of chemical and physical properties of elements when they are arranged by increasing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tomic number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Periodic Tab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5218200" y="327672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Perio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114800" y="2590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roup or           famil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1" name="Picture 5" descr="periodictab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4761000" y="38088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Perio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Line 7"/>
          <p:cNvSpPr/>
          <p:nvPr/>
        </p:nvSpPr>
        <p:spPr>
          <a:xfrm>
            <a:off x="4800600" y="9144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1551240" y="762120"/>
            <a:ext cx="26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roup or Famil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Line 9"/>
          <p:cNvSpPr/>
          <p:nvPr/>
        </p:nvSpPr>
        <p:spPr>
          <a:xfrm>
            <a:off x="1523880" y="91440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igure 3.12: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Elements classified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s metals and nonmetals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7" name="Picture 3" descr="Zumdahl03_12"/>
          <p:cNvPicPr/>
          <p:nvPr/>
        </p:nvPicPr>
        <p:blipFill>
          <a:blip r:embed="rId1"/>
          <a:stretch/>
        </p:blipFill>
        <p:spPr>
          <a:xfrm>
            <a:off x="304920" y="1905120"/>
            <a:ext cx="8534160" cy="3628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roperties of Metal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62120" y="1143000"/>
            <a:ext cx="4647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etals have luster (shiny) when smooth and clean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etals are solid @ room T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etals are good conductors of heat and electricit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etals are malleabl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etals are ductil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etals have high tensile strength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cated left of stairstep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0" name="Picture 4" descr="1104"/>
          <p:cNvPicPr/>
          <p:nvPr/>
        </p:nvPicPr>
        <p:blipFill>
          <a:blip r:embed="rId1"/>
          <a:stretch/>
        </p:blipFill>
        <p:spPr>
          <a:xfrm>
            <a:off x="5105520" y="914400"/>
            <a:ext cx="376056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1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gure 3.17: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Spherical atoms packed closely together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2" name="Picture 3" descr="Zumdahl03_17"/>
          <p:cNvPicPr/>
          <p:nvPr/>
        </p:nvPicPr>
        <p:blipFill>
          <a:blip r:embed="rId1"/>
          <a:stretch/>
        </p:blipFill>
        <p:spPr>
          <a:xfrm>
            <a:off x="1219320" y="1219320"/>
            <a:ext cx="6705360" cy="4792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ropertie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f Nonmetal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4" name="Picture 3" descr="pencil"/>
          <p:cNvPicPr/>
          <p:nvPr/>
        </p:nvPicPr>
        <p:blipFill>
          <a:blip r:embed="rId1"/>
          <a:stretch/>
        </p:blipFill>
        <p:spPr>
          <a:xfrm>
            <a:off x="1752480" y="990720"/>
            <a:ext cx="5715000" cy="365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822240" y="1798560"/>
            <a:ext cx="725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rbon, the graphite in “pencil lead” is a great example of a nonmetallic element.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898560" y="2865600"/>
            <a:ext cx="71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nmetals are poor conductors of heat and    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icit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nmetals tend to be brittle and dull looking if soli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any nonmetals are gases at room T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xamples of Nonmetal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8" name="Picture 3" descr="S"/>
          <p:cNvPicPr/>
          <p:nvPr/>
        </p:nvPicPr>
        <p:blipFill>
          <a:blip r:embed="rId1"/>
          <a:stretch/>
        </p:blipFill>
        <p:spPr>
          <a:xfrm>
            <a:off x="2590920" y="1371600"/>
            <a:ext cx="2114280" cy="1749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P"/>
          <p:cNvPicPr/>
          <p:nvPr/>
        </p:nvPicPr>
        <p:blipFill>
          <a:blip r:embed="rId2"/>
          <a:stretch/>
        </p:blipFill>
        <p:spPr>
          <a:xfrm>
            <a:off x="4876920" y="15238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HOPE"/>
          <p:cNvPicPr/>
          <p:nvPr/>
        </p:nvPicPr>
        <p:blipFill>
          <a:blip r:embed="rId3"/>
          <a:stretch/>
        </p:blipFill>
        <p:spPr>
          <a:xfrm>
            <a:off x="4876920" y="3429000"/>
            <a:ext cx="3252600" cy="26575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228600" y="1600200"/>
            <a:ext cx="260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ulfur, 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 was once known as “brimstone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705720" y="1341360"/>
            <a:ext cx="2438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icrospheres of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hosphorus, P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 a reactive nonmetal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533520" y="358128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Graphite is not the only pure form of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carbon, C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. Diamond is also carbon; the color comes from impurities caught within the crystal structur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llotrop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ifferent forms of a given element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ifferent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ropertie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b/c different arrangement of atom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X:  diamond, graphite, Buckminsterfullerene (All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arbo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!) 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ook in your book—p. 105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irst International Congress of Chemist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60 to 70 of 113 elements had been discover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talian chemist Cannizzaro presented method for measurement of atomic mass that all could agree on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Year 1860…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gure 3.13: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A collection of argon atoms.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7" name="Picture 3" descr="Zumdahl03_13"/>
          <p:cNvPicPr/>
          <p:nvPr/>
        </p:nvPicPr>
        <p:blipFill>
          <a:blip r:embed="rId1"/>
          <a:stretch/>
        </p:blipFill>
        <p:spPr>
          <a:xfrm>
            <a:off x="1447920" y="1063800"/>
            <a:ext cx="6248160" cy="5337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gure 3.14: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Oxygen gas contains 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molecule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9" name="Picture 3" descr="Zumdahl03_14b"/>
          <p:cNvPicPr/>
          <p:nvPr/>
        </p:nvPicPr>
        <p:blipFill>
          <a:blip r:embed="rId1"/>
          <a:stretch/>
        </p:blipFill>
        <p:spPr>
          <a:xfrm>
            <a:off x="1752480" y="1752480"/>
            <a:ext cx="5639040" cy="5105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gure 3.14: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Nitrogen gas contains 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molecule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1" name="Picture 3" descr="Zumdahl03_14a"/>
          <p:cNvPicPr/>
          <p:nvPr/>
        </p:nvPicPr>
        <p:blipFill>
          <a:blip r:embed="rId1"/>
          <a:stretch/>
        </p:blipFill>
        <p:spPr>
          <a:xfrm>
            <a:off x="1752480" y="1542960"/>
            <a:ext cx="5600880" cy="5315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able 3.5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3" name="Picture 3" descr="Table_3-5"/>
          <p:cNvPicPr/>
          <p:nvPr/>
        </p:nvPicPr>
        <p:blipFill>
          <a:blip r:embed="rId1"/>
          <a:stretch/>
        </p:blipFill>
        <p:spPr>
          <a:xfrm>
            <a:off x="343080" y="1582560"/>
            <a:ext cx="8458200" cy="3691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ostly brittle solid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roperties between metal and non-metal (semi-conductors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ound in nature only as compound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nce obtained as free metals, are stable in the presence of air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etalloid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History of Chemistry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(late 1700’s)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ost chemists accepted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lement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definition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Understood elements combined to form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compound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with various propertie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isagreed whether compounds are always in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ame ratio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hat happened in 1790?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tudy of matter was revolutionized by new emphasis o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Quantitative Analysi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ided by improved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alance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easurements were actually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CCURATE!!!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John Dalton—Beginning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odern Atomic Theory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Englishman from a Quaker family (1766-1844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Revolutionized chemistry by emphasizing that atoms can have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weights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and weights can be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measured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quant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tative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Opened a school at age 12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lor blind/researche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nterested in botan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Theory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not accepted until 1905 Albert Einstein paper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3" name="Picture 7" descr="s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6765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152280"/>
            <a:ext cx="6477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alton’s Atomic Theory (1808)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457200" y="3527280"/>
            <a:ext cx="8610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toms of two or more different elements combine to form compounds.  A particular compound is always made up of the same kinds of atoms in the same ratio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chemical reaction involves the rearrangement, separation, or combination of atoms.  Atoms are neither created nor destroyed during a chemical reaction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6" name="Picture 4" descr="dalton"/>
          <p:cNvPicPr/>
          <p:nvPr/>
        </p:nvPicPr>
        <p:blipFill>
          <a:blip r:embed="rId1"/>
          <a:stretch/>
        </p:blipFill>
        <p:spPr>
          <a:xfrm>
            <a:off x="0" y="0"/>
            <a:ext cx="2333520" cy="24382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2590920" y="99072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ll matter is made up of tiny particles called atoms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ll atoms of a given element are similar to one another and different from atoms of other element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alton vs.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85800" y="965160"/>
          <a:ext cx="8153280" cy="471960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876960"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l matter is made up of tiny  particles called atoms.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ru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l atoms of a given element are similar to one another and different from atoms of other elements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oms of different elements have different numbers of prot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oms of the same element have same p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and e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, but can have different number of n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oms of two ore more different elements combine to form compounds.  A particular compounds is always made up of the same kinds of atoms in the same ratio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rue (Law of Definite Proportions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John Newlands (1837-1898)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nglish chemist that in 1864 proposed an organizational scheme for the element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ticed properties repeated periodically every 8 element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lled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“Law of Octaves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id not work for all element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riticized analogy for being “non-scientific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alton vs.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85800" y="838080"/>
          <a:ext cx="8153280" cy="1920960"/>
        </p:xfrm>
        <a:graphic>
          <a:graphicData uri="http://schemas.openxmlformats.org/drawingml/2006/table">
            <a:tbl>
              <a:tblPr/>
              <a:tblGrid>
                <a:gridCol w="4038480"/>
                <a:gridCol w="4114800"/>
              </a:tblGrid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 chemical reaction involves the rearrangement, separation, or combination of atoms.  Atoms are neither created nor destroyed during a chemical reaction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ru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gure 3.2: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Representation of NO, 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 and 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3" name="Picture 3" descr="Zumdahl03_02"/>
          <p:cNvPicPr/>
          <p:nvPr/>
        </p:nvPicPr>
        <p:blipFill>
          <a:blip r:embed="rId1"/>
          <a:stretch/>
        </p:blipFill>
        <p:spPr>
          <a:xfrm>
            <a:off x="838080" y="1523880"/>
            <a:ext cx="7543800" cy="5116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Law of Definite (or Constant) Composition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fact that a chemical compound contains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ame elements in exactly the same proportion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by mass regardless of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iz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the sample or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ourc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the compound.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is is The Modern Atomic Model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tom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The smallest particle of an element that retains the properties of the element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nly seen by STM (Scanning Tunneling microscope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ubatomic Particl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990720" y="1523880"/>
          <a:ext cx="7619760" cy="4946760"/>
        </p:xfrm>
        <a:graphic>
          <a:graphicData uri="http://schemas.openxmlformats.org/drawingml/2006/table">
            <a:tbl>
              <a:tblPr/>
              <a:tblGrid>
                <a:gridCol w="2743200"/>
                <a:gridCol w="1066680"/>
                <a:gridCol w="2286000"/>
                <a:gridCol w="152388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articl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harg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Mass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Locatio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lectron (e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-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J.J.Thomson 189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obel Prize 190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obert Milllikan (1910s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ass to charg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486x1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4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.1 x 1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28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g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/1840 of H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lectron cloud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8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roton (p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omson/Goldstein-190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utherford 192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007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673 x 1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24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g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ucleu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eutron (n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hadwick 193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obel Prize 193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009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675 x 1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24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ucleu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iscovery of the Electr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685800" y="762120"/>
            <a:ext cx="786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 1897, J.J. Thomson used a cathode ray tube to deduce the presence of a negatively charged particle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838080" y="5105520"/>
            <a:ext cx="76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thode ray tubes pass electricity through a gas that is contained at a very low pressure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3" name="Picture 6" descr="cathoderaytube"/>
          <p:cNvPicPr/>
          <p:nvPr/>
        </p:nvPicPr>
        <p:blipFill>
          <a:blip r:embed="rId1"/>
          <a:stretch/>
        </p:blipFill>
        <p:spPr>
          <a:xfrm>
            <a:off x="2057400" y="1676520"/>
            <a:ext cx="533412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gure 3.7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Schematic of a cathode ray tube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5" name="Picture 3" descr="Zumdahl03_07"/>
          <p:cNvPicPr/>
          <p:nvPr/>
        </p:nvPicPr>
        <p:blipFill>
          <a:blip r:embed="rId1"/>
          <a:stretch/>
        </p:blipFill>
        <p:spPr>
          <a:xfrm>
            <a:off x="457200" y="1676520"/>
            <a:ext cx="8305920" cy="4876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ome Semi-Modern</a:t>
            </a:r>
            <a:br>
              <a:rPr sz="3600"/>
            </a:b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C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thod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R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y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T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ub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7" name="Picture 3" descr="tv"/>
          <p:cNvPicPr/>
          <p:nvPr/>
        </p:nvPicPr>
        <p:blipFill>
          <a:blip r:embed="rId1"/>
          <a:stretch/>
        </p:blipFill>
        <p:spPr>
          <a:xfrm>
            <a:off x="914400" y="1447920"/>
            <a:ext cx="3276720" cy="2898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Monitor"/>
          <p:cNvPicPr/>
          <p:nvPr/>
        </p:nvPicPr>
        <p:blipFill>
          <a:blip r:embed="rId2"/>
          <a:stretch/>
        </p:blipFill>
        <p:spPr>
          <a:xfrm>
            <a:off x="4800600" y="1447920"/>
            <a:ext cx="3200400" cy="29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ass of the Electr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5029200" y="160020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909 – Robert Millikan determines the mass of the electron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28600" y="42670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oil drop apparatu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2" name="Picture 9" descr="millikan-pic"/>
          <p:cNvPicPr/>
          <p:nvPr/>
        </p:nvPicPr>
        <p:blipFill>
          <a:blip r:embed="rId1"/>
          <a:stretch/>
        </p:blipFill>
        <p:spPr>
          <a:xfrm>
            <a:off x="7238880" y="3962520"/>
            <a:ext cx="1600200" cy="226368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10"/>
          <p:cNvSpPr/>
          <p:nvPr/>
        </p:nvSpPr>
        <p:spPr>
          <a:xfrm>
            <a:off x="4114800" y="4419720"/>
            <a:ext cx="3048120" cy="1447560"/>
          </a:xfrm>
          <a:prstGeom prst="wedgeRoundRectCallout">
            <a:avLst>
              <a:gd name="adj1" fmla="val 70157"/>
              <a:gd name="adj2" fmla="val -111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ass of the electron is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9.1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28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g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4" name="Picture 11" descr="oildropapparatus"/>
          <p:cNvPicPr/>
          <p:nvPr/>
        </p:nvPicPr>
        <p:blipFill>
          <a:blip r:embed="rId2"/>
          <a:stretch/>
        </p:blipFill>
        <p:spPr>
          <a:xfrm>
            <a:off x="0" y="762120"/>
            <a:ext cx="457200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nclusions from the Study of the Electr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41360" y="1646280"/>
            <a:ext cx="801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thode rays have identical properties regardless of the element used to produce them.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All elements must contain identically charged electron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toms are neutral, so ther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must be positive particles in the atom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to balance the negative charge of the electron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Electrons have so little mas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that atoms must contain other particles that account for most of the mas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riting a book about the same time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anted to include new information of atomic masse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anted to find an arrangement for all of the information on the 60-70 element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othar Meyer (German chemist) did the same but Mendeleev published first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imitri Mendeleev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omson’s Atomic Model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80880" y="3809880"/>
            <a:ext cx="8610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omson believed that the electrons were like plums embedded in a positively charged “pudding,” thus it was called the “plum pudding” model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ased on the following facts:  (1) atoms contain small, negatively charged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(2) the atoms of the element behave as if they have no charge at all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9" name="Picture 4" descr="plumpudding"/>
          <p:cNvPicPr/>
          <p:nvPr/>
        </p:nvPicPr>
        <p:blipFill>
          <a:blip r:embed="rId1"/>
          <a:stretch/>
        </p:blipFill>
        <p:spPr>
          <a:xfrm>
            <a:off x="5105520" y="838080"/>
            <a:ext cx="3276360" cy="2892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jjthomson"/>
          <p:cNvPicPr/>
          <p:nvPr/>
        </p:nvPicPr>
        <p:blipFill>
          <a:blip r:embed="rId2"/>
          <a:stretch/>
        </p:blipFill>
        <p:spPr>
          <a:xfrm>
            <a:off x="1523880" y="990720"/>
            <a:ext cx="190512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rnest Rutherford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871-1937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arned physics in JJ Thomson’s lab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id much work with alpha particles (+ charged part with mass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ost famous for his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GOLD FOIL EXPERIMENT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4" name="Picture 8" descr="rutherford1"/>
          <p:cNvPicPr/>
          <p:nvPr/>
        </p:nvPicPr>
        <p:blipFill>
          <a:blip r:embed="rId1"/>
          <a:stretch/>
        </p:blipFill>
        <p:spPr>
          <a:xfrm>
            <a:off x="1009800" y="1447920"/>
            <a:ext cx="3449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igure 3.5: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Rutherford’s experiment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6" name="Picture 3" descr="Zumdahl03_05"/>
          <p:cNvPicPr/>
          <p:nvPr/>
        </p:nvPicPr>
        <p:blipFill>
          <a:blip r:embed="rId1"/>
          <a:stretch/>
        </p:blipFill>
        <p:spPr>
          <a:xfrm>
            <a:off x="114480" y="1828800"/>
            <a:ext cx="8915400" cy="2919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ry it Yourself!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80880" y="838080"/>
            <a:ext cx="7788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In the following pictures, there is a target hidden by a cloud. To figure out the shape of the target, we shot some beams into the cloud and recorded where the beams came out. Can you figure out the shape of the target?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9" name="Picture 5" descr="target1"/>
          <p:cNvPicPr/>
          <p:nvPr/>
        </p:nvPicPr>
        <p:blipFill>
          <a:blip r:embed="rId1"/>
          <a:stretch/>
        </p:blipFill>
        <p:spPr>
          <a:xfrm>
            <a:off x="1295280" y="2895480"/>
            <a:ext cx="2492640" cy="2819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target2"/>
          <p:cNvPicPr/>
          <p:nvPr/>
        </p:nvPicPr>
        <p:blipFill>
          <a:blip r:embed="rId2"/>
          <a:stretch/>
        </p:blipFill>
        <p:spPr>
          <a:xfrm>
            <a:off x="5257800" y="2895480"/>
            <a:ext cx="240336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09320" y="380880"/>
            <a:ext cx="4343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Answer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2" name="Picture 3" descr="naked_target1"/>
          <p:cNvPicPr/>
          <p:nvPr/>
        </p:nvPicPr>
        <p:blipFill>
          <a:blip r:embed="rId1"/>
          <a:stretch/>
        </p:blipFill>
        <p:spPr>
          <a:xfrm>
            <a:off x="1371600" y="1981080"/>
            <a:ext cx="2289240" cy="2590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naked_target2"/>
          <p:cNvPicPr/>
          <p:nvPr/>
        </p:nvPicPr>
        <p:blipFill>
          <a:blip r:embed="rId2"/>
          <a:stretch/>
        </p:blipFill>
        <p:spPr>
          <a:xfrm>
            <a:off x="5410080" y="1981080"/>
            <a:ext cx="2222640" cy="25146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663200" y="137160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arget #1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625360" y="137160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arget #2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gure 3.3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Plum Pudding model of an atom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7" name="Picture 3" descr="Zumdahl03_03"/>
          <p:cNvPicPr/>
          <p:nvPr/>
        </p:nvPicPr>
        <p:blipFill>
          <a:blip r:embed="rId1"/>
          <a:stretch/>
        </p:blipFill>
        <p:spPr>
          <a:xfrm>
            <a:off x="2133720" y="1523880"/>
            <a:ext cx="5600520" cy="5091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65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gure 3.6: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Results of foil experiment if Plum Pudding model had been correct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9" name="Picture 3" descr="Zumdahl03_06a"/>
          <p:cNvPicPr/>
          <p:nvPr/>
        </p:nvPicPr>
        <p:blipFill>
          <a:blip r:embed="rId1"/>
          <a:stretch/>
        </p:blipFill>
        <p:spPr>
          <a:xfrm>
            <a:off x="3398760" y="152280"/>
            <a:ext cx="5521320" cy="5791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igure 3.6: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Actual results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1" name="Picture 3" descr="Zumdahl03_06b"/>
          <p:cNvPicPr/>
          <p:nvPr/>
        </p:nvPicPr>
        <p:blipFill>
          <a:blip r:embed="rId1"/>
          <a:stretch/>
        </p:blipFill>
        <p:spPr>
          <a:xfrm>
            <a:off x="1905120" y="1839960"/>
            <a:ext cx="5410080" cy="4745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Rutherford’s Finding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5" name="Picture 3" descr="rutherf"/>
          <p:cNvPicPr/>
          <p:nvPr/>
        </p:nvPicPr>
        <p:blipFill>
          <a:blip r:embed="rId1"/>
          <a:stretch/>
        </p:blipFill>
        <p:spPr>
          <a:xfrm>
            <a:off x="304920" y="1509840"/>
            <a:ext cx="2687400" cy="3504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3390840" y="4678200"/>
            <a:ext cx="538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nucleus is smal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nucleus is dens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nucleus is positively charg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3068640" y="2773440"/>
            <a:ext cx="600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ost of the particles passed right through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few particles were deflect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ERY FEW were greatly deflect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2819520" y="1523880"/>
            <a:ext cx="5638680" cy="914400"/>
          </a:xfrm>
          <a:prstGeom prst="wedgeRoundRectCallout">
            <a:avLst>
              <a:gd name="adj1" fmla="val -69847"/>
              <a:gd name="adj2" fmla="val 74254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ike cannon balls bouncing off of tissue paper!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3067200" y="429732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nclusions: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isbelievers…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lbert Einstein when to his grave not totally believing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ccording to classical physics, the electron would have collapsed into the nucleu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910-1930 began the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Quantum Physics Revolution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(the physics of atomic and subatomic particles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3" name="Picture 8" descr="albert-einstein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88920" y="1447920"/>
            <a:ext cx="3524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ff"/>
                </a:solidFill>
                <a:uFillTx/>
                <a:latin typeface="Comic Sans MS"/>
              </a:rPr>
              <a:t>Mendeleev’s Periodic 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8" name="Picture 3" descr="Mendeleevtable"/>
          <p:cNvPicPr/>
          <p:nvPr/>
        </p:nvPicPr>
        <p:blipFill>
          <a:blip r:embed="rId1"/>
          <a:stretch/>
        </p:blipFill>
        <p:spPr>
          <a:xfrm>
            <a:off x="0" y="1219320"/>
            <a:ext cx="6207120" cy="4194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Mendeleev"/>
          <p:cNvPicPr/>
          <p:nvPr/>
        </p:nvPicPr>
        <p:blipFill>
          <a:blip r:embed="rId2"/>
          <a:stretch/>
        </p:blipFill>
        <p:spPr>
          <a:xfrm>
            <a:off x="6248520" y="1219320"/>
            <a:ext cx="2820960" cy="28954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6247440" y="416088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mic Sans MS"/>
              </a:rPr>
              <a:t>Dmitri Mendeleev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Atomic Sca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5" name="Picture 4" descr="atomicscale"/>
          <p:cNvPicPr/>
          <p:nvPr/>
        </p:nvPicPr>
        <p:blipFill>
          <a:blip r:embed="rId1"/>
          <a:stretch/>
        </p:blipFill>
        <p:spPr>
          <a:xfrm>
            <a:off x="5029200" y="685800"/>
            <a:ext cx="3586320" cy="48769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65040" y="1951200"/>
            <a:ext cx="4206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ost of the mass of the atom is in the nucleus (protons and neutrons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s are found outside of the nucleus (the electron cloud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ost of the volume of the atom is empty spac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153680" y="5638680"/>
            <a:ext cx="49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q” is a particle called a “quark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Quark…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9" name="Picture 3" descr="quark"/>
          <p:cNvPicPr/>
          <p:nvPr/>
        </p:nvPicPr>
        <p:blipFill>
          <a:blip r:embed="rId1"/>
          <a:stretch/>
        </p:blipFill>
        <p:spPr>
          <a:xfrm>
            <a:off x="685800" y="1295280"/>
            <a:ext cx="2790720" cy="32767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"/>
          <p:cNvSpPr/>
          <p:nvPr/>
        </p:nvSpPr>
        <p:spPr>
          <a:xfrm>
            <a:off x="4299840" y="2921040"/>
            <a:ext cx="43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ops…wrong Quark!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bout Quarks…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2" name="Picture 3" descr="atom"/>
          <p:cNvPicPr/>
          <p:nvPr/>
        </p:nvPicPr>
        <p:blipFill>
          <a:blip r:embed="rId1"/>
          <a:stretch/>
        </p:blipFill>
        <p:spPr>
          <a:xfrm>
            <a:off x="3733920" y="1143000"/>
            <a:ext cx="5189400" cy="51544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380880" y="990720"/>
            <a:ext cx="443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otons and neutrons ar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fundamental particle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380880" y="1981080"/>
            <a:ext cx="359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otons are made of two “up” quarks and one “down” quark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365040" y="3276720"/>
            <a:ext cx="359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eutrons are made of one “up” quark and two “down” quark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361440" y="4648320"/>
            <a:ext cx="403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Quarks are held together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y “gluons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7687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gure 3.9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nuclear atom viewed in cross section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8" name="Picture 3" descr="Zumdahl03_09"/>
          <p:cNvPicPr/>
          <p:nvPr/>
        </p:nvPicPr>
        <p:blipFill>
          <a:blip r:embed="rId1"/>
          <a:stretch/>
        </p:blipFill>
        <p:spPr>
          <a:xfrm>
            <a:off x="3525840" y="189000"/>
            <a:ext cx="5468760" cy="6421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tomic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990720" y="1066680"/>
            <a:ext cx="717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tomic number (Z) of an element is the number of protons in the nucleus of each atom of that element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371600" y="2438280"/>
          <a:ext cx="6095880" cy="205740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lemen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# of prot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Atomic # (Z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rbo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hosphoru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old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-877320"/>
            <a:ext cx="1447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838080" y="754200"/>
            <a:ext cx="716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4" name="Picture 4" descr="table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4008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5"/>
          <p:cNvSpPr/>
          <p:nvPr/>
        </p:nvSpPr>
        <p:spPr>
          <a:xfrm flipV="1">
            <a:off x="457200" y="1523880"/>
            <a:ext cx="22860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04920" y="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2514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Isotope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457200" y="106668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ments occur in nature as mixtures of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sotope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380880" y="2514600"/>
            <a:ext cx="359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sotopes are atoms of the same element that differ in the number of neutron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0" name="Picture 6" descr="isotopes"/>
          <p:cNvPicPr/>
          <p:nvPr/>
        </p:nvPicPr>
        <p:blipFill>
          <a:blip r:embed="rId1"/>
          <a:stretch/>
        </p:blipFill>
        <p:spPr>
          <a:xfrm>
            <a:off x="3870360" y="228600"/>
            <a:ext cx="52736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Atomic # and Atomic Mas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1066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The Periodic Law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3" name="Picture 4" descr="periodic"/>
          <p:cNvPicPr/>
          <p:nvPr/>
        </p:nvPicPr>
        <p:blipFill>
          <a:blip r:embed="rId1"/>
          <a:stretch/>
        </p:blipFill>
        <p:spPr>
          <a:xfrm>
            <a:off x="0" y="1143000"/>
            <a:ext cx="83059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igure 3.10: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wo isotopes of sodium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5" name="Picture 3" descr="Zumdahl03_10"/>
          <p:cNvPicPr/>
          <p:nvPr/>
        </p:nvPicPr>
        <p:blipFill>
          <a:blip r:embed="rId1"/>
          <a:stretch/>
        </p:blipFill>
        <p:spPr>
          <a:xfrm>
            <a:off x="228600" y="2057400"/>
            <a:ext cx="8686800" cy="3651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Mass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143000" y="68580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ass number is the number of protons and neutrons in the nucleus of an isotope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154680" y="1523880"/>
            <a:ext cx="26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Mass # = p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+  n</a:t>
            </a:r>
            <a:r>
              <a:rPr b="1" lang="en-US" sz="2400" spc="-1" strike="noStrike" baseline="30000">
                <a:solidFill>
                  <a:srgbClr val="ffff00"/>
                </a:solidFill>
                <a:latin typeface="Comic Sans MS"/>
              </a:rPr>
              <a:t>0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609480" y="2133720"/>
          <a:ext cx="8001000" cy="2209680"/>
        </p:xfrm>
        <a:graphic>
          <a:graphicData uri="http://schemas.openxmlformats.org/drawingml/2006/table">
            <a:tbl>
              <a:tblPr/>
              <a:tblGrid>
                <a:gridCol w="3657600"/>
                <a:gridCol w="990720"/>
                <a:gridCol w="914400"/>
                <a:gridCol w="914400"/>
                <a:gridCol w="15238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uclid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-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Mass #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xygen -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 3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Text Box 48"/>
          <p:cNvSpPr/>
          <p:nvPr/>
        </p:nvSpPr>
        <p:spPr>
          <a:xfrm>
            <a:off x="4590720" y="2743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8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Text Box 49"/>
          <p:cNvSpPr/>
          <p:nvPr/>
        </p:nvSpPr>
        <p:spPr>
          <a:xfrm>
            <a:off x="6408360" y="2743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8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Text Box 50"/>
          <p:cNvSpPr/>
          <p:nvPr/>
        </p:nvSpPr>
        <p:spPr>
          <a:xfrm>
            <a:off x="7481160" y="27432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18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Text Box 51"/>
          <p:cNvSpPr/>
          <p:nvPr/>
        </p:nvSpPr>
        <p:spPr>
          <a:xfrm>
            <a:off x="1918800" y="27432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18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Text Box 52"/>
          <p:cNvSpPr/>
          <p:nvPr/>
        </p:nvSpPr>
        <p:spPr>
          <a:xfrm>
            <a:off x="591120" y="3276720"/>
            <a:ext cx="13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Arsenic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Text Box 53"/>
          <p:cNvSpPr/>
          <p:nvPr/>
        </p:nvSpPr>
        <p:spPr>
          <a:xfrm>
            <a:off x="2125080" y="3276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75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Text Box 54"/>
          <p:cNvSpPr/>
          <p:nvPr/>
        </p:nvSpPr>
        <p:spPr>
          <a:xfrm>
            <a:off x="6338160" y="3276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33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Text Box 55"/>
          <p:cNvSpPr/>
          <p:nvPr/>
        </p:nvSpPr>
        <p:spPr>
          <a:xfrm>
            <a:off x="7481160" y="3276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75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Text Box 61"/>
          <p:cNvSpPr/>
          <p:nvPr/>
        </p:nvSpPr>
        <p:spPr>
          <a:xfrm>
            <a:off x="555120" y="3809880"/>
            <a:ext cx="19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Phosphoru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Text Box 62"/>
          <p:cNvSpPr/>
          <p:nvPr/>
        </p:nvSpPr>
        <p:spPr>
          <a:xfrm>
            <a:off x="6338160" y="3809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15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Text Box 63"/>
          <p:cNvSpPr/>
          <p:nvPr/>
        </p:nvSpPr>
        <p:spPr>
          <a:xfrm>
            <a:off x="7481160" y="3809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31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Text Box 64"/>
          <p:cNvSpPr/>
          <p:nvPr/>
        </p:nvSpPr>
        <p:spPr>
          <a:xfrm>
            <a:off x="5423760" y="3809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16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issing?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85800" y="1981080"/>
          <a:ext cx="1295280" cy="411480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1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Si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8.0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??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5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S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18.7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Text Box 13"/>
          <p:cNvSpPr/>
          <p:nvPr/>
        </p:nvSpPr>
        <p:spPr>
          <a:xfrm>
            <a:off x="3886200" y="2666880"/>
            <a:ext cx="335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3505320" y="2438280"/>
            <a:ext cx="291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amed missing element “Ekasilicon”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3581280" y="434016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rom base word “eka” meanging next in order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90920" y="-360"/>
            <a:ext cx="3962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tomic Mass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914400" y="1752480"/>
          <a:ext cx="7238880" cy="3810240"/>
        </p:xfrm>
        <a:graphic>
          <a:graphicData uri="http://schemas.openxmlformats.org/drawingml/2006/table">
            <a:tbl>
              <a:tblPr/>
              <a:tblGrid>
                <a:gridCol w="1600200"/>
                <a:gridCol w="1295280"/>
                <a:gridCol w="2362320"/>
                <a:gridCol w="198108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Isotop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Symbol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Composition of the nucleu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% in natur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rbon-1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 prot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 neutr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8.89%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rbon-1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 prot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 neutr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11%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rbon-1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 prot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 neutr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&lt;0.01%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Text Box 42"/>
          <p:cNvSpPr/>
          <p:nvPr/>
        </p:nvSpPr>
        <p:spPr>
          <a:xfrm>
            <a:off x="746280" y="609480"/>
            <a:ext cx="740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tomic mass is the average of all the naturally isotopes of that element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Text Box 43"/>
          <p:cNvSpPr/>
          <p:nvPr/>
        </p:nvSpPr>
        <p:spPr>
          <a:xfrm>
            <a:off x="4889520" y="1087560"/>
            <a:ext cx="337032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rbon = 12.011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6964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sotopes…Again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(must be on the test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533520" y="8380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sotopes are atoms of the same element having different masses due to varying numbers of neutron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762120" y="1752480"/>
          <a:ext cx="7619760" cy="4314960"/>
        </p:xfrm>
        <a:graphic>
          <a:graphicData uri="http://schemas.openxmlformats.org/drawingml/2006/table">
            <a:tbl>
              <a:tblPr/>
              <a:tblGrid>
                <a:gridCol w="1828800"/>
                <a:gridCol w="1143000"/>
                <a:gridCol w="1447560"/>
                <a:gridCol w="1371600"/>
                <a:gridCol w="1828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Isotop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rot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lectr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eutr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ucleu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Hydrogen–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protium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8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Hydrogen-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deuterium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1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Hydrogen-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tritium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9" name="Picture 90" descr="H1"/>
          <p:cNvPicPr/>
          <p:nvPr/>
        </p:nvPicPr>
        <p:blipFill>
          <a:blip r:embed="rId1"/>
          <a:stretch/>
        </p:blipFill>
        <p:spPr>
          <a:xfrm>
            <a:off x="7151760" y="2438280"/>
            <a:ext cx="696960" cy="7318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3" descr="H2"/>
          <p:cNvPicPr/>
          <p:nvPr/>
        </p:nvPicPr>
        <p:blipFill>
          <a:blip r:embed="rId2"/>
          <a:stretch/>
        </p:blipFill>
        <p:spPr>
          <a:xfrm>
            <a:off x="7010280" y="3581280"/>
            <a:ext cx="982800" cy="8683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7" descr="H3"/>
          <p:cNvPicPr/>
          <p:nvPr/>
        </p:nvPicPr>
        <p:blipFill>
          <a:blip r:embed="rId3"/>
          <a:stretch/>
        </p:blipFill>
        <p:spPr>
          <a:xfrm>
            <a:off x="6934320" y="4724280"/>
            <a:ext cx="116496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hlorine Practice Proble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hlorine exists as 2 isotopes in nature.  Cl-35 (atomic mass 34.969 amu) has a 75.77% relative abundance.  Cl-37 has an atomic mass 36.966 amu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at is the % abundance of the Cl-37 isotope?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hlorine Practice Proble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hlorine exists as 2 isotopes in nature.  Cl-35 (atomic mass 34.969 amu) has a 75.77% relative abundance.  Cl-37 has an atomic mass 36.966 amu 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alculate the atomic mass of Chlorine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hlorine Practice Proble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hlorine exists as 2 isotopes in nature.  Cl-35 (atomic mass 34.969 amu) has a 75.77% relative abundance.  Cl-37 has an atomic mass 36.966 amu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ow many times more massive is Cl-37 than Cl-35?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Chinese Periodic 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9" name="Picture 3" descr="chinesetable"/>
          <p:cNvPicPr/>
          <p:nvPr/>
        </p:nvPicPr>
        <p:blipFill>
          <a:blip r:embed="rId1"/>
          <a:stretch/>
        </p:blipFill>
        <p:spPr>
          <a:xfrm>
            <a:off x="1143000" y="1560600"/>
            <a:ext cx="685800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Triangular Periodic 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1" name="Picture 3" descr="triangle"/>
          <p:cNvPicPr/>
          <p:nvPr/>
        </p:nvPicPr>
        <p:blipFill>
          <a:blip r:embed="rId1"/>
          <a:stretch/>
        </p:blipFill>
        <p:spPr>
          <a:xfrm>
            <a:off x="762120" y="914400"/>
            <a:ext cx="754380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25909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Mayan” </a:t>
            </a:r>
            <a:br>
              <a:rPr sz="2800"/>
            </a:b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Periodic </a:t>
            </a:r>
            <a:br>
              <a:rPr sz="2800"/>
            </a:b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3" name="Picture 3" descr="Mayan"/>
          <p:cNvPicPr/>
          <p:nvPr/>
        </p:nvPicPr>
        <p:blipFill>
          <a:blip r:embed="rId1"/>
          <a:stretch/>
        </p:blipFill>
        <p:spPr>
          <a:xfrm>
            <a:off x="2514600" y="152280"/>
            <a:ext cx="6400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owe Periodic Tabl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5" name="Picture 3" descr="stowetable"/>
          <p:cNvPicPr/>
          <p:nvPr/>
        </p:nvPicPr>
        <p:blipFill>
          <a:blip r:embed="rId1"/>
          <a:stretch/>
        </p:blipFill>
        <p:spPr>
          <a:xfrm>
            <a:off x="2308320" y="1393920"/>
            <a:ext cx="452592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4953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Spiral Periodic Tabl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7" name="Picture 3" descr="spiral"/>
          <p:cNvPicPr/>
          <p:nvPr/>
        </p:nvPicPr>
        <p:blipFill>
          <a:blip r:embed="rId1"/>
          <a:stretch/>
        </p:blipFill>
        <p:spPr>
          <a:xfrm>
            <a:off x="1828800" y="533520"/>
            <a:ext cx="6321600" cy="53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kasilicon”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Predict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Observ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Atomic Mas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2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Density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5 g/cm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Melting Poin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25° 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kasilicon”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Predict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Observ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Atomic Mas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2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2.61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Density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5 g/cm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32 g/cm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Melting Poin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25° 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38° 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kasilicon”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Predict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Observ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Oxide Formula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O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eO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Chloride Formula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Cl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eCl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23:21:11Z</dcterms:created>
  <dc:creator>Andrew Allan</dc:creator>
  <dc:description/>
  <dc:language>en-US</dc:language>
  <cp:lastModifiedBy>Cynthia Ahmed</cp:lastModifiedBy>
  <dcterms:modified xsi:type="dcterms:W3CDTF">2017-09-27T12:53:27Z</dcterms:modified>
  <cp:revision>286</cp:revision>
  <dc:subject/>
  <dc:title>PowerPoint Presentation</dc:title>
</cp:coreProperties>
</file>