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6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jpeg" ContentType="image/jpeg"/>
  <Override PartName="/ppt/media/image9.png" ContentType="image/png"/>
  <Override PartName="/ppt/media/image2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5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jpeg" ContentType="image/jpeg"/>
  <Override PartName="/ppt/media/image2.png" ContentType="image/png"/>
  <Override PartName="/ppt/media/image32.png" ContentType="image/png"/>
  <Override PartName="/ppt/media/image26.png" ContentType="image/png"/>
  <Override PartName="/ppt/media/image17.jpeg" ContentType="image/jpeg"/>
  <Override PartName="/ppt/media/image3.png" ContentType="image/png"/>
  <Override PartName="/ppt/media/image33.png" ContentType="image/png"/>
  <Override PartName="/ppt/media/image4.png" ContentType="image/png"/>
  <Override PartName="/ppt/media/image29.jpeg" ContentType="image/jpeg"/>
  <Override PartName="/ppt/media/image52.jpeg" ContentType="image/jpeg"/>
  <Override PartName="/ppt/media/image8.jpeg" ContentType="image/jpeg"/>
  <Override PartName="/ppt/media/image39.jpeg" ContentType="image/jpeg"/>
  <Override PartName="/ppt/media/image23.png" ContentType="image/png"/>
  <Override PartName="/ppt/media/image20.jpeg" ContentType="image/jpeg"/>
  <Override PartName="/ppt/media/image30.png" ContentType="image/png"/>
  <Override PartName="/ppt/media/image12.png" ContentType="image/png"/>
  <Override PartName="/ppt/media/image49.png" ContentType="image/png"/>
  <Override PartName="/ppt/media/image34.jpeg" ContentType="image/jpeg"/>
  <Override PartName="/ppt/media/image37.png" ContentType="image/png"/>
  <Override PartName="/ppt/media/image36.jpeg" ContentType="image/jpeg"/>
  <Override PartName="/ppt/media/applause.wav" ContentType="audio/x-wav"/>
  <Override PartName="/ppt/media/image45.png" ContentType="image/png"/>
  <Override PartName="/ppt/media/image47.png" ContentType="image/png"/>
  <Override PartName="/ppt/media/image35.jpeg" ContentType="image/jpeg"/>
  <Override PartName="/ppt/media/image10.png" ContentType="image/png"/>
  <Override PartName="/ppt/media/image6.jpeg" ContentType="image/jpeg"/>
  <Override PartName="/ppt/media/image27.jpeg" ContentType="image/jpeg"/>
  <Override PartName="/ppt/media/image43.png" ContentType="image/png"/>
  <Override PartName="/ppt/media/image46.jpeg" ContentType="image/jpeg"/>
  <Override PartName="/ppt/media/image53.png" ContentType="image/png"/>
  <Override PartName="/ppt/media/image48.png" ContentType="image/png"/>
  <Override PartName="/ppt/media/image11.png" ContentType="image/png"/>
  <Override PartName="/ppt/media/image42.jpeg" ContentType="image/jpeg"/>
  <Override PartName="/ppt/media/image19.jpeg" ContentType="image/jpeg"/>
  <Override PartName="/ppt/media/image7.jpeg" ContentType="image/jpeg"/>
  <Override PartName="/ppt/media/image38.jpeg" ContentType="image/jpeg"/>
  <Override PartName="/ppt/media/image28.jpeg" ContentType="image/jpeg"/>
  <Override PartName="/ppt/media/image51.jpeg" ContentType="image/jpeg"/>
  <Override PartName="/ppt/media/image50.png" ContentType="image/png"/>
  <Override PartName="/ppt/media/image5.jpeg" ContentType="image/jpeg"/>
  <Override PartName="/ppt/media/image13.jpeg" ContentType="image/jpeg"/>
  <Override PartName="/ppt/media/image40.jpeg" ContentType="image/jpeg"/>
  <Override PartName="/ppt/media/image4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</p:sldIdLst>
  <p:sldSz cx="9144000" cy="6858000"/>
  <p:notesSz cx="6858000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08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58840" y="680760"/>
            <a:ext cx="4541760" cy="340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14600"/>
            <a:ext cx="5029200" cy="40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2920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2920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195DB-0FBF-4801-AC02-09D8F9D50090}" type="slidenum">
              <a:rPr b="1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14600"/>
            <a:ext cx="50292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886200" y="862956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9D174-4B86-44A5-BAAD-1DC757C4E757}" type="slidenum">
              <a:rPr b="1" lang="en-US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14600"/>
            <a:ext cx="50292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886200" y="862956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C9903-3238-490E-AEB8-159F526549E4}" type="slidenum">
              <a:rPr b="1" lang="en-US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14600"/>
            <a:ext cx="50292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886200" y="862956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421B4-5E13-4545-A47A-33A77F766728}" type="slidenum">
              <a:rPr b="1" lang="en-US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6200" y="862956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343E1-B703-4667-86A7-916F81651528}" type="slidenum">
              <a:rPr b="1" lang="en-US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66760" y="687240"/>
            <a:ext cx="4525920" cy="339408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14600"/>
            <a:ext cx="5029200" cy="409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E790-AFDC-41A9-AFAF-13500082E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D03A-75F3-48BC-93C1-B532B3F9A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EB18-08EC-4E46-B731-DDF980889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57C4-7B04-4666-9A8E-46620E689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D848-2DE6-453F-A2F3-CF90C4ED8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DC3C-C29F-4993-9F48-0DCB7A4BB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CDED-CDF6-43F4-86C5-9920B6900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ED86-EE7D-4ADD-948C-C7BFAEEC1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50C3-BAED-4092-9EF0-A1103AB9D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7CA8-C93F-47E9-9A95-BB172ED22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6B29-8C90-4A20-B051-D9BF7ACFC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283C-6313-489F-91C7-ADD7CAB57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55743-34E9-432E-A1C9-5FF8622096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learner.org/channel/courses/essential/physicalsci/images/s4.dalton.jpg&amp;imgrefurl=http://www.learner.org/channel/courses/essential/physicalsci/session4/closer3.html&amp;h=300&amp;w=300&amp;sz=13&amp;hl=en&amp;start=6&amp;tbnid=EMUJZGzHxbaz0M:&amp;tbnh=116&amp;tbnw=116&amp;prev=/images%3Fq%3DJohn%2BDalton%26gbv%3D2%26svnum%3D10%26hl%3Den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goodwordediting.com/wp-content/uploads/2007/05/albert-einstein-1.jpg&amp;imgrefurl=http://www.goodwordediting.com/%3Fcat%3D21&amp;h=521&amp;w=400&amp;sz=50&amp;hl=en&amp;start=1&amp;um=1&amp;tbnid=4negaiUu6RGPIM:&amp;tbnh=131&amp;tbnw=101&amp;prev=/images%3Fq%3DAlbert%2BEinstein%26gbv%3D2%26svnum%3D10%26um%3D1%26hl%3Den" TargetMode="External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Chemistry Chapter</a:t>
            </a: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 4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1447920" y="2286000"/>
            <a:ext cx="4038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The History of  Chemistry 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50" name="Picture 5" descr="MOLE"/>
          <p:cNvPicPr/>
          <p:nvPr/>
        </p:nvPicPr>
        <p:blipFill>
          <a:blip r:embed="rId1"/>
          <a:stretch/>
        </p:blipFill>
        <p:spPr>
          <a:xfrm>
            <a:off x="5715000" y="1905120"/>
            <a:ext cx="2217600" cy="36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Properties of the elements recur in regular cycles (periodically) when the elements are arranged in order of increasing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atomic mass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Law of Mendeleev: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66ff"/>
                </a:solidFill>
                <a:uFillTx/>
                <a:latin typeface="Comic Sans MS"/>
              </a:rPr>
              <a:t>Modern Russian Table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75" name="Picture 3" descr="russiantable"/>
          <p:cNvPicPr/>
          <p:nvPr/>
        </p:nvPicPr>
        <p:blipFill>
          <a:blip r:embed="rId1"/>
          <a:stretch/>
        </p:blipFill>
        <p:spPr>
          <a:xfrm>
            <a:off x="533520" y="685800"/>
            <a:ext cx="8153280" cy="59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Henry Moseley (1887-1915)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After more elements were discovered, order of atomic mass wasn’t working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1913:  Discovered atoms have unique number or protons in nucleus and rearranged table in order of atomic number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Periodic Law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:  The statement that there is a periodic repetition of chemical and physical properties of elements when they are arranged by increasing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atomic number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he Periodic Table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5218200" y="3276720"/>
            <a:ext cx="116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Period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4114800" y="2590920"/>
            <a:ext cx="152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Group or           family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81" name="Picture 5" descr="periodictabl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6"/>
          <p:cNvSpPr/>
          <p:nvPr/>
        </p:nvSpPr>
        <p:spPr>
          <a:xfrm>
            <a:off x="4761000" y="380880"/>
            <a:ext cx="116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Period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Line 7"/>
          <p:cNvSpPr/>
          <p:nvPr/>
        </p:nvSpPr>
        <p:spPr>
          <a:xfrm>
            <a:off x="4800600" y="914400"/>
            <a:ext cx="1143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" name="Text Box 8"/>
          <p:cNvSpPr/>
          <p:nvPr/>
        </p:nvSpPr>
        <p:spPr>
          <a:xfrm>
            <a:off x="1551240" y="762120"/>
            <a:ext cx="261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Group or Family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" name="Line 9"/>
          <p:cNvSpPr/>
          <p:nvPr/>
        </p:nvSpPr>
        <p:spPr>
          <a:xfrm>
            <a:off x="1523880" y="914400"/>
            <a:ext cx="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Figure 3.12: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Elements classified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as metals and nonmetals.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87" name="Picture 3" descr="Zumdahl03_12"/>
          <p:cNvPicPr/>
          <p:nvPr/>
        </p:nvPicPr>
        <p:blipFill>
          <a:blip r:embed="rId1"/>
          <a:stretch/>
        </p:blipFill>
        <p:spPr>
          <a:xfrm>
            <a:off x="304920" y="1905120"/>
            <a:ext cx="8534160" cy="36288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Properties of Metals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762120" y="1143000"/>
            <a:ext cx="4647960" cy="52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Metals have luster (shiny) when smooth and clean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Metals are solid @ room T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Metals are good conductors of heat and electricity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Metals are malleable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Metals are ductile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Metals have high tensile strength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Located left of stairstep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90" name="Picture 4" descr="1104"/>
          <p:cNvPicPr/>
          <p:nvPr/>
        </p:nvPicPr>
        <p:blipFill>
          <a:blip r:embed="rId1"/>
          <a:stretch/>
        </p:blipFill>
        <p:spPr>
          <a:xfrm>
            <a:off x="5105520" y="914400"/>
            <a:ext cx="3760560" cy="51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120" y="2286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igure 3.17: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Spherical atoms packed closely together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92" name="Picture 3" descr="Zumdahl03_17"/>
          <p:cNvPicPr/>
          <p:nvPr/>
        </p:nvPicPr>
        <p:blipFill>
          <a:blip r:embed="rId1"/>
          <a:stretch/>
        </p:blipFill>
        <p:spPr>
          <a:xfrm>
            <a:off x="1219320" y="1219320"/>
            <a:ext cx="6705360" cy="47926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Properties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of Nonmetals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94" name="Picture 3" descr="pencil"/>
          <p:cNvPicPr/>
          <p:nvPr/>
        </p:nvPicPr>
        <p:blipFill>
          <a:blip r:embed="rId1"/>
          <a:stretch/>
        </p:blipFill>
        <p:spPr>
          <a:xfrm>
            <a:off x="1752480" y="990720"/>
            <a:ext cx="5715000" cy="365040"/>
          </a:xfrm>
          <a:prstGeom prst="rect">
            <a:avLst/>
          </a:prstGeom>
          <a:ln w="0">
            <a:noFill/>
          </a:ln>
        </p:spPr>
      </p:pic>
      <p:sp>
        <p:nvSpPr>
          <p:cNvPr id="95" name="Text Box 4"/>
          <p:cNvSpPr/>
          <p:nvPr/>
        </p:nvSpPr>
        <p:spPr>
          <a:xfrm>
            <a:off x="822240" y="1798560"/>
            <a:ext cx="725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Carbon, the graphite in “pencil lead” is a great example of a nonmetallic element. 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898560" y="2865600"/>
            <a:ext cx="71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Nonmetals are poor conductors of heat and     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electricity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Nonmetals tend to be brittle and dull looking if solid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Many nonmetals are gases at room T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Examples of Nonmetals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98" name="Picture 3" descr="S"/>
          <p:cNvPicPr/>
          <p:nvPr/>
        </p:nvPicPr>
        <p:blipFill>
          <a:blip r:embed="rId1"/>
          <a:stretch/>
        </p:blipFill>
        <p:spPr>
          <a:xfrm>
            <a:off x="2590920" y="1371600"/>
            <a:ext cx="2114280" cy="1749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P"/>
          <p:cNvPicPr/>
          <p:nvPr/>
        </p:nvPicPr>
        <p:blipFill>
          <a:blip r:embed="rId2"/>
          <a:stretch/>
        </p:blipFill>
        <p:spPr>
          <a:xfrm>
            <a:off x="4876920" y="152388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HOPE"/>
          <p:cNvPicPr/>
          <p:nvPr/>
        </p:nvPicPr>
        <p:blipFill>
          <a:blip r:embed="rId3"/>
          <a:stretch/>
        </p:blipFill>
        <p:spPr>
          <a:xfrm>
            <a:off x="4876920" y="3429000"/>
            <a:ext cx="3252600" cy="265752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6"/>
          <p:cNvSpPr/>
          <p:nvPr/>
        </p:nvSpPr>
        <p:spPr>
          <a:xfrm>
            <a:off x="228600" y="1600200"/>
            <a:ext cx="2606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Sulfur, S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, was once known as “brimstone”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6705720" y="1341360"/>
            <a:ext cx="2438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Microspheres of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phosphorus, P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, a reactive nonmetal 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533520" y="3581280"/>
            <a:ext cx="426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Graphite is not the only pure form of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carbon, C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. Diamond is also carbon; the color comes from impurities caught within the crystal structure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Allotropes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Different forms of a given element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Different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properties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b/c different arrangement of atoms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EX:  diamond, graphite, Buckminsterfullerene (All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Carbon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!) 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Look in your book—p. 105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First International Congress of Chemists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60 to 70 of 113 elements had been discovered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Italian chemist Cannizzaro presented method for measurement of atomic mass that all could agree on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he Year 1860….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gure 3.13: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 A collection of argon atoms.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07" name="Picture 3" descr="Zumdahl03_13"/>
          <p:cNvPicPr/>
          <p:nvPr/>
        </p:nvPicPr>
        <p:blipFill>
          <a:blip r:embed="rId1"/>
          <a:stretch/>
        </p:blipFill>
        <p:spPr>
          <a:xfrm>
            <a:off x="1447920" y="1063800"/>
            <a:ext cx="6248160" cy="5337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igure 3.14: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Oxygen gas contains 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molecules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09" name="Picture 3" descr="Zumdahl03_14b"/>
          <p:cNvPicPr/>
          <p:nvPr/>
        </p:nvPicPr>
        <p:blipFill>
          <a:blip r:embed="rId1"/>
          <a:stretch/>
        </p:blipFill>
        <p:spPr>
          <a:xfrm>
            <a:off x="1752480" y="1752480"/>
            <a:ext cx="5639040" cy="51055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igure 3.14: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Nitrogen gas contains N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molecules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11" name="Picture 3" descr="Zumdahl03_14a"/>
          <p:cNvPicPr/>
          <p:nvPr/>
        </p:nvPicPr>
        <p:blipFill>
          <a:blip r:embed="rId1"/>
          <a:stretch/>
        </p:blipFill>
        <p:spPr>
          <a:xfrm>
            <a:off x="1752480" y="1542960"/>
            <a:ext cx="5600880" cy="53150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able 3.5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13" name="Picture 3" descr="Table_3-5"/>
          <p:cNvPicPr/>
          <p:nvPr/>
        </p:nvPicPr>
        <p:blipFill>
          <a:blip r:embed="rId1"/>
          <a:stretch/>
        </p:blipFill>
        <p:spPr>
          <a:xfrm>
            <a:off x="343080" y="1582560"/>
            <a:ext cx="8458200" cy="36910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Mostly brittle solids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Properties between metal and non-metal (semi-conductors)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Found in nature only as compounds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Once obtained as free metals, are stable in the presence of air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Metalloids: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History of Chemistry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(late 1700’s)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Most chemists accepted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element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definition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Understood elements combined to form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compounds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with various properties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Disagreed whether compounds are always in the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same ratio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What happened in 1790?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Study of matter was revolutionized by new emphasis on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Quantitative Analysis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Aided by improved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balances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Measurements were actually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ACCURATE!!!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John Dalton—Beginning of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Modern Atomic Theory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440" y="1600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796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Englishman from a Quaker family (1766-1844)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Revolutionized chemistry by emphasizing that atoms can have 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weights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and weights can be 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measured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(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quant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itative)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Opened a school at age 12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olor blind/researched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Interested in botany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Theory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not accepted until 1905 Albert Einstein paper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23" name="Picture 7" descr="s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" y="167652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438280" y="152280"/>
            <a:ext cx="64771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Dalton’s Atomic Theory (1808)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457200" y="3527280"/>
            <a:ext cx="8610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Atoms of two or more different elements combine to form compounds.  A particular compound is always made up of the same kinds of atoms in the same ratio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A chemical reaction involves the rearrangement, separation, or combination of atoms.  Atoms are neither created nor destroyed during a chemical reaction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26" name="Picture 4" descr="dalton"/>
          <p:cNvPicPr/>
          <p:nvPr/>
        </p:nvPicPr>
        <p:blipFill>
          <a:blip r:embed="rId1"/>
          <a:stretch/>
        </p:blipFill>
        <p:spPr>
          <a:xfrm>
            <a:off x="0" y="0"/>
            <a:ext cx="2333520" cy="243828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5"/>
          <p:cNvSpPr/>
          <p:nvPr/>
        </p:nvSpPr>
        <p:spPr>
          <a:xfrm>
            <a:off x="2590920" y="990720"/>
            <a:ext cx="6553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All matter is made up of tiny particles called atoms 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All atoms of a given element are similar to one another and different from atoms of other elements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23520" y="228240"/>
            <a:ext cx="62485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Dalton vs.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Today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685800" y="965160"/>
          <a:ext cx="8153280" cy="4719600"/>
        </p:xfrm>
        <a:graphic>
          <a:graphicData uri="http://schemas.openxmlformats.org/drawingml/2006/table">
            <a:tbl>
              <a:tblPr/>
              <a:tblGrid>
                <a:gridCol w="4076640"/>
                <a:gridCol w="4076640"/>
              </a:tblGrid>
              <a:tr h="876960">
                <a:tc>
                  <a:txBody>
                    <a:bodyPr lIns="90000" rIns="90000" anchor="t">
                      <a:noAutofit/>
                    </a:bodyPr>
                    <a:p>
                      <a:pPr>
                        <a:buClr>
                          <a:srgbClr val="ffff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All matter is made up of tiny  particles called atoms. 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buClr>
                          <a:srgbClr val="ffff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True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21320">
                <a:tc>
                  <a:txBody>
                    <a:bodyPr lIns="90000" rIns="90000" anchor="t">
                      <a:noAutofit/>
                    </a:bodyPr>
                    <a:p>
                      <a:pPr>
                        <a:buClr>
                          <a:srgbClr val="ffff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All atoms of a given element are similar to one another and different from atoms of other elements.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buClr>
                          <a:srgbClr val="ffff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Atoms of different elements have different numbers of protons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>
                        <a:buClr>
                          <a:srgbClr val="ffff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Atoms of the same element have same p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+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and e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-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, but can have different number of n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21320">
                <a:tc>
                  <a:txBody>
                    <a:bodyPr lIns="90000" rIns="90000" anchor="t">
                      <a:noAutofit/>
                    </a:bodyPr>
                    <a:p>
                      <a:pPr>
                        <a:buClr>
                          <a:srgbClr val="ffff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Atoms of two ore more different elements combine to form compounds.  A particular compounds is always made up of the same kinds of atoms in the same ratio.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buClr>
                          <a:srgbClr val="ffff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True (Law of Definite Proportions)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John Newlands (1837-1898)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English chemist that in 1864 proposed an organizational scheme for the elements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Noticed properties repeated periodically every 8 elements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Called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“Law of Octaves”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Did not work for all elements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Criticized analogy for being “non-scientific”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228240"/>
            <a:ext cx="62485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Dalton vs.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Today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685800" y="838080"/>
          <a:ext cx="8153280" cy="1920960"/>
        </p:xfrm>
        <a:graphic>
          <a:graphicData uri="http://schemas.openxmlformats.org/drawingml/2006/table">
            <a:tbl>
              <a:tblPr/>
              <a:tblGrid>
                <a:gridCol w="4038480"/>
                <a:gridCol w="4114800"/>
              </a:tblGrid>
              <a:tr h="1920960">
                <a:tc>
                  <a:txBody>
                    <a:bodyPr lIns="90000" rIns="90000" anchor="t">
                      <a:noAutofit/>
                    </a:bodyPr>
                    <a:p>
                      <a:pPr>
                        <a:buClr>
                          <a:srgbClr val="ffff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A chemical reaction involves the rearrangement, separation, or combination of atoms.  Atoms are neither created nor destroyed during a chemical reaction.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buClr>
                          <a:srgbClr val="ffff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True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igure 3.2: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Representation of NO, N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, and N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O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33" name="Picture 3" descr="Zumdahl03_02"/>
          <p:cNvPicPr/>
          <p:nvPr/>
        </p:nvPicPr>
        <p:blipFill>
          <a:blip r:embed="rId1"/>
          <a:stretch/>
        </p:blipFill>
        <p:spPr>
          <a:xfrm>
            <a:off x="838080" y="1523880"/>
            <a:ext cx="7543800" cy="51166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Comic Sans MS"/>
              </a:rPr>
              <a:t>Law of Definite (or Constant) Composition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The fact that a chemical compound contains the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same elements in exactly the same proportions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by mass regardless of the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size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of the sample or the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source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of the compound.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his is The Modern Atomic Model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Atom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:  The smallest particle of an element that retains the properties of the element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Only seen by STM (Scanning Tunneling microscope)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Subatomic Particles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990720" y="1523880"/>
          <a:ext cx="7619760" cy="4946760"/>
        </p:xfrm>
        <a:graphic>
          <a:graphicData uri="http://schemas.openxmlformats.org/drawingml/2006/table">
            <a:tbl>
              <a:tblPr/>
              <a:tblGrid>
                <a:gridCol w="2743200"/>
                <a:gridCol w="1066680"/>
                <a:gridCol w="2286000"/>
                <a:gridCol w="152388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Particle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Charge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Mass 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Location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06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Electron (e</a:t>
                      </a: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-</a:t>
                      </a: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)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J.J.Thomson 1897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Nobel Prize 1906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Robert Milllikan (1910s)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-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Mass to charge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.486x10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-4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amu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9.1 x 10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-28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g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/1840 of H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Electron cloud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38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Proton (p</a:t>
                      </a: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</a:t>
                      </a: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)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Thomson/Goldstein-1907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Rutherford 192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+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.007 amu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.673 x 10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-24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g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Nucleus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3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Neutron (n</a:t>
                      </a: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o</a:t>
                      </a: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)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hadwick 193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Nobel Prize 1935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.009 amu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.675 x 10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-24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g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Nucleus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7924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Discovery of the Electron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685800" y="762120"/>
            <a:ext cx="786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In 1897, J.J. Thomson used a cathode ray tube to deduce the presence of a negatively charged particle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838080" y="5105520"/>
            <a:ext cx="763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Cathode ray tubes pass electricity through a gas that is contained at a very low pressure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43" name="Picture 6" descr="cathoderaytube"/>
          <p:cNvPicPr/>
          <p:nvPr/>
        </p:nvPicPr>
        <p:blipFill>
          <a:blip r:embed="rId1"/>
          <a:stretch/>
        </p:blipFill>
        <p:spPr>
          <a:xfrm>
            <a:off x="2057400" y="1676520"/>
            <a:ext cx="5334120" cy="33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Figure 3.7: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Schematic of a cathode ray tube.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45" name="Picture 3" descr="Zumdahl03_07"/>
          <p:cNvPicPr/>
          <p:nvPr/>
        </p:nvPicPr>
        <p:blipFill>
          <a:blip r:embed="rId1"/>
          <a:stretch/>
        </p:blipFill>
        <p:spPr>
          <a:xfrm>
            <a:off x="457200" y="1676520"/>
            <a:ext cx="8305920" cy="48765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Some Semi-Modern</a:t>
            </a:r>
            <a:br>
              <a:rPr sz="3600"/>
            </a:br>
            <a:r>
              <a:rPr b="1" lang="en-US" sz="3600" spc="-1" strike="noStrike" u="sng">
                <a:solidFill>
                  <a:srgbClr val="ffffff"/>
                </a:solidFill>
                <a:uFillTx/>
                <a:latin typeface="Comic Sans MS"/>
              </a:rPr>
              <a:t>C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athode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Comic Sans MS"/>
              </a:rPr>
              <a:t>R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ay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Comic Sans MS"/>
              </a:rPr>
              <a:t>T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ubes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47" name="Picture 3" descr="tv"/>
          <p:cNvPicPr/>
          <p:nvPr/>
        </p:nvPicPr>
        <p:blipFill>
          <a:blip r:embed="rId1"/>
          <a:stretch/>
        </p:blipFill>
        <p:spPr>
          <a:xfrm>
            <a:off x="914400" y="1447920"/>
            <a:ext cx="3276720" cy="28987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4" descr="Monitor"/>
          <p:cNvPicPr/>
          <p:nvPr/>
        </p:nvPicPr>
        <p:blipFill>
          <a:blip r:embed="rId2"/>
          <a:stretch/>
        </p:blipFill>
        <p:spPr>
          <a:xfrm>
            <a:off x="4800600" y="1447920"/>
            <a:ext cx="3200400" cy="29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Mass of the Electron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5029200" y="1600200"/>
            <a:ext cx="380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1909 – Robert Millikan determines the mass of the electron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228600" y="4267080"/>
            <a:ext cx="358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he oil drop apparatus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52" name="Picture 9" descr="millikan-pic"/>
          <p:cNvPicPr/>
          <p:nvPr/>
        </p:nvPicPr>
        <p:blipFill>
          <a:blip r:embed="rId1"/>
          <a:stretch/>
        </p:blipFill>
        <p:spPr>
          <a:xfrm>
            <a:off x="7238880" y="3962520"/>
            <a:ext cx="1600200" cy="2263680"/>
          </a:xfrm>
          <a:prstGeom prst="rect">
            <a:avLst/>
          </a:prstGeom>
          <a:ln w="0">
            <a:noFill/>
          </a:ln>
        </p:spPr>
      </p:pic>
      <p:sp>
        <p:nvSpPr>
          <p:cNvPr id="153" name="AutoShape 10"/>
          <p:cNvSpPr/>
          <p:nvPr/>
        </p:nvSpPr>
        <p:spPr>
          <a:xfrm>
            <a:off x="4114800" y="4419720"/>
            <a:ext cx="3048120" cy="1447560"/>
          </a:xfrm>
          <a:prstGeom prst="wedgeRoundRectCallout">
            <a:avLst>
              <a:gd name="adj1" fmla="val 70157"/>
              <a:gd name="adj2" fmla="val -111"/>
              <a:gd name="adj3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Mass of the electron is 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9.1 x 10</a:t>
            </a:r>
            <a:r>
              <a:rPr b="1" lang="en-US" sz="2400" spc="-1" strike="noStrike" baseline="30000">
                <a:solidFill>
                  <a:srgbClr val="ffffff"/>
                </a:solidFill>
                <a:latin typeface="Comic Sans MS"/>
              </a:rPr>
              <a:t>-28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g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54" name="Picture 11" descr="oildropapparatus"/>
          <p:cNvPicPr/>
          <p:nvPr/>
        </p:nvPicPr>
        <p:blipFill>
          <a:blip r:embed="rId2"/>
          <a:stretch/>
        </p:blipFill>
        <p:spPr>
          <a:xfrm>
            <a:off x="0" y="762120"/>
            <a:ext cx="4572000" cy="34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Conclusions from the Study of the Electron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441360" y="1646280"/>
            <a:ext cx="80168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Cathode rays have identical properties regardless of the element used to produce them. </a:t>
            </a:r>
            <a:r>
              <a:rPr b="1" i="1" lang="en-US" sz="2400" spc="-1" strike="noStrike">
                <a:solidFill>
                  <a:srgbClr val="ffffff"/>
                </a:solidFill>
                <a:latin typeface="Comic Sans MS"/>
              </a:rPr>
              <a:t>All elements must contain identically charged electrons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Atoms are neutral, so there </a:t>
            </a:r>
            <a:r>
              <a:rPr b="1" i="1" lang="en-US" sz="2400" spc="-1" strike="noStrike">
                <a:solidFill>
                  <a:srgbClr val="ffffff"/>
                </a:solidFill>
                <a:latin typeface="Comic Sans MS"/>
              </a:rPr>
              <a:t>must be positive particles in the atom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to balance the negative charge of the electrons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Comic Sans MS"/>
              </a:rPr>
              <a:t>Electrons have so little mass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that atoms must contain other particles that account for most of the mass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Writing a book about the same time.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Wanted to include new information of atomic masses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Wanted to find an arrangement for all of the information on the 60-70 elements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Lothar Meyer (German chemist) did the same but Mendeleev published first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Dimitri Mendeleev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6629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homson’s Atomic Model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380880" y="3809880"/>
            <a:ext cx="86108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homson believed that the electrons were like plums embedded in a positively charged “pudding,” thus it was called the “plum pudding” model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Based on the following facts:  (1) atoms contain small, negatively charged e</a:t>
            </a:r>
            <a:r>
              <a:rPr b="1" lang="en-US" sz="2400" spc="-1" strike="noStrike" baseline="30000">
                <a:solidFill>
                  <a:srgbClr val="ffffff"/>
                </a:solidFill>
                <a:latin typeface="Comic Sans MS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(2) the atoms of the element behave as if they have no charge at all 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59" name="Picture 4" descr="plumpudding"/>
          <p:cNvPicPr/>
          <p:nvPr/>
        </p:nvPicPr>
        <p:blipFill>
          <a:blip r:embed="rId1"/>
          <a:stretch/>
        </p:blipFill>
        <p:spPr>
          <a:xfrm>
            <a:off x="5105520" y="838080"/>
            <a:ext cx="3276360" cy="28926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5" descr="jjthomson"/>
          <p:cNvPicPr/>
          <p:nvPr/>
        </p:nvPicPr>
        <p:blipFill>
          <a:blip r:embed="rId2"/>
          <a:stretch/>
        </p:blipFill>
        <p:spPr>
          <a:xfrm>
            <a:off x="1523880" y="990720"/>
            <a:ext cx="1905120" cy="27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Ernest Rutherford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1871-1937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Learned physics in JJ Thomson’s lab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Did much work with alpha particles (+ charged part with mass)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Most famous for his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GOLD FOIL EXPERIMENT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64" name="Picture 8" descr="rutherford1"/>
          <p:cNvPicPr/>
          <p:nvPr/>
        </p:nvPicPr>
        <p:blipFill>
          <a:blip r:embed="rId1"/>
          <a:stretch/>
        </p:blipFill>
        <p:spPr>
          <a:xfrm>
            <a:off x="1009800" y="1447920"/>
            <a:ext cx="344952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Figure 3.5: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Rutherford’s experiment.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66" name="Picture 3" descr="Zumdahl03_05"/>
          <p:cNvPicPr/>
          <p:nvPr/>
        </p:nvPicPr>
        <p:blipFill>
          <a:blip r:embed="rId1"/>
          <a:stretch/>
        </p:blipFill>
        <p:spPr>
          <a:xfrm>
            <a:off x="114480" y="1828800"/>
            <a:ext cx="8915400" cy="29192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ry it Yourself!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380880" y="838080"/>
            <a:ext cx="7788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In the following pictures, there is a target hidden by a cloud. To figure out the shape of the target, we shot some beams into the cloud and recorded where the beams came out. Can you figure out the shape of the target? 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69" name="Picture 5" descr="target1"/>
          <p:cNvPicPr/>
          <p:nvPr/>
        </p:nvPicPr>
        <p:blipFill>
          <a:blip r:embed="rId1"/>
          <a:stretch/>
        </p:blipFill>
        <p:spPr>
          <a:xfrm>
            <a:off x="1295280" y="2895480"/>
            <a:ext cx="2492640" cy="28195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6" descr="target2"/>
          <p:cNvPicPr/>
          <p:nvPr/>
        </p:nvPicPr>
        <p:blipFill>
          <a:blip r:embed="rId2"/>
          <a:stretch/>
        </p:blipFill>
        <p:spPr>
          <a:xfrm>
            <a:off x="5257800" y="2895480"/>
            <a:ext cx="2403360" cy="27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209320" y="380880"/>
            <a:ext cx="4343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he Answers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72" name="Picture 3" descr="naked_target1"/>
          <p:cNvPicPr/>
          <p:nvPr/>
        </p:nvPicPr>
        <p:blipFill>
          <a:blip r:embed="rId1"/>
          <a:stretch/>
        </p:blipFill>
        <p:spPr>
          <a:xfrm>
            <a:off x="1371600" y="1981080"/>
            <a:ext cx="2289240" cy="25909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4" descr="naked_target2"/>
          <p:cNvPicPr/>
          <p:nvPr/>
        </p:nvPicPr>
        <p:blipFill>
          <a:blip r:embed="rId2"/>
          <a:stretch/>
        </p:blipFill>
        <p:spPr>
          <a:xfrm>
            <a:off x="5410080" y="1981080"/>
            <a:ext cx="2222640" cy="25146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1663200" y="1371600"/>
            <a:ext cx="163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arget #1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5625360" y="1371600"/>
            <a:ext cx="163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arget #2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Figure 3.3: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Plum Pudding model of an atom.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77" name="Picture 3" descr="Zumdahl03_03"/>
          <p:cNvPicPr/>
          <p:nvPr/>
        </p:nvPicPr>
        <p:blipFill>
          <a:blip r:embed="rId1"/>
          <a:stretch/>
        </p:blipFill>
        <p:spPr>
          <a:xfrm>
            <a:off x="2133720" y="1523880"/>
            <a:ext cx="5600520" cy="50911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2658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igure 3.6: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Results of foil experiment if Plum Pudding model had been correct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79" name="Picture 3" descr="Zumdahl03_06a"/>
          <p:cNvPicPr/>
          <p:nvPr/>
        </p:nvPicPr>
        <p:blipFill>
          <a:blip r:embed="rId1"/>
          <a:stretch/>
        </p:blipFill>
        <p:spPr>
          <a:xfrm>
            <a:off x="3398760" y="152280"/>
            <a:ext cx="5521320" cy="57913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Figure 3.6: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Actual results.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81" name="Picture 3" descr="Zumdahl03_06b"/>
          <p:cNvPicPr/>
          <p:nvPr/>
        </p:nvPicPr>
        <p:blipFill>
          <a:blip r:embed="rId1"/>
          <a:stretch/>
        </p:blipFill>
        <p:spPr>
          <a:xfrm>
            <a:off x="1905120" y="1839960"/>
            <a:ext cx="5410080" cy="47451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Rutherford’s Findings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85" name="Picture 3" descr="rutherf"/>
          <p:cNvPicPr/>
          <p:nvPr/>
        </p:nvPicPr>
        <p:blipFill>
          <a:blip r:embed="rId1"/>
          <a:stretch/>
        </p:blipFill>
        <p:spPr>
          <a:xfrm>
            <a:off x="304920" y="1509840"/>
            <a:ext cx="2687400" cy="350496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3390840" y="4678200"/>
            <a:ext cx="5389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he nucleus is small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he nucleus is dense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he nucleus is positively charged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3068640" y="2773440"/>
            <a:ext cx="6004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Most of the particles passed right through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A few particles were deflected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VERY FEW were greatly deflected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8" name="AutoShape 9"/>
          <p:cNvSpPr/>
          <p:nvPr/>
        </p:nvSpPr>
        <p:spPr>
          <a:xfrm>
            <a:off x="2819520" y="1523880"/>
            <a:ext cx="5638680" cy="914400"/>
          </a:xfrm>
          <a:prstGeom prst="wedgeRoundRectCallout">
            <a:avLst>
              <a:gd name="adj1" fmla="val -69847"/>
              <a:gd name="adj2" fmla="val 74254"/>
              <a:gd name="adj3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Like cannon balls bouncing off of tissue paper!”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9" name="Text Box 10"/>
          <p:cNvSpPr/>
          <p:nvPr/>
        </p:nvSpPr>
        <p:spPr>
          <a:xfrm>
            <a:off x="3067200" y="4297320"/>
            <a:ext cx="208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Conclusions: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Disbelievers….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Albert Einstein when to his grave not totally believing i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According to classical physics, the electron would have collapsed into the nucleus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1910-1930 began the 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Quantum Physics Revolution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(the physics of atomic and subatomic particles)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93" name="Picture 8" descr="albert-einstein-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88920" y="1447920"/>
            <a:ext cx="35244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66ff"/>
                </a:solidFill>
                <a:uFillTx/>
                <a:latin typeface="Comic Sans MS"/>
              </a:rPr>
              <a:t>Mendeleev’s Periodic Table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58" name="Picture 3" descr="Mendeleevtable"/>
          <p:cNvPicPr/>
          <p:nvPr/>
        </p:nvPicPr>
        <p:blipFill>
          <a:blip r:embed="rId1"/>
          <a:stretch/>
        </p:blipFill>
        <p:spPr>
          <a:xfrm>
            <a:off x="0" y="1219320"/>
            <a:ext cx="6207120" cy="4194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Mendeleev"/>
          <p:cNvPicPr/>
          <p:nvPr/>
        </p:nvPicPr>
        <p:blipFill>
          <a:blip r:embed="rId2"/>
          <a:stretch/>
        </p:blipFill>
        <p:spPr>
          <a:xfrm>
            <a:off x="6248520" y="1219320"/>
            <a:ext cx="2820960" cy="2895480"/>
          </a:xfrm>
          <a:prstGeom prst="rect">
            <a:avLst/>
          </a:prstGeom>
          <a:ln w="0">
            <a:noFill/>
          </a:ln>
        </p:spPr>
      </p:pic>
      <p:sp>
        <p:nvSpPr>
          <p:cNvPr id="60" name="Text Box 5"/>
          <p:cNvSpPr/>
          <p:nvPr/>
        </p:nvSpPr>
        <p:spPr>
          <a:xfrm>
            <a:off x="6247440" y="4160880"/>
            <a:ext cx="290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Comic Sans MS"/>
              </a:rPr>
              <a:t>Dmitri Mendeleev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3505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he Atomic Scale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95" name="Picture 4" descr="atomicscale"/>
          <p:cNvPicPr/>
          <p:nvPr/>
        </p:nvPicPr>
        <p:blipFill>
          <a:blip r:embed="rId1"/>
          <a:stretch/>
        </p:blipFill>
        <p:spPr>
          <a:xfrm>
            <a:off x="5029200" y="685800"/>
            <a:ext cx="3586320" cy="487692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365040" y="1951200"/>
            <a:ext cx="42069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Most of the mass of the atom is in the nucleus (protons and neutrons)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Electrons are found outside of the nucleus (the electron cloud)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Most of the volume of the atom is empty space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4153680" y="5638680"/>
            <a:ext cx="498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q” is a particle called a “quark”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he Quark…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99" name="Picture 3" descr="quark"/>
          <p:cNvPicPr/>
          <p:nvPr/>
        </p:nvPicPr>
        <p:blipFill>
          <a:blip r:embed="rId1"/>
          <a:stretch/>
        </p:blipFill>
        <p:spPr>
          <a:xfrm>
            <a:off x="685800" y="1295280"/>
            <a:ext cx="2790720" cy="327672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4"/>
          <p:cNvSpPr/>
          <p:nvPr/>
        </p:nvSpPr>
        <p:spPr>
          <a:xfrm>
            <a:off x="4299840" y="2921040"/>
            <a:ext cx="436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Oops…wrong Quark!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51814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About Quarks…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02" name="Picture 3" descr="atom"/>
          <p:cNvPicPr/>
          <p:nvPr/>
        </p:nvPicPr>
        <p:blipFill>
          <a:blip r:embed="rId1"/>
          <a:stretch/>
        </p:blipFill>
        <p:spPr>
          <a:xfrm>
            <a:off x="3733920" y="1143000"/>
            <a:ext cx="5189400" cy="515448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4"/>
          <p:cNvSpPr/>
          <p:nvPr/>
        </p:nvSpPr>
        <p:spPr>
          <a:xfrm>
            <a:off x="380880" y="990720"/>
            <a:ext cx="443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Protons and neutrons are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NOT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fundamental particles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4" name="Text Box 5"/>
          <p:cNvSpPr/>
          <p:nvPr/>
        </p:nvSpPr>
        <p:spPr>
          <a:xfrm>
            <a:off x="380880" y="1981080"/>
            <a:ext cx="359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Protons are made of two “up” quarks and one “down” quark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5" name="Text Box 6"/>
          <p:cNvSpPr/>
          <p:nvPr/>
        </p:nvSpPr>
        <p:spPr>
          <a:xfrm>
            <a:off x="365040" y="3276720"/>
            <a:ext cx="359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Neutrons are made of one “up” quark and two “down” quarks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6" name="Text Box 7"/>
          <p:cNvSpPr/>
          <p:nvPr/>
        </p:nvSpPr>
        <p:spPr>
          <a:xfrm>
            <a:off x="361440" y="4648320"/>
            <a:ext cx="403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Quarks are held together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by “gluons”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276876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Figure 3.9: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A nuclear atom viewed in cross section.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08" name="Picture 3" descr="Zumdahl03_09"/>
          <p:cNvPicPr/>
          <p:nvPr/>
        </p:nvPicPr>
        <p:blipFill>
          <a:blip r:embed="rId1"/>
          <a:stretch/>
        </p:blipFill>
        <p:spPr>
          <a:xfrm>
            <a:off x="3525840" y="189000"/>
            <a:ext cx="5468760" cy="64213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Atomic Number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990720" y="1066680"/>
            <a:ext cx="7178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Atomic number (Z) of an element is the number of protons in the nucleus of each atom of that element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1371600" y="2438280"/>
          <a:ext cx="6095880" cy="205740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Element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# of protons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Atomic # (Z)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arbon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6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6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Phosphorus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5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5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Gold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79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79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80880" y="-877320"/>
            <a:ext cx="1447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 u="sng">
              <a:solidFill>
                <a:srgbClr val="ffffff"/>
              </a:solidFill>
              <a:uFillTx/>
              <a:latin typeface="Comic Sans MS"/>
            </a:endParaRPr>
          </a:p>
        </p:txBody>
      </p:sp>
      <p:sp>
        <p:nvSpPr>
          <p:cNvPr id="213" name="Text Box 3"/>
          <p:cNvSpPr/>
          <p:nvPr/>
        </p:nvSpPr>
        <p:spPr>
          <a:xfrm>
            <a:off x="838080" y="754200"/>
            <a:ext cx="716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14" name="Picture 4" descr="table"/>
          <p:cNvPicPr/>
          <p:nvPr/>
        </p:nvPicPr>
        <p:blipFill>
          <a:blip r:embed="rId1"/>
          <a:stretch/>
        </p:blipFill>
        <p:spPr>
          <a:xfrm>
            <a:off x="228600" y="0"/>
            <a:ext cx="8915400" cy="6400800"/>
          </a:xfrm>
          <a:prstGeom prst="rect">
            <a:avLst/>
          </a:prstGeom>
          <a:ln w="0">
            <a:noFill/>
          </a:ln>
        </p:spPr>
      </p:pic>
      <p:sp>
        <p:nvSpPr>
          <p:cNvPr id="215" name="Rectangle 5"/>
          <p:cNvSpPr/>
          <p:nvPr/>
        </p:nvSpPr>
        <p:spPr>
          <a:xfrm flipV="1">
            <a:off x="457200" y="1523880"/>
            <a:ext cx="22860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6" name="Text Box 6"/>
          <p:cNvSpPr/>
          <p:nvPr/>
        </p:nvSpPr>
        <p:spPr>
          <a:xfrm>
            <a:off x="304920" y="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2514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Comic Sans MS"/>
              </a:rPr>
              <a:t>Isotopes</a:t>
            </a: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8" name="Text Box 4"/>
          <p:cNvSpPr/>
          <p:nvPr/>
        </p:nvSpPr>
        <p:spPr>
          <a:xfrm>
            <a:off x="457200" y="1066680"/>
            <a:ext cx="32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Elements occur in nature as mixtures of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isotopes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9" name="Text Box 5"/>
          <p:cNvSpPr/>
          <p:nvPr/>
        </p:nvSpPr>
        <p:spPr>
          <a:xfrm>
            <a:off x="380880" y="2514600"/>
            <a:ext cx="3597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Isotopes are atoms of the same element that differ in the number of neutrons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20" name="Picture 6" descr="isotopes"/>
          <p:cNvPicPr/>
          <p:nvPr/>
        </p:nvPicPr>
        <p:blipFill>
          <a:blip r:embed="rId1"/>
          <a:stretch/>
        </p:blipFill>
        <p:spPr>
          <a:xfrm>
            <a:off x="3870360" y="228600"/>
            <a:ext cx="5273640" cy="49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Comic Sans MS"/>
              </a:rPr>
              <a:t>Atomic # and Atomic Mass</a:t>
            </a: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371600" y="10663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Comic Sans MS"/>
              </a:rPr>
              <a:t>The Periodic Law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23" name="Picture 4" descr="periodic"/>
          <p:cNvPicPr/>
          <p:nvPr/>
        </p:nvPicPr>
        <p:blipFill>
          <a:blip r:embed="rId1"/>
          <a:stretch/>
        </p:blipFill>
        <p:spPr>
          <a:xfrm>
            <a:off x="0" y="1143000"/>
            <a:ext cx="8305920" cy="44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Figure 3.10: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Two isotopes of sodium.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25" name="Picture 3" descr="Zumdahl03_10"/>
          <p:cNvPicPr/>
          <p:nvPr/>
        </p:nvPicPr>
        <p:blipFill>
          <a:blip r:embed="rId1"/>
          <a:stretch/>
        </p:blipFill>
        <p:spPr>
          <a:xfrm>
            <a:off x="228600" y="2057400"/>
            <a:ext cx="8686800" cy="36511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Comic Sans MS"/>
              </a:rPr>
              <a:t>Mass Number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7" name="Text Box 3"/>
          <p:cNvSpPr/>
          <p:nvPr/>
        </p:nvSpPr>
        <p:spPr>
          <a:xfrm>
            <a:off x="1143000" y="685800"/>
            <a:ext cx="678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Mass number is the number of protons and neutrons in the nucleus of an isotope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8" name="Text Box 4"/>
          <p:cNvSpPr/>
          <p:nvPr/>
        </p:nvSpPr>
        <p:spPr>
          <a:xfrm>
            <a:off x="3154680" y="1523880"/>
            <a:ext cx="26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Mass # = p</a:t>
            </a: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</a:rPr>
              <a:t>+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  +  n</a:t>
            </a:r>
            <a:r>
              <a:rPr b="1" lang="en-US" sz="2400" spc="-1" strike="noStrike" baseline="30000">
                <a:solidFill>
                  <a:srgbClr val="ffff00"/>
                </a:solidFill>
                <a:latin typeface="Comic Sans MS"/>
              </a:rPr>
              <a:t>0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609480" y="2133720"/>
          <a:ext cx="8001000" cy="2209680"/>
        </p:xfrm>
        <a:graphic>
          <a:graphicData uri="http://schemas.openxmlformats.org/drawingml/2006/table">
            <a:tbl>
              <a:tblPr/>
              <a:tblGrid>
                <a:gridCol w="3657600"/>
                <a:gridCol w="990720"/>
                <a:gridCol w="914400"/>
                <a:gridCol w="914400"/>
                <a:gridCol w="152388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Nuclide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p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n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0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e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-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Mass #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Oxygen - 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     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- 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3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          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- 3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5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0" name="Text Box 48"/>
          <p:cNvSpPr/>
          <p:nvPr/>
        </p:nvSpPr>
        <p:spPr>
          <a:xfrm>
            <a:off x="4590720" y="27432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Comic Sans MS"/>
              </a:rPr>
              <a:t>8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1" name="Text Box 49"/>
          <p:cNvSpPr/>
          <p:nvPr/>
        </p:nvSpPr>
        <p:spPr>
          <a:xfrm>
            <a:off x="6408360" y="27432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Comic Sans MS"/>
              </a:rPr>
              <a:t>8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2" name="Text Box 50"/>
          <p:cNvSpPr/>
          <p:nvPr/>
        </p:nvSpPr>
        <p:spPr>
          <a:xfrm>
            <a:off x="7481160" y="274320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Comic Sans MS"/>
              </a:rPr>
              <a:t>18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3" name="Text Box 51"/>
          <p:cNvSpPr/>
          <p:nvPr/>
        </p:nvSpPr>
        <p:spPr>
          <a:xfrm>
            <a:off x="1918800" y="274320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Comic Sans MS"/>
              </a:rPr>
              <a:t>18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4" name="Text Box 52"/>
          <p:cNvSpPr/>
          <p:nvPr/>
        </p:nvSpPr>
        <p:spPr>
          <a:xfrm>
            <a:off x="591120" y="3276720"/>
            <a:ext cx="13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Comic Sans MS"/>
              </a:rPr>
              <a:t>Arsenic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5" name="Text Box 53"/>
          <p:cNvSpPr/>
          <p:nvPr/>
        </p:nvSpPr>
        <p:spPr>
          <a:xfrm>
            <a:off x="2125080" y="327672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Comic Sans MS"/>
              </a:rPr>
              <a:t>75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6" name="Text Box 54"/>
          <p:cNvSpPr/>
          <p:nvPr/>
        </p:nvSpPr>
        <p:spPr>
          <a:xfrm>
            <a:off x="6338160" y="327672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Comic Sans MS"/>
              </a:rPr>
              <a:t>33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7" name="Text Box 55"/>
          <p:cNvSpPr/>
          <p:nvPr/>
        </p:nvSpPr>
        <p:spPr>
          <a:xfrm>
            <a:off x="7481160" y="327672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Comic Sans MS"/>
              </a:rPr>
              <a:t>75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8" name="Text Box 61"/>
          <p:cNvSpPr/>
          <p:nvPr/>
        </p:nvSpPr>
        <p:spPr>
          <a:xfrm>
            <a:off x="555120" y="3809880"/>
            <a:ext cx="198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Comic Sans MS"/>
              </a:rPr>
              <a:t>Phosphorus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9" name="Text Box 62"/>
          <p:cNvSpPr/>
          <p:nvPr/>
        </p:nvSpPr>
        <p:spPr>
          <a:xfrm>
            <a:off x="6338160" y="380988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Comic Sans MS"/>
              </a:rPr>
              <a:t>15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0" name="Text Box 63"/>
          <p:cNvSpPr/>
          <p:nvPr/>
        </p:nvSpPr>
        <p:spPr>
          <a:xfrm>
            <a:off x="7481160" y="380988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Comic Sans MS"/>
              </a:rPr>
              <a:t>31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1" name="Text Box 64"/>
          <p:cNvSpPr/>
          <p:nvPr/>
        </p:nvSpPr>
        <p:spPr>
          <a:xfrm>
            <a:off x="5423760" y="380988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Comic Sans MS"/>
              </a:rPr>
              <a:t>16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Missing?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685800" y="1981080"/>
          <a:ext cx="1295280" cy="4114800"/>
        </p:xfrm>
        <a:graphic>
          <a:graphicData uri="http://schemas.openxmlformats.org/drawingml/2006/table">
            <a:tbl>
              <a:tblPr/>
              <a:tblGrid>
                <a:gridCol w="129528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ff"/>
                          </a:solidFill>
                          <a:latin typeface="Comic Sans MS"/>
                        </a:rPr>
                        <a:t>14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ff"/>
                          </a:solidFill>
                          <a:latin typeface="Comic Sans MS"/>
                        </a:rPr>
                        <a:t>Si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28.09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ff"/>
                          </a:solidFill>
                          <a:latin typeface="Comic Sans MS"/>
                        </a:rPr>
                        <a:t>??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ff"/>
                          </a:solidFill>
                          <a:latin typeface="Comic Sans MS"/>
                        </a:rPr>
                        <a:t>5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ff"/>
                          </a:solidFill>
                          <a:latin typeface="Comic Sans MS"/>
                        </a:rPr>
                        <a:t>Sn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118.7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" name="Text Box 13"/>
          <p:cNvSpPr/>
          <p:nvPr/>
        </p:nvSpPr>
        <p:spPr>
          <a:xfrm>
            <a:off x="3886200" y="2666880"/>
            <a:ext cx="3352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" name="Text Box 14"/>
          <p:cNvSpPr/>
          <p:nvPr/>
        </p:nvSpPr>
        <p:spPr>
          <a:xfrm>
            <a:off x="3505320" y="2438280"/>
            <a:ext cx="2911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Named missing element “Ekasilicon”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Text Box 15"/>
          <p:cNvSpPr/>
          <p:nvPr/>
        </p:nvSpPr>
        <p:spPr>
          <a:xfrm>
            <a:off x="3581280" y="4340160"/>
            <a:ext cx="3276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From base word “eka” meanging next in order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590920" y="-360"/>
            <a:ext cx="39621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Atomic Masses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914400" y="1752480"/>
          <a:ext cx="7238880" cy="3810240"/>
        </p:xfrm>
        <a:graphic>
          <a:graphicData uri="http://schemas.openxmlformats.org/drawingml/2006/table">
            <a:tbl>
              <a:tblPr/>
              <a:tblGrid>
                <a:gridCol w="1600200"/>
                <a:gridCol w="1295280"/>
                <a:gridCol w="2362320"/>
                <a:gridCol w="1981080"/>
              </a:tblGrid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Isotope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Symbol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Composition of the nucleus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% in nature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arbon-1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2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6 protons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6 neutrons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98.89%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arbon-13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3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6 protons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7 neutrons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.11%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1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arbon-14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4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6 protons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8 neutrons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&lt;0.01%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4" name="Text Box 42"/>
          <p:cNvSpPr/>
          <p:nvPr/>
        </p:nvSpPr>
        <p:spPr>
          <a:xfrm>
            <a:off x="746280" y="609480"/>
            <a:ext cx="7407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Atomic mass is the average of all the naturally isotopes of that element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5" name="Text Box 43"/>
          <p:cNvSpPr/>
          <p:nvPr/>
        </p:nvSpPr>
        <p:spPr>
          <a:xfrm>
            <a:off x="4889520" y="1087560"/>
            <a:ext cx="3370320" cy="5814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Carbon = 12.011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3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228600"/>
            <a:ext cx="769644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Isotopes…Again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(must be on the test)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7" name="Text Box 3"/>
          <p:cNvSpPr/>
          <p:nvPr/>
        </p:nvSpPr>
        <p:spPr>
          <a:xfrm>
            <a:off x="533520" y="83808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Isotopes are atoms of the same element having different masses due to varying numbers of neutrons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762120" y="1752480"/>
          <a:ext cx="7619760" cy="4314960"/>
        </p:xfrm>
        <a:graphic>
          <a:graphicData uri="http://schemas.openxmlformats.org/drawingml/2006/table">
            <a:tbl>
              <a:tblPr/>
              <a:tblGrid>
                <a:gridCol w="1828800"/>
                <a:gridCol w="1143000"/>
                <a:gridCol w="1447560"/>
                <a:gridCol w="1371600"/>
                <a:gridCol w="182880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Isotope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Protons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Electrons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Neutrons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Nucleus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3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Hydrogen–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(protium)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8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Hydrogen-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(deuterium)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01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Hydrogen-3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(tritium)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49" name="Picture 90" descr="H1"/>
          <p:cNvPicPr/>
          <p:nvPr/>
        </p:nvPicPr>
        <p:blipFill>
          <a:blip r:embed="rId1"/>
          <a:stretch/>
        </p:blipFill>
        <p:spPr>
          <a:xfrm>
            <a:off x="7151760" y="2438280"/>
            <a:ext cx="696960" cy="73188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93" descr="H2"/>
          <p:cNvPicPr/>
          <p:nvPr/>
        </p:nvPicPr>
        <p:blipFill>
          <a:blip r:embed="rId2"/>
          <a:stretch/>
        </p:blipFill>
        <p:spPr>
          <a:xfrm>
            <a:off x="7010280" y="3581280"/>
            <a:ext cx="982800" cy="8683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97" descr="H3"/>
          <p:cNvPicPr/>
          <p:nvPr/>
        </p:nvPicPr>
        <p:blipFill>
          <a:blip r:embed="rId3"/>
          <a:stretch/>
        </p:blipFill>
        <p:spPr>
          <a:xfrm>
            <a:off x="6934320" y="4724280"/>
            <a:ext cx="1164960" cy="117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5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5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Chlorine Practice Problem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Chlorine exists as 2 isotopes in nature.  Cl-35 (atomic mass 34.969 amu) has a 75.77% relative abundance.  Cl-37 has an atomic mass 36.966 amu.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914400" indent="-457200">
              <a:spcBef>
                <a:spcPts val="700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What is the % abundance of the Cl-37 isotope?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Chlorine Practice Problem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Chlorine exists as 2 isotopes in nature.  Cl-35 (atomic mass 34.969 amu) has a 75.77% relative abundance.  Cl-37 has an atomic mass 36.966 amu 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Calculate the atomic mass of Chlorine.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Chlorine Practice Problem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Chlorine exists as 2 isotopes in nature.  Cl-35 (atomic mass 34.969 amu) has a 75.77% relative abundance.  Cl-37 has an atomic mass 36.966 amu.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9144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How many times more massive is Cl-37 than Cl-35?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Comic Sans MS"/>
              </a:rPr>
              <a:t>Chinese Periodic Table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59" name="Picture 3" descr="chinesetable"/>
          <p:cNvPicPr/>
          <p:nvPr/>
        </p:nvPicPr>
        <p:blipFill>
          <a:blip r:embed="rId1"/>
          <a:stretch/>
        </p:blipFill>
        <p:spPr>
          <a:xfrm>
            <a:off x="1143000" y="1560600"/>
            <a:ext cx="6858000" cy="37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Comic Sans MS"/>
              </a:rPr>
              <a:t>Triangular Periodic Table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61" name="Picture 3" descr="triangle"/>
          <p:cNvPicPr/>
          <p:nvPr/>
        </p:nvPicPr>
        <p:blipFill>
          <a:blip r:embed="rId1"/>
          <a:stretch/>
        </p:blipFill>
        <p:spPr>
          <a:xfrm>
            <a:off x="762120" y="914400"/>
            <a:ext cx="7543800" cy="45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2590920" cy="33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3366ff"/>
                </a:solidFill>
                <a:latin typeface="Comic Sans MS"/>
              </a:rPr>
              <a:t>Mayan” </a:t>
            </a:r>
            <a:br>
              <a:rPr sz="2800"/>
            </a:br>
            <a:r>
              <a:rPr b="0" lang="en-US" sz="2800" spc="-1" strike="noStrike">
                <a:solidFill>
                  <a:srgbClr val="3366ff"/>
                </a:solidFill>
                <a:latin typeface="Comic Sans MS"/>
              </a:rPr>
              <a:t>Periodic </a:t>
            </a:r>
            <a:br>
              <a:rPr sz="2800"/>
            </a:br>
            <a:r>
              <a:rPr b="0" lang="en-US" sz="2800" spc="-1" strike="noStrike">
                <a:solidFill>
                  <a:srgbClr val="3366ff"/>
                </a:solidFill>
                <a:latin typeface="Comic Sans MS"/>
              </a:rPr>
              <a:t>Table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63" name="Picture 3" descr="Mayan"/>
          <p:cNvPicPr/>
          <p:nvPr/>
        </p:nvPicPr>
        <p:blipFill>
          <a:blip r:embed="rId1"/>
          <a:stretch/>
        </p:blipFill>
        <p:spPr>
          <a:xfrm>
            <a:off x="2514600" y="152280"/>
            <a:ext cx="64008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towe Periodic Table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65" name="Picture 3" descr="stowetable"/>
          <p:cNvPicPr/>
          <p:nvPr/>
        </p:nvPicPr>
        <p:blipFill>
          <a:blip r:embed="rId1"/>
          <a:stretch/>
        </p:blipFill>
        <p:spPr>
          <a:xfrm>
            <a:off x="2308320" y="1393920"/>
            <a:ext cx="4525920" cy="40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49532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 Spiral Periodic Table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67" name="Picture 3" descr="spiral"/>
          <p:cNvPicPr/>
          <p:nvPr/>
        </p:nvPicPr>
        <p:blipFill>
          <a:blip r:embed="rId1"/>
          <a:stretch/>
        </p:blipFill>
        <p:spPr>
          <a:xfrm>
            <a:off x="1828800" y="533520"/>
            <a:ext cx="6321600" cy="53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Ekasilicon”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ff"/>
                          </a:solidFill>
                          <a:latin typeface="Comic Sans MS"/>
                        </a:rPr>
                        <a:t>Predicted Properties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ff"/>
                          </a:solidFill>
                          <a:latin typeface="Comic Sans MS"/>
                        </a:rPr>
                        <a:t>Observed Properties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ff"/>
                          </a:solidFill>
                          <a:latin typeface="Comic Sans MS"/>
                        </a:rPr>
                        <a:t>Atomic Mass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72 amu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ff"/>
                          </a:solidFill>
                          <a:latin typeface="Comic Sans MS"/>
                        </a:rPr>
                        <a:t>Density 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.5 g/cm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ff"/>
                          </a:solidFill>
                          <a:latin typeface="Comic Sans MS"/>
                        </a:rPr>
                        <a:t>Melting Point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825° C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Ekasilicon”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ff"/>
                          </a:solidFill>
                          <a:latin typeface="Comic Sans MS"/>
                        </a:rPr>
                        <a:t>Predicted Properties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ff"/>
                          </a:solidFill>
                          <a:latin typeface="Comic Sans MS"/>
                        </a:rPr>
                        <a:t>Observed Properties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ff"/>
                          </a:solidFill>
                          <a:latin typeface="Comic Sans MS"/>
                        </a:rPr>
                        <a:t>Atomic Mass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72 amu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72.61 amu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ff"/>
                          </a:solidFill>
                          <a:latin typeface="Comic Sans MS"/>
                        </a:rPr>
                        <a:t>Density 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.5 g/cm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.32 g/cm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ff"/>
                          </a:solidFill>
                          <a:latin typeface="Comic Sans MS"/>
                        </a:rPr>
                        <a:t>Melting Point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825° C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938° C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Ekasilicon”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ff"/>
                          </a:solidFill>
                          <a:latin typeface="Comic Sans MS"/>
                        </a:rPr>
                        <a:t>Predicted Properties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ff"/>
                          </a:solidFill>
                          <a:latin typeface="Comic Sans MS"/>
                        </a:rPr>
                        <a:t>Observed Properties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ff"/>
                          </a:solidFill>
                          <a:latin typeface="Comic Sans MS"/>
                        </a:rPr>
                        <a:t>Oxide Formula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XO</a:t>
                      </a:r>
                      <a:r>
                        <a:rPr b="1" lang="en-US" sz="2000" spc="-1" strike="noStrike" baseline="-25000">
                          <a:solidFill>
                            <a:srgbClr val="ffffff"/>
                          </a:solidFill>
                          <a:latin typeface="Comic Sans MS"/>
                        </a:rPr>
                        <a:t>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GeO</a:t>
                      </a:r>
                      <a:r>
                        <a:rPr b="1" lang="en-US" sz="2000" spc="-1" strike="noStrike" baseline="-25000">
                          <a:solidFill>
                            <a:srgbClr val="ffffff"/>
                          </a:solidFill>
                          <a:latin typeface="Comic Sans MS"/>
                        </a:rPr>
                        <a:t>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ff"/>
                          </a:solidFill>
                          <a:latin typeface="Comic Sans MS"/>
                        </a:rPr>
                        <a:t>Chloride Formula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XCl</a:t>
                      </a:r>
                      <a:r>
                        <a:rPr b="1" lang="en-US" sz="2000" spc="-1" strike="noStrike" baseline="-25000">
                          <a:solidFill>
                            <a:srgbClr val="ffffff"/>
                          </a:solidFill>
                          <a:latin typeface="Comic Sans MS"/>
                        </a:rPr>
                        <a:t>4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GeCl</a:t>
                      </a:r>
                      <a:r>
                        <a:rPr b="1" lang="en-US" sz="2000" spc="-1" strike="noStrike" baseline="-25000">
                          <a:solidFill>
                            <a:srgbClr val="ffffff"/>
                          </a:solidFill>
                          <a:latin typeface="Comic Sans MS"/>
                        </a:rPr>
                        <a:t>4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6T23:21:11Z</dcterms:created>
  <dc:creator>Andrew Allan</dc:creator>
  <dc:description/>
  <dc:language>en-US</dc:language>
  <cp:lastModifiedBy>Cynthia Ahmed</cp:lastModifiedBy>
  <dcterms:modified xsi:type="dcterms:W3CDTF">2017-09-27T12:53:27Z</dcterms:modified>
  <cp:revision>286</cp:revision>
  <dc:subject/>
  <dc:title>PowerPoint Presentation</dc:title>
</cp:coreProperties>
</file>