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20.jpeg" ContentType="image/jpeg"/>
  <Override PartName="/ppt/media/image30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applause.wav" ContentType="audio/x-wav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43.png" ContentType="image/png"/>
  <Override PartName="/ppt/media/image46.jpeg" ContentType="image/jpeg"/>
  <Override PartName="/ppt/media/image53.png" ContentType="image/png"/>
  <Override PartName="/ppt/media/image48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0.png" ContentType="image/png"/>
  <Override PartName="/ppt/media/image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A2D-CBD2-49E2-BEF0-843D5A8EB5A6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B6B-9145-4DB7-95E9-1875B10B7FDC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6DB-ABCC-4152-9BE6-A9EF4A2934A6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774C-7740-4164-A7F3-8B6CFF49952E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6965-87D3-41AE-9F96-3F1C44BC474D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724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695-5F51-45B0-B73B-610A4794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C26-D35E-406A-A00E-5D5C741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56C-4AD8-43FA-B3FE-15338A61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6A1-805F-4A17-BA6C-E3AFA8DF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678-7724-4451-BE16-C636F9E8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1ED-50BC-4042-BB50-4783E9C2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17C-54B7-4076-BCD9-638EEC3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E8A-9B82-4A2E-9C81-41C8C77B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A03-54C3-438A-B074-796DC87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0FB-635F-4AB7-A9FA-631749A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19F-4A70-4DF4-B5C3-15791F9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2DA-5651-4578-B89D-290CDEC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3A6-E21F-42C2-8686-08AC7C19D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hannel/courses/essential/physicalsci/images/s4.dalton.jpg&amp;imgrefurl=http://www.learner.org/channel/courses/essential/physicalsci/session4/closer3.html&amp;h=300&amp;w=300&amp;sz=13&amp;hl=en&amp;start=6&amp;tbnid=EMUJZGzHxbaz0M:&amp;tbnh=116&amp;tbnw=116&amp;prev=/images%3Fq%3DJohn%2BDalton%26gbv%3D2%26svnum%3D10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odwordediting.com/wp-content/uploads/2007/05/albert-einstein-1.jpg&amp;imgrefurl=http://www.goodwordediting.com/%3Fcat%3D21&amp;h=521&amp;w=400&amp;sz=50&amp;hl=en&amp;start=1&amp;um=1&amp;tbnid=4negaiUu6RGPIM:&amp;tbnh=131&amp;tbnw=101&amp;prev=/images%3Fq%3DAlbert%2BEinstein%26gbv%3D2%26svnum%3D10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emistry Chapte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4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7920" y="2286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History of  Chemistry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5" descr="MOLE"/>
          <p:cNvPicPr/>
          <p:nvPr/>
        </p:nvPicPr>
        <p:blipFill>
          <a:blip r:embed="rId1"/>
          <a:stretch/>
        </p:blipFill>
        <p:spPr>
          <a:xfrm>
            <a:off x="5715000" y="1905120"/>
            <a:ext cx="2217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periodically) when the elements are arranged in order of increas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nry Moseley (1887-191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ter more elements were discovered, order of atomic mass wasn’t workin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13:  Discovered atoms have unique number or protons in nucleus and rearranged table in order of atomic numb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iodic 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tatement that there is a periodic repetition of chemical and physical properties of elements when they are arranged by increasing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ic numb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eriodic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218200" y="3276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14800" y="2590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         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5" descr="periodic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761000" y="3808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51240" y="762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914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2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lements classifi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 metals and nonmetal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Zumdahl03_12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6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 of 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1143000"/>
            <a:ext cx="4647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luster (shiny) when smooth and clea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solid @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good conductors of heat and 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malle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ducti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high tensile strengt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cated left of stairste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4" descr="1104"/>
          <p:cNvPicPr/>
          <p:nvPr/>
        </p:nvPicPr>
        <p:blipFill>
          <a:blip r:embed="rId1"/>
          <a:stretch/>
        </p:blipFill>
        <p:spPr>
          <a:xfrm>
            <a:off x="5105520" y="914400"/>
            <a:ext cx="3760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7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pherical atoms packed closely toge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Zumdahl03_17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47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3" descr="pencil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822240" y="179856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, the graphite in “pencil lead” is a great example of a nonmetallic element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28656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are poor conductors of heat and 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tend to be brittle and dull looking if soli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ny nonmetals are gases at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xamples 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3" descr="S"/>
          <p:cNvPicPr/>
          <p:nvPr/>
        </p:nvPicPr>
        <p:blipFill>
          <a:blip r:embed="rId1"/>
          <a:stretch/>
        </p:blipFill>
        <p:spPr>
          <a:xfrm>
            <a:off x="2590920" y="1371600"/>
            <a:ext cx="2114280" cy="174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"/>
          <p:cNvPicPr/>
          <p:nvPr/>
        </p:nvPicPr>
        <p:blipFill>
          <a:blip r:embed="rId2"/>
          <a:stretch/>
        </p:blipFill>
        <p:spPr>
          <a:xfrm>
            <a:off x="48769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OPE"/>
          <p:cNvPicPr/>
          <p:nvPr/>
        </p:nvPicPr>
        <p:blipFill>
          <a:blip r:embed="rId3"/>
          <a:stretch/>
        </p:blipFill>
        <p:spPr>
          <a:xfrm>
            <a:off x="4876920" y="3429000"/>
            <a:ext cx="325260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160020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lfur, 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as once known as “brimston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05720" y="1341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icrospher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hosphorus, 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 reactive nonmeta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35812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phite is not the only pure form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rbon, 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Diamond is also carbon; the color comes from impurities caught within the crystal struc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lotrop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forms of a given elemen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b/c different arrangement of ato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:  diamond, graphite, Buckminsterfullerene (All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ok in your book—p. 105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rst International Congress of Chemis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0 to 70 of 113 elements had been discover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alian chemist Cannizzaro presented method for measurement of atomic mass that all could agree 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Year 1860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3.13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A collection of argon atom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3" descr="Zumdahl03_13"/>
          <p:cNvPicPr/>
          <p:nvPr/>
        </p:nvPicPr>
        <p:blipFill>
          <a:blip r:embed="rId1"/>
          <a:stretch/>
        </p:blipFill>
        <p:spPr>
          <a:xfrm>
            <a:off x="1447920" y="1063800"/>
            <a:ext cx="6248160" cy="533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xygen gas contains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3" descr="Zumdahl03_14b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510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Nitrogen gas contains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3_14a"/>
          <p:cNvPicPr/>
          <p:nvPr/>
        </p:nvPicPr>
        <p:blipFill>
          <a:blip r:embed="rId1"/>
          <a:stretch/>
        </p:blipFill>
        <p:spPr>
          <a:xfrm>
            <a:off x="1752480" y="1542960"/>
            <a:ext cx="560088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able 3.5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3" descr="Table_3-5"/>
          <p:cNvPicPr/>
          <p:nvPr/>
        </p:nvPicPr>
        <p:blipFill>
          <a:blip r:embed="rId1"/>
          <a:stretch/>
        </p:blipFill>
        <p:spPr>
          <a:xfrm>
            <a:off x="343080" y="1582560"/>
            <a:ext cx="8458200" cy="369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between metal and non-metal (semi-conductors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nd in nature only as compou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ce obtained as free metals, are stable in the presence of ai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story of Chemistr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late 1700’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chemists accept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fin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derstood elements combin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various propert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agreed whether compounds are always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rati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happened in 1790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udy of matter was revolutionized by new emphasis 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ded by improv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lanc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asurements were actually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URATE!!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ohn Dalton—Beginning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dern Atomic Theory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glishman from a Quaker family (1766-1844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volutionized chemistry by emphasizing that atoms can hav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weight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and weights can b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asure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ative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pened a school at age 1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lor blind/research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ested in botan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not accepted until 1905 Albert Einstein paper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" name="Picture 7" descr="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lton’s Atomic Theory (1808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35272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of two or more different elements combine to form compounds.  A particular compound is always made up of the same kinds of atoms in the same rati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emical reaction involves the rearrangement, separation, or combination of atoms.  Atoms are neither created nor destroyed during a chemical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4" descr="dalton"/>
          <p:cNvPicPr/>
          <p:nvPr/>
        </p:nvPicPr>
        <p:blipFill>
          <a:blip r:embed="rId1"/>
          <a:stretch/>
        </p:blipFill>
        <p:spPr>
          <a:xfrm>
            <a:off x="0" y="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90920" y="9907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matter is made up of tiny particles called atom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atoms of a given element are similar to one another and different from atoms of other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965160"/>
          <a:ext cx="8153280" cy="4719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atter is made up of tiny  particles called atoms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atoms of a given element are similar to one another and different from atoms of other element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different elements have different numbers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he same element have same 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and 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, but can have different number of 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wo ore more different elements combine to form compounds.  A particular compounds is always made up of the same kinds of atoms in the same ratio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 (Law of Definite Proportion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ohn Newlands (1837-1898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glish chemist that in 1864 proposed an organizational scheme for the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iced properties repeated periodically every 8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“Law of Octave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not work for all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iticized analogy for being “non-scientific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838080"/>
          <a:ext cx="8153280" cy="192096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chemical reaction involves the rearrangement, separation, or combination of atoms.  Atoms are neither created nor destroyed during a chemical reaction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2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presentation of NO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nd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Zumdahl03_0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1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aw of Definite (or Constant) Compos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act that a chemical compound contain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elements in exactly the same propor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mass regardless of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sample 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ompound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is The Modern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mallest particle of an element that retains the properties of the ele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ly seen by STM (Scanning Tunneling microscop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atomic 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523880"/>
          <a:ext cx="7619760" cy="49467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228600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 (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J.Thomson 18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0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bert Milllikan (1910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ss to ch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86x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1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/1840 of 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ctron clou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 (p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son/Goldstein-1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therford 19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7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3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 (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dwick 19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9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5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cover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5800" y="7621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1897, J.J. Thomson used a cathode ray tube to deduce the presence of a negatively charged partic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51055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 tubes pass electricity through a gas that is contained at a very low pres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3" name="Picture 6" descr="cathoderaytube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7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hematic of a cathode ray tub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Zumdahl03_07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7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me Semi-Modern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ho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3" descr="tv"/>
          <p:cNvPicPr/>
          <p:nvPr/>
        </p:nvPicPr>
        <p:blipFill>
          <a:blip r:embed="rId1"/>
          <a:stretch/>
        </p:blipFill>
        <p:spPr>
          <a:xfrm>
            <a:off x="914400" y="1447920"/>
            <a:ext cx="32767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onitor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029200" y="1600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09 – Robert Millikan determines the mass of the electr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4267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il drop apparat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9" descr="millikan-pic"/>
          <p:cNvPicPr/>
          <p:nvPr/>
        </p:nvPicPr>
        <p:blipFill>
          <a:blip r:embed="rId1"/>
          <a:stretch/>
        </p:blipFill>
        <p:spPr>
          <a:xfrm>
            <a:off x="7238880" y="3962520"/>
            <a:ext cx="1600200" cy="22636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4114800" y="4419720"/>
            <a:ext cx="3048120" cy="1447560"/>
          </a:xfrm>
          <a:prstGeom prst="wedgeRoundRectCallout">
            <a:avLst>
              <a:gd name="adj1" fmla="val 70157"/>
              <a:gd name="adj2" fmla="val -111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of the electron i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.1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28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1" descr="oildropapparatus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lusions from the Stud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360" y="16462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s have identical properties regardless of the element used to produce them.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All elements must contain identically charged elec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are neutral, so ther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ust be positive particles in the 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alance the negative charge of the elec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lectrons have so little ma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at atoms must contain other particles that account for most of the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riting a book about the same tim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include new information of atomic mass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find an arrangement for all of the information on the 60-70 eleme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thar Meyer (German chemist) did the same but Mendeleev published fir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mitri Mendeleev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omson’s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380988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omson believed that the electrons were like plums embedded in a positively charged “pudding,” thus it was called the “plum pudding” mod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ased on the following facts:  (1) atoms contain small, negatively charged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2) the atoms of the element behave as if they have no charge at al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plumpudding"/>
          <p:cNvPicPr/>
          <p:nvPr/>
        </p:nvPicPr>
        <p:blipFill>
          <a:blip r:embed="rId1"/>
          <a:stretch/>
        </p:blipFill>
        <p:spPr>
          <a:xfrm>
            <a:off x="5105520" y="83808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jthomson"/>
          <p:cNvPicPr/>
          <p:nvPr/>
        </p:nvPicPr>
        <p:blipFill>
          <a:blip r:embed="rId2"/>
          <a:stretch/>
        </p:blipFill>
        <p:spPr>
          <a:xfrm>
            <a:off x="1523880" y="990720"/>
            <a:ext cx="1905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nest Rutherfor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871-1937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arned physics in JJ Thomson’s lab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much work with alpha particles (+ charged part with mas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famous for hi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OLD FOIL EXPERI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8" descr="rutherford1"/>
          <p:cNvPicPr/>
          <p:nvPr/>
        </p:nvPicPr>
        <p:blipFill>
          <a:blip r:embed="rId1"/>
          <a:stretch/>
        </p:blipFill>
        <p:spPr>
          <a:xfrm>
            <a:off x="1009800" y="1447920"/>
            <a:ext cx="3449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5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Rutherford’s experiment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3" descr="Zumdahl03_05"/>
          <p:cNvPicPr/>
          <p:nvPr/>
        </p:nvPicPr>
        <p:blipFill>
          <a:blip r:embed="rId1"/>
          <a:stretch/>
        </p:blipFill>
        <p:spPr>
          <a:xfrm>
            <a:off x="114480" y="1828800"/>
            <a:ext cx="8915400" cy="29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it Yourself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838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 the following pictures, there is a target hidden by a cloud. To figure out the shape of the target, we shot some beams into the cloud and recorded where the beams came out. Can you figure out the shape of the target?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5" descr="target1"/>
          <p:cNvPicPr/>
          <p:nvPr/>
        </p:nvPicPr>
        <p:blipFill>
          <a:blip r:embed="rId1"/>
          <a:stretch/>
        </p:blipFill>
        <p:spPr>
          <a:xfrm>
            <a:off x="1295280" y="2895480"/>
            <a:ext cx="249264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arget2"/>
          <p:cNvPicPr/>
          <p:nvPr/>
        </p:nvPicPr>
        <p:blipFill>
          <a:blip r:embed="rId2"/>
          <a:stretch/>
        </p:blipFill>
        <p:spPr>
          <a:xfrm>
            <a:off x="5257800" y="2895480"/>
            <a:ext cx="2403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nsw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naked_target1"/>
          <p:cNvPicPr/>
          <p:nvPr/>
        </p:nvPicPr>
        <p:blipFill>
          <a:blip r:embed="rId1"/>
          <a:stretch/>
        </p:blipFill>
        <p:spPr>
          <a:xfrm>
            <a:off x="1371600" y="198108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naked_target2"/>
          <p:cNvPicPr/>
          <p:nvPr/>
        </p:nvPicPr>
        <p:blipFill>
          <a:blip r:embed="rId2"/>
          <a:stretch/>
        </p:blipFill>
        <p:spPr>
          <a:xfrm>
            <a:off x="5410080" y="1981080"/>
            <a:ext cx="2222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66320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62536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2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3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lum Pudding model of an atom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3_03"/>
          <p:cNvPicPr/>
          <p:nvPr/>
        </p:nvPicPr>
        <p:blipFill>
          <a:blip r:embed="rId1"/>
          <a:stretch/>
        </p:blipFill>
        <p:spPr>
          <a:xfrm>
            <a:off x="2133720" y="1523880"/>
            <a:ext cx="5600520" cy="509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5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sults of foil experiment if Plum Pudding model had been correc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3" descr="Zumdahl03_06a"/>
          <p:cNvPicPr/>
          <p:nvPr/>
        </p:nvPicPr>
        <p:blipFill>
          <a:blip r:embed="rId1"/>
          <a:stretch/>
        </p:blipFill>
        <p:spPr>
          <a:xfrm>
            <a:off x="3398760" y="152280"/>
            <a:ext cx="552132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ctual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3" descr="Zumdahl03_06b"/>
          <p:cNvPicPr/>
          <p:nvPr/>
        </p:nvPicPr>
        <p:blipFill>
          <a:blip r:embed="rId1"/>
          <a:stretch/>
        </p:blipFill>
        <p:spPr>
          <a:xfrm>
            <a:off x="1905120" y="1839960"/>
            <a:ext cx="541008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utherford’s Finding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rutherf"/>
          <p:cNvPicPr/>
          <p:nvPr/>
        </p:nvPicPr>
        <p:blipFill>
          <a:blip r:embed="rId1"/>
          <a:stretch/>
        </p:blipFill>
        <p:spPr>
          <a:xfrm>
            <a:off x="304920" y="1509840"/>
            <a:ext cx="2687400" cy="3504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390840" y="4678200"/>
            <a:ext cx="538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smal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den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positively charg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68640" y="277344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particles passed right throug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ew particles were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RY FEW were greatly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819520" y="1523880"/>
            <a:ext cx="5638680" cy="914400"/>
          </a:xfrm>
          <a:prstGeom prst="wedgeRoundRectCallout">
            <a:avLst>
              <a:gd name="adj1" fmla="val -69847"/>
              <a:gd name="adj2" fmla="val 74254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ke cannon balls bouncing off of tissue paper!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7200" y="42973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clusion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believers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bert Einstein when to his grave not totally believing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rding to classical physics, the electron would have collapsed into the nucle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10-1930 began th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um Physics Revolutio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the physics of atomic and subatomic particle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8" descr="albert-einstein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8920" y="1447920"/>
            <a:ext cx="352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tomic Sca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4" descr="atomicscale"/>
          <p:cNvPicPr/>
          <p:nvPr/>
        </p:nvPicPr>
        <p:blipFill>
          <a:blip r:embed="rId1"/>
          <a:stretch/>
        </p:blipFill>
        <p:spPr>
          <a:xfrm>
            <a:off x="5029200" y="685800"/>
            <a:ext cx="3586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65040" y="19512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mass of the atom is in the nucleus (protons and neutro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are found outside of the nucleus (the electron cloud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volume of the atom is empty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53680" y="563868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” is a particle called a “quark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Quark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3" descr="quark"/>
          <p:cNvPicPr/>
          <p:nvPr/>
        </p:nvPicPr>
        <p:blipFill>
          <a:blip r:embed="rId1"/>
          <a:stretch/>
        </p:blipFill>
        <p:spPr>
          <a:xfrm>
            <a:off x="685800" y="1295280"/>
            <a:ext cx="279072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299840" y="292104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ops…wrong Quark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bout Quarks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Picture 3" descr="atom"/>
          <p:cNvPicPr/>
          <p:nvPr/>
        </p:nvPicPr>
        <p:blipFill>
          <a:blip r:embed="rId1"/>
          <a:stretch/>
        </p:blipFill>
        <p:spPr>
          <a:xfrm>
            <a:off x="3733920" y="1143000"/>
            <a:ext cx="5189400" cy="5154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99072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nd neutron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fundamental partic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re made of two “up” quarks and one “down” quark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5040" y="32767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trons are made of one “up” quark and two “down” quark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61440" y="464832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rks are held toge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“glu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768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9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nuclear atom viewed in cross sec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3" descr="Zumdahl03_09"/>
          <p:cNvPicPr/>
          <p:nvPr/>
        </p:nvPicPr>
        <p:blipFill>
          <a:blip r:embed="rId1"/>
          <a:stretch/>
        </p:blipFill>
        <p:spPr>
          <a:xfrm>
            <a:off x="3525840" y="189000"/>
            <a:ext cx="5468760" cy="642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06668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number (Z) of an element is the number of protons in the nucleus of each atom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2438280"/>
          <a:ext cx="6095880" cy="205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#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tomic # (Z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sphor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877320"/>
            <a:ext cx="1447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38080" y="754200"/>
            <a:ext cx="716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4" descr="table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flipV="1">
            <a:off x="457200" y="1523880"/>
            <a:ext cx="2286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sotop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ments occur in nature as mixtures of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sotop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80880" y="25146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that differ in the number of neu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6" descr="isotopes"/>
          <p:cNvPicPr/>
          <p:nvPr/>
        </p:nvPicPr>
        <p:blipFill>
          <a:blip r:embed="rId1"/>
          <a:stretch/>
        </p:blipFill>
        <p:spPr>
          <a:xfrm>
            <a:off x="3870360" y="228600"/>
            <a:ext cx="5273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# and Atomic Mas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he Periodic Law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0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wo isotopes of sodiu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Zumdahl03_10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number is the number of protons and neutrons in the nucleus of an isotop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54680" y="152388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ss # =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+  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2133720"/>
          <a:ext cx="8001000" cy="2209680"/>
        </p:xfrm>
        <a:graphic>
          <a:graphicData uri="http://schemas.openxmlformats.org/drawingml/2006/table">
            <a:tbl>
              <a:tblPr/>
              <a:tblGrid>
                <a:gridCol w="3657600"/>
                <a:gridCol w="990720"/>
                <a:gridCol w="914400"/>
                <a:gridCol w="91440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id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#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ygen 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48"/>
          <p:cNvSpPr/>
          <p:nvPr/>
        </p:nvSpPr>
        <p:spPr>
          <a:xfrm>
            <a:off x="459072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640836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74811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191880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591120" y="327672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rsenic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212508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6338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3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7481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555120" y="38098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Phosphor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6338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63"/>
          <p:cNvSpPr/>
          <p:nvPr/>
        </p:nvSpPr>
        <p:spPr>
          <a:xfrm>
            <a:off x="7481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64"/>
          <p:cNvSpPr/>
          <p:nvPr/>
        </p:nvSpPr>
        <p:spPr>
          <a:xfrm>
            <a:off x="54237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6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Mass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752480"/>
          <a:ext cx="7238880" cy="38102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2362320"/>
                <a:gridCol w="19810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omposition of the 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% in natu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.89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0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2"/>
          <p:cNvSpPr/>
          <p:nvPr/>
        </p:nvSpPr>
        <p:spPr>
          <a:xfrm>
            <a:off x="746280" y="609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mass is the average of all the naturally isotopes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889520" y="1087560"/>
            <a:ext cx="33703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rbon = 12.011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otopes…Ag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must be on the test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having different masses due to varying numbers of neu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752480"/>
          <a:ext cx="7619760" cy="43149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447560"/>
                <a:gridCol w="137160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–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pro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deuter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tri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90" descr="H1"/>
          <p:cNvPicPr/>
          <p:nvPr/>
        </p:nvPicPr>
        <p:blipFill>
          <a:blip r:embed="rId1"/>
          <a:stretch/>
        </p:blipFill>
        <p:spPr>
          <a:xfrm>
            <a:off x="7151760" y="243828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3" descr="H2"/>
          <p:cNvPicPr/>
          <p:nvPr/>
        </p:nvPicPr>
        <p:blipFill>
          <a:blip r:embed="rId2"/>
          <a:stretch/>
        </p:blipFill>
        <p:spPr>
          <a:xfrm>
            <a:off x="7010280" y="358128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7" descr="H3"/>
          <p:cNvPicPr/>
          <p:nvPr/>
        </p:nvPicPr>
        <p:blipFill>
          <a:blip r:embed="rId3"/>
          <a:stretch/>
        </p:blipFill>
        <p:spPr>
          <a:xfrm>
            <a:off x="6934320" y="4724280"/>
            <a:ext cx="1164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% abundance of the Cl-37 isotop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lculate the atomic mass of Chlorin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times more massive is Cl-37 than Cl-35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Chinese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" name="Picture 3" descr="chinesetable"/>
          <p:cNvPicPr/>
          <p:nvPr/>
        </p:nvPicPr>
        <p:blipFill>
          <a:blip r:embed="rId1"/>
          <a:stretch/>
        </p:blipFill>
        <p:spPr>
          <a:xfrm>
            <a:off x="1143000" y="1560600"/>
            <a:ext cx="685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riangular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3" descr="triangle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ayan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eriodic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Picture 3" descr="Mayan"/>
          <p:cNvPicPr/>
          <p:nvPr/>
        </p:nvPicPr>
        <p:blipFill>
          <a:blip r:embed="rId1"/>
          <a:stretch/>
        </p:blipFill>
        <p:spPr>
          <a:xfrm>
            <a:off x="25146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we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Picture 3" descr="stowetable"/>
          <p:cNvPicPr/>
          <p:nvPr/>
        </p:nvPicPr>
        <p:blipFill>
          <a:blip r:embed="rId1"/>
          <a:stretch/>
        </p:blipFill>
        <p:spPr>
          <a:xfrm>
            <a:off x="2308320" y="1393920"/>
            <a:ext cx="452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piral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" name="Picture 3" descr="spiral"/>
          <p:cNvPicPr/>
          <p:nvPr/>
        </p:nvPicPr>
        <p:blipFill>
          <a:blip r:embed="rId1"/>
          <a:stretch/>
        </p:blipFill>
        <p:spPr>
          <a:xfrm>
            <a:off x="1828800" y="533520"/>
            <a:ext cx="6321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3:21:11Z</dcterms:created>
  <dc:creator>Andrew Allan</dc:creator>
  <dc:description/>
  <dc:language>en-US</dc:language>
  <cp:lastModifiedBy>Cynthia Ahmed</cp:lastModifiedBy>
  <dcterms:modified xsi:type="dcterms:W3CDTF">2017-09-27T12:53:27Z</dcterms:modified>
  <cp:revision>286</cp:revision>
  <dc:subject/>
  <dc:title>PowerPoint Presentation</dc:title>
</cp:coreProperties>
</file>