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3.png" ContentType="image/png"/>
  <Override PartName="/ppt/media/image13.jpeg" ContentType="image/jpeg"/>
  <Override PartName="/ppt/media/image24.png" ContentType="image/png"/>
  <Override PartName="/ppt/media/image11.jpeg" ContentType="image/jpeg"/>
  <Override PartName="/ppt/media/image12.png" ContentType="image/png"/>
  <Override PartName="/ppt/media/image33.png" ContentType="image/png"/>
  <Override PartName="/ppt/media/image10.png" ContentType="image/png"/>
  <Override PartName="/ppt/media/image29.png" ContentType="image/png"/>
  <Override PartName="/ppt/media/image32.png" ContentType="image/png"/>
  <Override PartName="/ppt/media/image40.wmf" ContentType="image/x-wmf"/>
  <Override PartName="/ppt/media/image34.jpeg" ContentType="image/jpeg"/>
  <Override PartName="/ppt/media/image37.png" ContentType="image/png"/>
  <Override PartName="/ppt/media/image7.png" ContentType="image/png"/>
  <Override PartName="/ppt/media/image15.wmf" ContentType="image/x-wmf"/>
  <Override PartName="/ppt/media/projctor.wav" ContentType="audio/x-wav"/>
  <Override PartName="/ppt/media/image35.png" ContentType="image/png"/>
  <Override PartName="/ppt/media/explode.wav" ContentType="audio/x-wav"/>
  <Override PartName="/ppt/media/image5.jpeg" ContentType="image/jpeg"/>
  <Override PartName="/ppt/media/image8.png" ContentType="image/png"/>
  <Override PartName="/ppt/media/image38.png" ContentType="image/png"/>
  <Override PartName="/ppt/media/image41.wmf" ContentType="image/x-wmf"/>
  <Override PartName="/ppt/media/image42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628B-9FAA-4151-9C36-CAFE9A5D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B66E-2821-4E93-B7E2-16C85C20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FE31-D384-4130-9456-85A3FEA4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C477-82A8-483F-8228-558EFA0E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9511-E81B-4248-944B-037FB412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1E3C-8357-4048-87D0-2C3DB0DC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55AC-8C58-4102-A639-80409904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8B5D-5D63-44D7-8D38-5D6D7ACD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1EA4-974D-4156-B405-EDE610CE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796D-2C18-4536-B628-6F4BD7C6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0593-06A4-4700-BACA-C1685921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7AD2-742A-4AF7-A6E0-0C92558C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335F-F40D-4864-B41A-C2B462701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hys.washington.edu/~young/116A/lecture/nobel98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y is the sky blue?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emspectrum"/>
          <p:cNvPicPr/>
          <p:nvPr/>
        </p:nvPicPr>
        <p:blipFill>
          <a:blip r:embed="rId1"/>
          <a:stretch/>
        </p:blipFill>
        <p:spPr>
          <a:xfrm>
            <a:off x="11160" y="1011240"/>
            <a:ext cx="9121680" cy="48355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ypes of electromagnetic radiation: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otoelectric Effect (early 1900’s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uld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be explained by the wave theory of ligh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fers to the emission of e’ from a metal when light shines on i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r a given metal, no e’ were emitted if the light was below a certain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ave theory said any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ould supply enough E to eject any e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ight a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articl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900’s German physisist Max Planck studied emission of light by hot object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ggested objects emitted in small specific amounts called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u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the minimum quantity of E that can be lost or gained by an atom.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oposed E = h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 is “Planck’s Constant”  6.626 x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34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J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 are wave-like and particle like properties???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5800" y="1981080"/>
          <a:ext cx="7772400" cy="42753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Wave Properti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article Properti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asurable frequency and wavelength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bsorbed and emitted by matter (photoelectric effect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bility to interfere and diffrac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mission of light by hot object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gnificant feature is repetitive natur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reation of line-emission spectra of element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bert Einstein (1905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ggested dual wave-particle natu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particle carried a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u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instein called these particles “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hot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 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photon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h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each e’ to be removed, must be struck by single photon with minimum E required to knock e’ loos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’ o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etals requi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inimum v to exhibit photoelectric effec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028"/>
          <p:cNvSpPr/>
          <p:nvPr/>
        </p:nvSpPr>
        <p:spPr>
          <a:xfrm>
            <a:off x="2971800" y="1676520"/>
            <a:ext cx="297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  <a:ea typeface="Arial"/>
              </a:rPr>
              <a:t>E</a:t>
            </a:r>
            <a:r>
              <a:rPr b="1" i="1" lang="en-US" sz="3600" spc="-1" strike="noStrike" baseline="-25000">
                <a:solidFill>
                  <a:srgbClr val="ffff00"/>
                </a:solidFill>
                <a:latin typeface="Comic Sans MS"/>
                <a:ea typeface="Arial"/>
              </a:rPr>
              <a:t>photon 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  <a:ea typeface="Arial"/>
              </a:rPr>
              <a:t>= h</a:t>
            </a:r>
            <a:r>
              <a:rPr b="1" i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029"/>
          <p:cNvSpPr/>
          <p:nvPr/>
        </p:nvSpPr>
        <p:spPr>
          <a:xfrm>
            <a:off x="1534320" y="2560680"/>
            <a:ext cx="59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Energy, in units of Joules (kg·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/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032"/>
          <p:cNvSpPr/>
          <p:nvPr/>
        </p:nvSpPr>
        <p:spPr>
          <a:xfrm>
            <a:off x="1658880" y="3200400"/>
            <a:ext cx="57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Planck’s constant (6.626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34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J·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033"/>
          <p:cNvSpPr/>
          <p:nvPr/>
        </p:nvSpPr>
        <p:spPr>
          <a:xfrm>
            <a:off x="1492920" y="3932280"/>
            <a:ext cx="62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frequency, in units of hertz (hz, se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energy (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of electromagnetic radiation is directly proportional to the frequency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of the radiation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ydrogen-Atom Line Emission Spectrum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current is passed through a gas at low P, the potential E of some of the gas atoms increas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roun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lowest E state of an ato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cite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atom has higher potential E than the ground stat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at atom returns to ground state, it gives off E.  (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ne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ight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sults in Hydrogen’s Line Emission Spectrum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721440" y="1447920"/>
            <a:ext cx="55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roduces a “bright line” spect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3" descr="hydrogenspectrum"/>
          <p:cNvPicPr/>
          <p:nvPr/>
        </p:nvPicPr>
        <p:blipFill>
          <a:blip r:embed="rId1"/>
          <a:stretch/>
        </p:blipFill>
        <p:spPr>
          <a:xfrm>
            <a:off x="990720" y="1905120"/>
            <a:ext cx="7211880" cy="36925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pectroscopic analysis of the hydrogen spectrum…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spec"/>
          <p:cNvPicPr/>
          <p:nvPr/>
        </p:nvPicPr>
        <p:blipFill>
          <a:blip r:embed="rId1"/>
          <a:stretch/>
        </p:blipFill>
        <p:spPr>
          <a:xfrm>
            <a:off x="3429000" y="228600"/>
            <a:ext cx="5429160" cy="6095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152280" y="243828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is produces ba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f light with defini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avelength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 transition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volve jumps of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finite amounts of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ergy.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Bohr Model of the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9" name="Picture 3" descr="Bohr"/>
          <p:cNvPicPr/>
          <p:nvPr/>
        </p:nvPicPr>
        <p:blipFill>
          <a:blip r:embed="rId1"/>
          <a:stretch/>
        </p:blipFill>
        <p:spPr>
          <a:xfrm>
            <a:off x="228600" y="990720"/>
            <a:ext cx="216072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441720" y="449568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eils Boh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2590920" y="914400"/>
            <a:ext cx="3200400" cy="3962520"/>
          </a:xfrm>
          <a:prstGeom prst="wedgeRoundRectCallout">
            <a:avLst>
              <a:gd name="adj1" fmla="val -72421"/>
              <a:gd name="adj2" fmla="val -6087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 pictured electrons orbiting the nucleus much like planets orbiting the su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743200" y="312408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But I was wrong! They’re more like bees around a hiv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9" descr="Atom"/>
          <p:cNvPicPr/>
          <p:nvPr/>
        </p:nvPicPr>
        <p:blipFill>
          <a:blip r:embed="rId2"/>
          <a:stretch/>
        </p:blipFill>
        <p:spPr>
          <a:xfrm>
            <a:off x="6095880" y="1066680"/>
            <a:ext cx="2686320" cy="26751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0"/>
          <p:cNvSpPr/>
          <p:nvPr/>
        </p:nvSpPr>
        <p:spPr>
          <a:xfrm>
            <a:off x="6536160" y="38098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RONG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Chemistry Chapter 5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143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rrangement of Electrons in Atom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34120" y="2438280"/>
            <a:ext cx="35208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The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mic Sans MS"/>
                <a:ea typeface="Arial"/>
                <a:hlinkClick r:id="rId1"/>
              </a:rPr>
              <a:t>1998 Nobel Prize in Physics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was awarded "for the discovery of a new form of quantum fluid with fractionally charged excitations." At the left is a computer graphic of this kind of st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5" descr="quantum_mech"/>
          <p:cNvPicPr/>
          <p:nvPr/>
        </p:nvPicPr>
        <p:blipFill>
          <a:blip r:embed="rId2"/>
          <a:stretch/>
        </p:blipFill>
        <p:spPr>
          <a:xfrm>
            <a:off x="533520" y="1981080"/>
            <a:ext cx="46638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ohr’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odel of H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inked an atom’s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’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hoton emiss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id that e’ can circle the nucleus only is specific paths or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rbit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rbits are separated from the nucleus by large empty spaces (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d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 where the e- cannot exist.  (Rungs on a ladder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member,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 increases as e’ are further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om the nucleu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ohr’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odel of H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ile an e’ is in orbit, i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not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ain nor lose 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move to a higher E level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t gains the amount of E = to the difference between the higher E orbit and the lower energy orbi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n falls, it emits a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HOTON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= to the differenc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bsorp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ains E/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miss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ives off 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199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the good with the bad (Bohr’s Model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oo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d scientists to believe a similar model could be applied to all atom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a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ikes!!!  Did not explain the spectra of atoms with more than one e’ or chemical behavior of atoms!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 does a line emission spectrum tell you?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s that e’ 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stantly movin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rom one E level to anoth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s that the distance between the two levels is always the sam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dentification of unknown samp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Wave-like Electr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4" name="Picture 4" descr="broglie"/>
          <p:cNvPicPr/>
          <p:nvPr/>
        </p:nvPicPr>
        <p:blipFill>
          <a:blip r:embed="rId1"/>
          <a:stretch/>
        </p:blipFill>
        <p:spPr>
          <a:xfrm>
            <a:off x="685800" y="1143000"/>
            <a:ext cx="329868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995040" y="579132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ouis deBrogl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4038480" y="1447920"/>
            <a:ext cx="4724640" cy="2590560"/>
          </a:xfrm>
          <a:prstGeom prst="wedgeRoundRectCallout">
            <a:avLst>
              <a:gd name="adj1" fmla="val -66027"/>
              <a:gd name="adj2" fmla="val -430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electron propagates through space as an energy wave. To understand the atom, one must understand the behavior of electromagnetic wav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chrodinger Wave Equati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8" name="Picture 3" descr="schrodinger"/>
          <p:cNvPicPr/>
          <p:nvPr/>
        </p:nvPicPr>
        <p:blipFill>
          <a:blip r:embed="rId1"/>
          <a:stretch/>
        </p:blipFill>
        <p:spPr>
          <a:xfrm>
            <a:off x="609480" y="1523880"/>
            <a:ext cx="2530440" cy="358164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5"/>
          <p:cNvSpPr/>
          <p:nvPr/>
        </p:nvSpPr>
        <p:spPr>
          <a:xfrm>
            <a:off x="2743200" y="1828800"/>
            <a:ext cx="5105520" cy="15238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Object 7"/>
          <p:cNvGraphicFramePr/>
          <p:nvPr/>
        </p:nvGraphicFramePr>
        <p:xfrm>
          <a:off x="3124080" y="1981080"/>
          <a:ext cx="4343400" cy="114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1981080"/>
                    <a:ext cx="434340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8"/>
          <p:cNvSpPr/>
          <p:nvPr/>
        </p:nvSpPr>
        <p:spPr>
          <a:xfrm>
            <a:off x="3565440" y="400860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quation f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robabilit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f a single electron being found along a single axis (x-axi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01400" y="518148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rwin Schroding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1148760" y="655560"/>
            <a:ext cx="78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tanding waves do not propagate through sp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tanding waves are fixed at both e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unpluckedstring"/>
          <p:cNvPicPr/>
          <p:nvPr/>
        </p:nvPicPr>
        <p:blipFill>
          <a:blip r:embed="rId4"/>
          <a:stretch/>
        </p:blipFill>
        <p:spPr>
          <a:xfrm>
            <a:off x="380880" y="1981080"/>
            <a:ext cx="4419720" cy="728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halfwavelength"/>
          <p:cNvPicPr/>
          <p:nvPr/>
        </p:nvPicPr>
        <p:blipFill>
          <a:blip r:embed="rId5"/>
          <a:stretch/>
        </p:blipFill>
        <p:spPr>
          <a:xfrm>
            <a:off x="5257800" y="1905120"/>
            <a:ext cx="3581280" cy="1209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halfswavelength"/>
          <p:cNvPicPr/>
          <p:nvPr/>
        </p:nvPicPr>
        <p:blipFill>
          <a:blip r:embed="rId6"/>
          <a:stretch/>
        </p:blipFill>
        <p:spPr>
          <a:xfrm>
            <a:off x="457200" y="3429000"/>
            <a:ext cx="3657600" cy="1347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3halfswavelength"/>
          <p:cNvPicPr/>
          <p:nvPr/>
        </p:nvPicPr>
        <p:blipFill>
          <a:blip r:embed="rId7"/>
          <a:stretch/>
        </p:blipFill>
        <p:spPr>
          <a:xfrm>
            <a:off x="5257800" y="3429000"/>
            <a:ext cx="3581280" cy="1279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electron as a standing wave: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765360" y="5486400"/>
            <a:ext cx="72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rbital shapes are defined as the surface tha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ontains 90% of the total electron probabilit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 orbital is a region within an atom where the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a probability of finding an electron. This is a probability diagram for the s orbital in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first energy level…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2" name="Picture 7" descr="sprobability"/>
          <p:cNvPicPr/>
          <p:nvPr/>
        </p:nvPicPr>
        <p:blipFill>
          <a:blip r:embed="rId1"/>
          <a:stretch/>
        </p:blipFill>
        <p:spPr>
          <a:xfrm>
            <a:off x="990720" y="2133720"/>
            <a:ext cx="67150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eisenberg Uncertainty Princip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1031"/>
          <p:cNvSpPr/>
          <p:nvPr/>
        </p:nvSpPr>
        <p:spPr>
          <a:xfrm>
            <a:off x="4114800" y="3124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032"/>
          <p:cNvSpPr/>
          <p:nvPr/>
        </p:nvSpPr>
        <p:spPr>
          <a:xfrm>
            <a:off x="5386320" y="441972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1035" descr="Heisenberg_4"/>
          <p:cNvPicPr/>
          <p:nvPr/>
        </p:nvPicPr>
        <p:blipFill>
          <a:blip r:embed="rId1"/>
          <a:stretch/>
        </p:blipFill>
        <p:spPr>
          <a:xfrm>
            <a:off x="380880" y="990720"/>
            <a:ext cx="3060720" cy="414000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1037"/>
          <p:cNvSpPr/>
          <p:nvPr/>
        </p:nvSpPr>
        <p:spPr>
          <a:xfrm>
            <a:off x="3429000" y="914400"/>
            <a:ext cx="5029200" cy="1676520"/>
          </a:xfrm>
          <a:prstGeom prst="wedgeRoundRectCallout">
            <a:avLst>
              <a:gd name="adj1" fmla="val -42138"/>
              <a:gd name="adj2" fmla="val 67236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ne cannot simultaneously determine both the position and momentum of an electron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038"/>
          <p:cNvSpPr/>
          <p:nvPr/>
        </p:nvSpPr>
        <p:spPr>
          <a:xfrm>
            <a:off x="842040" y="5151600"/>
            <a:ext cx="192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er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eisenbe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597240" y="838080"/>
            <a:ext cx="76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rbitals of the same shape (s, for instance) grow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arger as n increases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98760" y="4952880"/>
            <a:ext cx="73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odes are regions of low probability within a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rbit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5" descr="size_of_s_orbitals"/>
          <p:cNvPicPr/>
          <p:nvPr/>
        </p:nvPicPr>
        <p:blipFill>
          <a:blip r:embed="rId1"/>
          <a:stretch/>
        </p:blipFill>
        <p:spPr>
          <a:xfrm>
            <a:off x="1676520" y="1752480"/>
            <a:ext cx="5532480" cy="3222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izes of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 orbital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hat do we know about the atom?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orbital_filling_table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Orbital filling tab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lectron configuration of the elements of the first three serie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6" name="Picture 3" descr="confignotation"/>
          <p:cNvPicPr/>
          <p:nvPr/>
        </p:nvPicPr>
        <p:blipFill>
          <a:blip r:embed="rId1"/>
          <a:stretch/>
        </p:blipFill>
        <p:spPr>
          <a:xfrm>
            <a:off x="92160" y="1905120"/>
            <a:ext cx="90518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Irregular confirmations of Cr and Cu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8" name="Picture 3" descr="Cr_andCu"/>
          <p:cNvPicPr/>
          <p:nvPr/>
        </p:nvPicPr>
        <p:blipFill>
          <a:blip r:embed="rId1"/>
          <a:stretch/>
        </p:blipFill>
        <p:spPr>
          <a:xfrm>
            <a:off x="0" y="1600200"/>
            <a:ext cx="9132840" cy="33717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349640" y="1219320"/>
            <a:ext cx="58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hromium steals a 4s electron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hal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fil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its 3d sub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148200" y="2057400"/>
            <a:ext cx="544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opper steals a 4s electron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FIL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ts 3d sub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1981080" y="2057400"/>
            <a:ext cx="762120" cy="2057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>
            <a:off x="4724280" y="2819520"/>
            <a:ext cx="609840" cy="1295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417600" y="503280"/>
            <a:ext cx="80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orbital has a spherical shape centered aro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origin of the three axes in spa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8120" y="57150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orbital shape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5" name="Picture 6" descr="sorbital"/>
          <p:cNvPicPr/>
          <p:nvPr/>
        </p:nvPicPr>
        <p:blipFill>
          <a:blip r:embed="rId1"/>
          <a:stretch/>
        </p:blipFill>
        <p:spPr>
          <a:xfrm>
            <a:off x="2590920" y="1676520"/>
            <a:ext cx="332424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066680" y="6858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re are three dumbbell-shaped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orbitals 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ach energy level above n = 1, each assigned t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ts own axis (x, y and z) in spa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rbital shap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8" name="Picture 18" descr="p_orbitals"/>
          <p:cNvPicPr/>
          <p:nvPr/>
        </p:nvPicPr>
        <p:blipFill>
          <a:blip r:embed="rId1"/>
          <a:stretch/>
        </p:blipFill>
        <p:spPr>
          <a:xfrm>
            <a:off x="1600200" y="190512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5"/>
          <p:cNvSpPr/>
          <p:nvPr/>
        </p:nvSpPr>
        <p:spPr>
          <a:xfrm>
            <a:off x="4724280" y="45720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ings get a bit more complicated with the fiv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d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rbitals that are found in th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sublevels beginning with n = 3. To remember the shapes, think of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ubl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umbell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095880" y="32767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nd a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umbel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ith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nut”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orbital shapes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2" name="Picture 2" descr="d-orbitals"/>
          <p:cNvPicPr/>
          <p:nvPr/>
        </p:nvPicPr>
        <p:blipFill>
          <a:blip r:embed="rId1"/>
          <a:stretch/>
        </p:blipFill>
        <p:spPr>
          <a:xfrm>
            <a:off x="0" y="304920"/>
            <a:ext cx="46688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hape of f orbital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4" name="Picture 4" descr="f_orbitals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electrons available to be lost, gained, or shared in the formation of chemical compound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alence Electrons hold atoms together in chemical compound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are valence electrons determined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s+p, Roman numerals, count the “main groups”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Valence Electron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r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“Outer Shell Electrons”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radius"/>
          <p:cNvPicPr/>
          <p:nvPr/>
        </p:nvPicPr>
        <p:blipFill>
          <a:blip r:embed="rId1"/>
          <a:stretch/>
        </p:blipFill>
        <p:spPr>
          <a:xfrm>
            <a:off x="1152360" y="1419120"/>
            <a:ext cx="1097280" cy="777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2727360" y="1260360"/>
            <a:ext cx="641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Half of the distance between nuclei i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covalently bonded diatomic molecule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615840" y="1981080"/>
            <a:ext cx="30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"covalent atomic radii"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55840" y="2712960"/>
            <a:ext cx="51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Periodic Trends in Atomic Radi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1219320" y="324648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Radiu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decreases acros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a perio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294280" y="3664080"/>
            <a:ext cx="61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ncreased effective nuclear charge d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+ and e- added to same 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evel (pulls e- closer to the nucleu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371600" y="4815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Radiu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increases dow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a grou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346120" y="5356080"/>
            <a:ext cx="641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ddition of principal E levels caus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valence e- to be further from the nucle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nd increased shield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omic Radius:  The distance between the valence electrons and the nucleus</a:t>
            </a: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radiustable"/>
          <p:cNvPicPr/>
          <p:nvPr/>
        </p:nvPicPr>
        <p:blipFill>
          <a:blip r:embed="rId1"/>
          <a:stretch/>
        </p:blipFill>
        <p:spPr>
          <a:xfrm>
            <a:off x="3052800" y="133200"/>
            <a:ext cx="5862600" cy="6496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able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omic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dii</a:t>
            </a: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80880" y="1676520"/>
            <a:ext cx="8305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Light is made up of fluctuating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electric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n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magneti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 fields that do not require the existence of matt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Visible light is a kind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electromagnetic radi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 (form of E with wavelike behavior as travels through space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ll form of light travel at a speed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3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  <a:ea typeface="Arial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 m/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676520" y="495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What is light?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939960" y="990720"/>
            <a:ext cx="750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ncreases for successive electrons taken fr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same at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066680" y="22543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ends to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increase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cross a peri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362320" y="2792520"/>
            <a:ext cx="674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number of protons increases, which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trengthens the attraction of the nucleu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valence e- and more E is needed t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remov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500120" y="35290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   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295280" y="46483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decreas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down a gro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2133720" y="5029200"/>
            <a:ext cx="589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uter electrons are further from th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ucle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734760"/>
            <a:ext cx="83818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Ionization Energy: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energy required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remov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an   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          electron from an atom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Ionization of Magnesium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530440" y="762120"/>
            <a:ext cx="37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g + 738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559600" y="1219320"/>
            <a:ext cx="41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+ 1451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2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588760" y="1676520"/>
            <a:ext cx="42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2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+ 7733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3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6" descr="Mg"/>
          <p:cNvPicPr/>
          <p:nvPr/>
        </p:nvPicPr>
        <p:blipFill>
          <a:blip r:embed="rId1"/>
          <a:stretch/>
        </p:blipFill>
        <p:spPr>
          <a:xfrm>
            <a:off x="1523880" y="2295360"/>
            <a:ext cx="586764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able of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onization Energi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1" name="Picture 3" descr="1stionization"/>
          <p:cNvPicPr/>
          <p:nvPr/>
        </p:nvPicPr>
        <p:blipFill>
          <a:blip r:embed="rId1"/>
          <a:stretch/>
        </p:blipFill>
        <p:spPr>
          <a:xfrm>
            <a:off x="914400" y="762120"/>
            <a:ext cx="7696080" cy="57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other Way to Look at Ionization Energ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3" name="Picture 3" descr="ionization"/>
          <p:cNvPicPr/>
          <p:nvPr/>
        </p:nvPicPr>
        <p:blipFill>
          <a:blip r:embed="rId1"/>
          <a:stretch/>
        </p:blipFill>
        <p:spPr>
          <a:xfrm>
            <a:off x="1295280" y="914400"/>
            <a:ext cx="70297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943200" y="9907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066680" y="22543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ends to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decrease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cross a peri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421000" y="2971800"/>
            <a:ext cx="635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s the number of protons increases, th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ucleus has more attraction for th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valence electron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447920" y="365760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   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1219320" y="4235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increas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down a gro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133720" y="5029200"/>
            <a:ext cx="589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valence electrons are easier to remove when they are further from the nucleus (less nuclear pull/more shieldi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1312920"/>
            <a:ext cx="80010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030320" y="92376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tallic Character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: A measure of how easily an element loses a valence electr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auli Exclusion Princip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3" name="Picture 4" descr="nobelpauli1"/>
          <p:cNvPicPr/>
          <p:nvPr/>
        </p:nvPicPr>
        <p:blipFill>
          <a:blip r:embed="rId1"/>
          <a:stretch/>
        </p:blipFill>
        <p:spPr>
          <a:xfrm>
            <a:off x="457200" y="1066680"/>
            <a:ext cx="2478240" cy="350532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3048120" y="1371600"/>
            <a:ext cx="4800600" cy="1447920"/>
          </a:xfrm>
          <a:prstGeom prst="wedgeRoundRectCallout">
            <a:avLst>
              <a:gd name="adj1" fmla="val -45337"/>
              <a:gd name="adj2" fmla="val 71162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o two electrons in an atom can have the same four quantum number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819720" y="464832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olfga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aul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Quantum Numb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822240" y="1189080"/>
            <a:ext cx="74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ach electron in an atom has a unique set of 4 quantum numbers which describe i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600200" y="2286000"/>
            <a:ext cx="595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rincipal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ngular momentum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agnetic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pin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incipal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11430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Generally symbolized by n, it denotes the shell (energy level) in which the electron is loc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4" descr="energylevels"/>
          <p:cNvPicPr/>
          <p:nvPr/>
        </p:nvPicPr>
        <p:blipFill>
          <a:blip r:embed="rId1"/>
          <a:stretch/>
        </p:blipFill>
        <p:spPr>
          <a:xfrm>
            <a:off x="5181480" y="2286000"/>
            <a:ext cx="3108600" cy="30178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1066680" y="266688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umber of electrons that can fit in a shel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2308680" y="3657600"/>
            <a:ext cx="8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2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ngular Momentum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533520" y="1523880"/>
            <a:ext cx="7864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angular momentum quantum number, generally symbolized by </a:t>
            </a:r>
            <a:r>
              <a:rPr b="1" i="1" lang="en-US" sz="3600" spc="-1" strike="noStrike">
                <a:solidFill>
                  <a:srgbClr val="ffffff"/>
                </a:solidFill>
                <a:latin typeface="Brush Script MT"/>
                <a:ea typeface="Arial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, denotes the orbital (subshell) in which the electron is loc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6" descr="orbitals"/>
          <p:cNvPicPr/>
          <p:nvPr/>
        </p:nvPicPr>
        <p:blipFill>
          <a:blip r:embed="rId1"/>
          <a:stretch/>
        </p:blipFill>
        <p:spPr>
          <a:xfrm>
            <a:off x="1447920" y="2971800"/>
            <a:ext cx="65530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gnetic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609480" y="1066680"/>
            <a:ext cx="794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magnetic quantum number, generally symbolized by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, denotes the orientation of the electron’s orbital with respect to the three axes in spac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6" descr="magneticqn"/>
          <p:cNvPicPr/>
          <p:nvPr/>
        </p:nvPicPr>
        <p:blipFill>
          <a:blip r:embed="rId1"/>
          <a:stretch/>
        </p:blipFill>
        <p:spPr>
          <a:xfrm>
            <a:off x="609480" y="2743200"/>
            <a:ext cx="81536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ve-Particle Dualit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533520" y="8380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JJ Thomson won the Nobel prize for describing the electron as a particl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33520" y="16765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is son, George Thomson won the Nobel prize for describing the wave-like nature of the electr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jjthomson"/>
          <p:cNvPicPr/>
          <p:nvPr/>
        </p:nvPicPr>
        <p:blipFill>
          <a:blip r:embed="rId1"/>
          <a:stretch/>
        </p:blipFill>
        <p:spPr>
          <a:xfrm>
            <a:off x="228600" y="2819520"/>
            <a:ext cx="2241720" cy="3352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gpthomson"/>
          <p:cNvPicPr/>
          <p:nvPr/>
        </p:nvPicPr>
        <p:blipFill>
          <a:blip r:embed="rId2"/>
          <a:stretch/>
        </p:blipFill>
        <p:spPr>
          <a:xfrm>
            <a:off x="6705720" y="3002040"/>
            <a:ext cx="2274840" cy="32464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7"/>
          <p:cNvSpPr/>
          <p:nvPr/>
        </p:nvSpPr>
        <p:spPr>
          <a:xfrm>
            <a:off x="2362320" y="2666880"/>
            <a:ext cx="2057400" cy="1524240"/>
          </a:xfrm>
          <a:prstGeom prst="wedgeRoundRectCallout">
            <a:avLst>
              <a:gd name="adj1" fmla="val -66356"/>
              <a:gd name="adj2" fmla="val 71666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electron is a particle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4572000" y="2895480"/>
            <a:ext cx="2209680" cy="1600200"/>
          </a:xfrm>
          <a:prstGeom prst="wedgeRoundRectCallout">
            <a:avLst>
              <a:gd name="adj1" fmla="val 104023"/>
              <a:gd name="adj2" fmla="val 63689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electron is an energy wave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pin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457200" y="838080"/>
            <a:ext cx="78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pin quantum number denotes the behavior (direction of spin) of an electron within a magnetic fiel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066680" y="220968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ossibilities for electron spi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Object 7"/>
          <p:cNvGraphicFramePr/>
          <p:nvPr/>
        </p:nvGraphicFramePr>
        <p:xfrm>
          <a:off x="3048120" y="2971800"/>
          <a:ext cx="8841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971800"/>
                    <a:ext cx="8841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8"/>
          <p:cNvGraphicFramePr/>
          <p:nvPr/>
        </p:nvGraphicFramePr>
        <p:xfrm>
          <a:off x="5029200" y="2971800"/>
          <a:ext cx="88596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971800"/>
                    <a:ext cx="8859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ssigning the Numb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762120" y="1066680"/>
            <a:ext cx="76356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rinciple: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n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 shell (perio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ngular Momentum:  </a:t>
            </a:r>
            <a:r>
              <a:rPr b="1" lang="en-US" sz="2400" spc="-1" strike="noStrike">
                <a:solidFill>
                  <a:srgbClr val="ffff00"/>
                </a:solidFill>
                <a:latin typeface="Script MT Bold"/>
                <a:ea typeface="Arial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= shape (s=0, p=1,   d=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agnetic: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m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Script MT Bold"/>
                <a:ea typeface="Arial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 +</a:t>
            </a:r>
            <a:r>
              <a:rPr b="1" lang="en-US" sz="2400" spc="-1" strike="noStrike">
                <a:solidFill>
                  <a:srgbClr val="ffffff"/>
                </a:solidFill>
                <a:latin typeface="Script MT Bold"/>
                <a:ea typeface="Arial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to -</a:t>
            </a:r>
            <a:r>
              <a:rPr b="1" lang="en-US" sz="2400" spc="-1" strike="noStrike">
                <a:solidFill>
                  <a:srgbClr val="ffffff"/>
                </a:solidFill>
                <a:latin typeface="Script MT Bold"/>
                <a:ea typeface="Arial"/>
              </a:rPr>
              <a:t>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Spi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:  +1/2 or – 1/2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hlorin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the orbital not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the electron configur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can we now write the quantum #’s for each e’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lectron Conf. and Quant #’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685800" y="1447920"/>
          <a:ext cx="7772400" cy="554040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111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’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rincipl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shap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</a:t>
                      </a:r>
                      <a:r>
                        <a:rPr b="1" lang="en-US" sz="2000" spc="-1" strike="noStrike" baseline="-25000">
                          <a:solidFill>
                            <a:srgbClr val="ffff00"/>
                          </a:solidFill>
                          <a:latin typeface="Script MT Bold"/>
                        </a:rPr>
                        <a:t>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orientati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spi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’ config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,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,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-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p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,1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-1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p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inciple, angular momentum, and magnetic quantum numbers: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Freestyle Script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and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Freestyle Script"/>
              </a:rPr>
              <a:t>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4" name="Picture 6" descr="orbital_table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ey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erm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roun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lectron Configurations (1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…/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bital Notati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__  __      __ __ __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ufbau Princip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lowest first/periodic guid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und’s Ru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Single e’ before pairing begi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uli Exclus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up/down—no 2 e’ same set of quant. #’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ighest Occupied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ner-Shell e’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oble Gas Notat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nfused??? You’ve Got Company!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9" name="Picture 4" descr="eddington"/>
          <p:cNvPicPr/>
          <p:nvPr/>
        </p:nvPicPr>
        <p:blipFill>
          <a:blip r:embed="rId1"/>
          <a:stretch/>
        </p:blipFill>
        <p:spPr>
          <a:xfrm>
            <a:off x="533520" y="838080"/>
            <a:ext cx="2487600" cy="46389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5"/>
          <p:cNvSpPr/>
          <p:nvPr/>
        </p:nvSpPr>
        <p:spPr>
          <a:xfrm>
            <a:off x="3276720" y="838080"/>
            <a:ext cx="5181480" cy="1752840"/>
          </a:xfrm>
          <a:prstGeom prst="wedgeRoundRectCallout">
            <a:avLst>
              <a:gd name="adj1" fmla="val -68384"/>
              <a:gd name="adj2" fmla="val 90759"/>
              <a:gd name="adj3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o familiar conceptions can be woven around the electron; something unknown is doing we don’t know what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276720" y="3048120"/>
            <a:ext cx="534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hysicist Sir Arthur Eddingt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The Nature of the Physical Wor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193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wave"/>
          <p:cNvPicPr/>
          <p:nvPr/>
        </p:nvPicPr>
        <p:blipFill>
          <a:blip r:embed="rId1"/>
          <a:stretch/>
        </p:blipFill>
        <p:spPr>
          <a:xfrm>
            <a:off x="1981080" y="1447920"/>
            <a:ext cx="4564080" cy="2193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3426840" y="3710160"/>
            <a:ext cx="14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c = </a:t>
            </a:r>
            <a:r>
              <a:rPr b="1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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505880" y="4389480"/>
            <a:ext cx="68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C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 speed of light, a constant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(3.00 x 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  <a:ea typeface="Arial"/>
              </a:rPr>
              <a:t>8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m/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1477080" y="4846680"/>
            <a:ext cx="62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 frequency, in units of hertz (hz, se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1296720" y="533412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 wavelength, in mete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lectromagnetic radiation propagates through space as a wave moving at the speed of light.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(ALL FORMS!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9240" y="0"/>
            <a:ext cx="247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o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aveleng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ow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ow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66600" y="2743200"/>
            <a:ext cx="256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hor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aveleng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igh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igh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mic Sans MS"/>
              </a:rPr>
              <a:t>Wavelength Table</a:t>
            </a: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1" name="Picture 7" descr="natureofwaves"/>
          <p:cNvPicPr/>
          <p:nvPr/>
        </p:nvPicPr>
        <p:blipFill>
          <a:blip r:embed="rId1"/>
          <a:stretch/>
        </p:blipFill>
        <p:spPr>
          <a:xfrm>
            <a:off x="2770200" y="152280"/>
            <a:ext cx="6373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visiblespectrum"/>
          <p:cNvPicPr/>
          <p:nvPr/>
        </p:nvPicPr>
        <p:blipFill>
          <a:blip r:embed="rId1"/>
          <a:stretch/>
        </p:blipFill>
        <p:spPr>
          <a:xfrm>
            <a:off x="685800" y="1676520"/>
            <a:ext cx="7807320" cy="2708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477360" y="1066680"/>
            <a:ext cx="82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roduces all of the colors in a continuous spect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ectroscopic analysis of the visible spectrum…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9T02:06:50Z</dcterms:created>
  <dc:creator>Andy Allan</dc:creator>
  <dc:description/>
  <dc:language>en-US</dc:language>
  <cp:lastModifiedBy>Cynthia Ahmed</cp:lastModifiedBy>
  <dcterms:modified xsi:type="dcterms:W3CDTF">2017-10-23T18:51:55Z</dcterms:modified>
  <cp:revision>252</cp:revision>
  <dc:subject/>
  <dc:title>AP Chemistry Chapter 7</dc:title>
</cp:coreProperties>
</file>