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33.png" ContentType="image/png"/>
  <Override PartName="/ppt/media/image10.png" ContentType="image/png"/>
  <Override PartName="/ppt/media/image29.png" ContentType="image/png"/>
  <Override PartName="/ppt/media/image3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projctor.wav" ContentType="audio/x-wav"/>
  <Override PartName="/ppt/media/image35.png" ContentType="image/png"/>
  <Override PartName="/ppt/media/explode.wav" ContentType="audio/x-wav"/>
  <Override PartName="/ppt/media/image5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351-FAAB-41E6-AB61-341792AB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27F-CE68-4FEE-B816-65D462A5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20D-DB75-4460-B857-90D1C071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2CB-B613-41A7-9CE8-5D0649CE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1ED-D1B0-4D88-99D9-DCBBE25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3AA-63C4-4302-BED3-D61C5AB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3C3-27B6-4DA7-A042-08E5A48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F7B-0B37-4839-92FF-4E52E36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2AB-2729-406F-872A-01FAF679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C52-44A4-4D9C-9902-D492855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D28-8D98-47B5-A424-9A367CD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093-C553-4BEB-9BB5-9A60AD1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A135-944A-466B-8649-D93B7E87C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photo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8"/>
          <p:cNvSpPr/>
          <p:nvPr/>
        </p:nvSpPr>
        <p:spPr>
          <a:xfrm>
            <a:off x="2971800" y="167652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Comic Sans MS"/>
                <a:ea typeface="Arial"/>
              </a:rPr>
              <a:t>photon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ea typeface="Arial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do we know about the atom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valence electrons determin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s+p, Roman numerals, count the “main group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adius"/>
          <p:cNvPicPr/>
          <p:nvPr/>
        </p:nvPicPr>
        <p:blipFill>
          <a:blip r:embed="rId1"/>
          <a:stretch/>
        </p:blipFill>
        <p:spPr>
          <a:xfrm>
            <a:off x="1152360" y="1419120"/>
            <a:ext cx="10972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727360" y="126036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alf of the distance between nuclei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valently bonded diatomic molecu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615840" y="198108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covalent atomic radii"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94280" y="366408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+ and e- added to same 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el (pulls e- closer to the nucle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71600" y="48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46120" y="5356080"/>
            <a:ext cx="64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of principal E levels caus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- to be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in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Radius:  The distance between the valence electrons and the nucleus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62320" y="2792520"/>
            <a:ext cx="67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number of protons increases, whic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rengthens the attraction of the nucle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- and more E is need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mo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00120" y="3529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95280" y="4648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133720" y="5029200"/>
            <a:ext cx="58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34760"/>
            <a:ext cx="8381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nergy require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43200" y="990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de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21000" y="2971800"/>
            <a:ext cx="63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 the number of protons increases,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 has more attraction for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lectr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19320" y="4235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50292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lectrons are easier to remove when they are further from the nucleus (less nuclear pull/more shie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312920"/>
            <a:ext cx="8001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30320" y="923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allic Charac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A measure of how easily an element loses a valence electr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7-10-23T18:51:55Z</dcterms:modified>
  <cp:revision>252</cp:revision>
  <dc:subject/>
  <dc:title>AP Chemistry Chapter 7</dc:title>
</cp:coreProperties>
</file>