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2.png" ContentType="image/png"/>
  <Override PartName="/ppt/media/image33.png" ContentType="image/png"/>
  <Override PartName="/ppt/media/image10.png" ContentType="image/png"/>
  <Override PartName="/ppt/media/image29.png" ContentType="image/png"/>
  <Override PartName="/ppt/media/image32.png" ContentType="image/png"/>
  <Override PartName="/ppt/media/image40.wmf" ContentType="image/x-wmf"/>
  <Override PartName="/ppt/media/image34.jpeg" ContentType="image/jpeg"/>
  <Override PartName="/ppt/media/image37.png" ContentType="image/png"/>
  <Override PartName="/ppt/media/image7.png" ContentType="image/png"/>
  <Override PartName="/ppt/media/image15.wmf" ContentType="image/x-wmf"/>
  <Override PartName="/ppt/media/projctor.wav" ContentType="audio/x-wav"/>
  <Override PartName="/ppt/media/image35.png" ContentType="image/png"/>
  <Override PartName="/ppt/media/explode.wav" ContentType="audio/x-wav"/>
  <Override PartName="/ppt/media/image5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390-94AD-412A-86B2-2D9E2D29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C70-A1B4-4AA1-9368-9112E8AE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40B-2F0E-4A9A-963E-4F27284A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005-94D1-4505-AA23-D52CB259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D9AE-08C3-4ACE-89B4-88A6B855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892-249B-4534-A57C-5D0B1497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E1F-EE13-43F9-9F27-69B8847F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5AE-4B0A-483A-B1A6-32EB32C5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DDF-F33C-4D09-95C0-E1602E65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04B-840B-4DA0-864D-5A3CD753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BB0-991A-436D-9C69-119D392A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59E-3D9C-4B97-AF8F-DA6F3B03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66D3-2CD5-450B-9178-E811DB9FB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photo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8"/>
          <p:cNvSpPr/>
          <p:nvPr/>
        </p:nvSpPr>
        <p:spPr>
          <a:xfrm>
            <a:off x="2971800" y="1676520"/>
            <a:ext cx="29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E</a:t>
            </a:r>
            <a:r>
              <a:rPr b="1" i="1" lang="en-US" sz="3600" spc="-1" strike="noStrike" baseline="-25000">
                <a:solidFill>
                  <a:srgbClr val="ffff00"/>
                </a:solidFill>
                <a:latin typeface="Comic Sans MS"/>
                <a:ea typeface="Arial"/>
              </a:rPr>
              <a:t>photon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ea typeface="Arial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do we know about the atom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8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are valence electrons determin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s+p, Roman numerals, count the “main groups”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adius"/>
          <p:cNvPicPr/>
          <p:nvPr/>
        </p:nvPicPr>
        <p:blipFill>
          <a:blip r:embed="rId1"/>
          <a:stretch/>
        </p:blipFill>
        <p:spPr>
          <a:xfrm>
            <a:off x="1152360" y="1419120"/>
            <a:ext cx="1097280" cy="777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2727360" y="1260360"/>
            <a:ext cx="64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Half of the distance between nuclei 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valently bonded diatomic molecul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615840" y="1981080"/>
            <a:ext cx="30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"covalent atomic radii"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94280" y="3664080"/>
            <a:ext cx="61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+ and e- added to same 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evel (pulls e- closer to the nucleu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371600" y="48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346120" y="5356080"/>
            <a:ext cx="64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ddition of principal E levels caus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- to be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in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Radius:  The distance between the valence electrons and the nucleus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362320" y="2792520"/>
            <a:ext cx="674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number of protons increases, which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rengthens the attraction of the nucleu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- and more E is need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emo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500120" y="3529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295280" y="46483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133720" y="5029200"/>
            <a:ext cx="589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734760"/>
            <a:ext cx="8381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: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nergy require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1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943200" y="990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de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421000" y="2971800"/>
            <a:ext cx="63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s the number of protons increases,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 has more attraction for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lectr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219320" y="4235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133720" y="50292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lectrons are easier to remove when they are further from the nucleus (less nuclear pull/more shield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1312920"/>
            <a:ext cx="80010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030320" y="9237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allic Charact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A measure of how easily an element loses a valence electr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4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7-10-23T18:51:55Z</dcterms:modified>
  <cp:revision>252</cp:revision>
  <dc:subject/>
  <dc:title>AP Chemistry Chapter 7</dc:title>
</cp:coreProperties>
</file>