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explode.wav" ContentType="audio/x-wav"/>
  <Override PartName="/ppt/media/image8.png" ContentType="image/png"/>
  <Override PartName="/ppt/media/image38.png" ContentType="image/png"/>
  <Override PartName="/ppt/media/image42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projctor.wav" ContentType="audio/x-wav"/>
  <Override PartName="/ppt/media/image41.png" ContentType="image/png"/>
  <Override PartName="/ppt/media/image50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51.png" ContentType="image/png"/>
  <Override PartName="/ppt/media/image54.jpeg" ContentType="image/jpeg"/>
  <Override PartName="/ppt/media/image36.wmf" ContentType="image/x-wmf"/>
  <Override PartName="/ppt/media/image52.jpeg" ContentType="image/jpeg"/>
  <Override PartName="/ppt/media/image33.png" ContentType="image/png"/>
  <Override PartName="/ppt/media/image55.png" ContentType="image/png"/>
  <Override PartName="/ppt/media/image35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9.png" ContentType="image/png"/>
  <Override PartName="/ppt/media/image39.png" ContentType="image/png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F27-D7FF-4F59-8FB9-B8E1058F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3DB-1B7A-4F00-AF44-05D53438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63E-9465-42A3-A21E-1B4412C1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5AB-F0AB-4870-83B7-33572632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391-24AC-4D00-A272-59F5BC78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E63-F6EC-43A5-9CB6-B01442D7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66D-0B34-4A56-ACAE-DCED8CA0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F11-7C2B-4998-B6E0-4E913010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A11-7C3B-49DF-A7D3-EB192B45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9E8-889F-4A4A-ADC1-74096CD8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06F-22BF-44CF-A743-EF1833D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109-C011-4D5C-B0D7-91AF0BFB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2A3D-2DBC-499B-8479-D78F17A5C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photon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28"/>
          <p:cNvSpPr/>
          <p:nvPr/>
        </p:nvSpPr>
        <p:spPr>
          <a:xfrm>
            <a:off x="3352680" y="1676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E 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1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uzzle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762120" y="121932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ns and electrons are attracted to each other because of opposite char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ically charged particles moving in a curved path give off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hese facts, atoms don’t collapse (Rutherford’s Model did not explain why!  We need a new model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7"/>
          <p:cNvSpPr/>
          <p:nvPr/>
        </p:nvSpPr>
        <p:spPr>
          <a:xfrm>
            <a:off x="631800" y="503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rbitals in outer energy levels DO penetrate in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er energy level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5576760" y="152388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is a prob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stribution for 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s 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5573160" y="3200400"/>
            <a:ext cx="32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parts of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agram corresp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“nodes” – reg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zero probabilit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1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1033" descr="penetration1"/>
          <p:cNvPicPr/>
          <p:nvPr/>
        </p:nvPicPr>
        <p:blipFill>
          <a:blip r:embed="rId1"/>
          <a:stretch/>
        </p:blipFill>
        <p:spPr>
          <a:xfrm>
            <a:off x="380880" y="1523880"/>
            <a:ext cx="48769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94720" y="426960"/>
            <a:ext cx="74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ich of the orbital types in the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nergy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es not seem to have a “node”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245640" y="2971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760" y="60955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enetration #2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10" descr="penetration2"/>
          <p:cNvPicPr/>
          <p:nvPr/>
        </p:nvPicPr>
        <p:blipFill>
          <a:blip r:embed="rId1"/>
          <a:stretch/>
        </p:blipFill>
        <p:spPr>
          <a:xfrm>
            <a:off x="228600" y="1600200"/>
            <a:ext cx="5715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5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Periodic La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iodicall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n the elements are arranged in order of increasing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2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riodic Table with Group Nam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1" name="Picture 3" descr="periodictable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  n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Alkaline Earth Metal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in grou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m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3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Bor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4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Carbo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itro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Oxygen Fami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7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Fluorine Family(Halogen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8:  n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Noble Gas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rder and denser than s-block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fter and less dense than d-blo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exception of Bismuth, found in nature only as compou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obtained as free metals, that are stable in the presence of 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ansition me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als with typical metallic prope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ss reac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an group 1 or 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are so unreactive that they do not easily form compounds  (e.g. palladium, platinum, and gold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-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tween Group 3 &amp; 4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iny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milar in reactivity to Group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nthanides (period 6)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re earth met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nides (period 7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radioacti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4 have been found naturally, rest are lab m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 block element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radius"/>
          <p:cNvPicPr/>
          <p:nvPr/>
        </p:nvPicPr>
        <p:blipFill>
          <a:blip r:embed="rId1"/>
          <a:stretch/>
        </p:blipFill>
        <p:spPr>
          <a:xfrm>
            <a:off x="1143000" y="990720"/>
            <a:ext cx="1096920" cy="77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2727360" y="1031760"/>
            <a:ext cx="64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alf of the distance between nuclei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valently bonded diatomic molecul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607200" y="198108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covalent atomic radii"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188080" y="3664080"/>
            <a:ext cx="61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 de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141560" y="45417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094120" y="495288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ddition of principal quantum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Determination of Atomic Radius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39600" y="1905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15720" y="236232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in the same quantum level 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 shield as effectively as electron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ner lev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127160" y="38862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209680" y="4495680"/>
            <a:ext cx="58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- the energy required to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982080" y="1646280"/>
            <a:ext cx="67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61200" y="2209680"/>
            <a:ext cx="69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finity 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as you go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2087280" y="30942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perience less nuclear attr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141280" y="4084560"/>
            <a:ext cx="610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me irregularities due to repulsi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s in the relatively small p orbita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Electron Affinit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- the energy change associated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         with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addi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of an electron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able of Electron Affinit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5" name="Picture 3" descr="electronaffinity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onic Radii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552600" y="10666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52200" y="1523880"/>
            <a:ext cx="47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osi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905120" y="19810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maller than the corresponding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00840" y="284472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905120" y="3352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gativel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harged 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5120" y="38862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rger than the correspon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to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Ion Siz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4" name="Picture 3" descr="ionsize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lectronegativity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22240" y="1036800"/>
            <a:ext cx="100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bility of an atom in a chem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ou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trac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electron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same trends as electron affin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523880" y="2286000"/>
            <a:ext cx="70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crease ac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497600" y="2971800"/>
            <a:ext cx="723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egativities ten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ecrease down 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roup or remain the s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electronegative:  4.0 (Pauling sca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rogen,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xygen, an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ogens mo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kali and Alkali Ear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etals least (1.0-0.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lues used in chemical BON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iodic Table of Electronegativiti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2" name="Picture 3" descr="Electronegativity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ation of Periodic Tre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4" name="Picture 3" descr="periodictrends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8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5-04-29T13:31:45Z</dcterms:modified>
  <cp:revision>243</cp:revision>
  <dc:subject/>
  <dc:title>AP Chemistry Chapter 7</dc:title>
</cp:coreProperties>
</file>