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explode.wav" ContentType="audio/x-wav"/>
  <Override PartName="/ppt/media/image8.png" ContentType="image/png"/>
  <Override PartName="/ppt/media/image38.png" ContentType="image/png"/>
  <Override PartName="/ppt/media/image42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projctor.wav" ContentType="audio/x-wav"/>
  <Override PartName="/ppt/media/image41.png" ContentType="image/png"/>
  <Override PartName="/ppt/media/image50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51.png" ContentType="image/png"/>
  <Override PartName="/ppt/media/image54.jpeg" ContentType="image/jpeg"/>
  <Override PartName="/ppt/media/image36.wmf" ContentType="image/x-wmf"/>
  <Override PartName="/ppt/media/image52.jpeg" ContentType="image/jpeg"/>
  <Override PartName="/ppt/media/image33.png" ContentType="image/png"/>
  <Override PartName="/ppt/media/image55.png" ContentType="image/png"/>
  <Override PartName="/ppt/media/image35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9.png" ContentType="image/png"/>
  <Override PartName="/ppt/media/image39.png" ContentType="image/pn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CDD-0F72-4B97-81BF-D96C8359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E69-8C4D-4302-BF6F-67F1BA1D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371-5862-4444-AB08-1922855B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66F-C663-4381-91B0-F1D2B859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C76-BE34-4F73-8134-DC8A8DDD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EC6-B904-40A5-B047-F5012EF4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6F6-B041-40A1-BBD5-43EE6E11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FF6-9C28-4D70-83F9-519A454F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25D-075B-4938-9219-C2F5608A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E55-A1CC-45E9-A85E-F3066F3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194-0562-498E-9F0F-762DCE2F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04C-5D40-4D6C-8907-8A1F3EC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00B-E71A-4317-B88E-5C03293F2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photon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28"/>
          <p:cNvSpPr/>
          <p:nvPr/>
        </p:nvSpPr>
        <p:spPr>
          <a:xfrm>
            <a:off x="33526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E 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1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uzzle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1932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ns and electrons are attracted to each other because of opposite char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ly charged particles moving in a curved path give off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hese facts, atoms don’t collapse (Rutherford’s Model did not explain why!  We need a new model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7"/>
          <p:cNvSpPr/>
          <p:nvPr/>
        </p:nvSpPr>
        <p:spPr>
          <a:xfrm>
            <a:off x="631800" y="503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in outer energy levels DO penetrate i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er energy level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5576760" y="152388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a prob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tribution for 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s 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5573160" y="320040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parts of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agram corresp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“nodes” – reg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zero probabilit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1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1033" descr="penetration1"/>
          <p:cNvPicPr/>
          <p:nvPr/>
        </p:nvPicPr>
        <p:blipFill>
          <a:blip r:embed="rId1"/>
          <a:stretch/>
        </p:blipFill>
        <p:spPr>
          <a:xfrm>
            <a:off x="380880" y="1523880"/>
            <a:ext cx="48769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94720" y="426960"/>
            <a:ext cx="74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ich of the orbital types in 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nergy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es not seem to have a “node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24564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760" y="60955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2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0" descr="penetration2"/>
          <p:cNvPicPr/>
          <p:nvPr/>
        </p:nvPicPr>
        <p:blipFill>
          <a:blip r:embed="rId1"/>
          <a:stretch/>
        </p:blipFill>
        <p:spPr>
          <a:xfrm>
            <a:off x="228600" y="1600200"/>
            <a:ext cx="5715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Periodic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iodicall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n the elements are arranged in order of increasing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iodic Table with Group Nam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Picture 3" descr="periodictable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ne Earth Metal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Bor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Carb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itro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Oxy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Fluorine Family(Halogen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oble Gas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der and denser than s-block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fter and less dense than d-blo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exception of Bismuth, found in nature only as compou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obtained as free metals, that are stable in the presence of 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ition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s with typical metallic prope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reac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an group 1 or 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are so unreactive that they do not easily form compounds  (e.g. palladium, platinum, and gol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tween Group 3 &amp; 4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iny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ilar in reactivity to Group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nthanides (period 6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re earth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nides (period 7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adioact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4 have been found naturally, rest are lab m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 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radius"/>
          <p:cNvPicPr/>
          <p:nvPr/>
        </p:nvPicPr>
        <p:blipFill>
          <a:blip r:embed="rId1"/>
          <a:stretch/>
        </p:blipFill>
        <p:spPr>
          <a:xfrm>
            <a:off x="1143000" y="990720"/>
            <a:ext cx="1096920" cy="77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727360" y="1031760"/>
            <a:ext cx="64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lf of the distance between nuclei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valently bonded diatomic molecu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607200" y="19810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covalent atomic radii"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188080" y="3664080"/>
            <a:ext cx="61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de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141560" y="45417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94120" y="495288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dition of principal quantum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Determination of Atomic Radius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39600" y="1905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15720" y="236232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in the same quantum level 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shield as effectively as electron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er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127160" y="38862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09680" y="4495680"/>
            <a:ext cx="58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- the energy required to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82080" y="1646280"/>
            <a:ext cx="67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61200" y="220968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as you go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087280" y="30942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perience less nuclear attr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141280" y="4084560"/>
            <a:ext cx="610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irregularities due to repuls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s in the relatively small p orbit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Electron Affinit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- the energy change associated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with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addi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of an electron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able of Electron Affinit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Picture 3" descr="electronaffinity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ic Radii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52600" y="10666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52200" y="1523880"/>
            <a:ext cx="47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i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905120" y="19810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maller than the corresponding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00840" y="284472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905120" y="3352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ga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5120" y="3886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rger than the correspon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Ion Siz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3" descr="ionsize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lectronegativity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22240" y="1036800"/>
            <a:ext cx="100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bility of an atom in a chem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ou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tra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lectron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same trends as electron affin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2286000"/>
            <a:ext cx="70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97600" y="2971800"/>
            <a:ext cx="723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down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roup or remain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electronegative:  4.0 (Pauling sca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rogen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ygen, an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ogens mo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kali and Alkali Ear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tals least (1.0-0.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ues used in chemical BO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iodic Table of Electronegativiti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3" descr="Electronegativity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ation of Periodic Tre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Picture 3" descr="periodictrends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8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5-04-29T13:31:45Z</dcterms:modified>
  <cp:revision>243</cp:revision>
  <dc:subject/>
  <dc:title>AP Chemistry Chapter 7</dc:title>
</cp:coreProperties>
</file>