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6A0-68CD-49BE-B6F3-9E3972BA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D12-9DC0-4054-B36D-E9D08EAD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BF5-31F8-4C1C-9E5B-FFECA5A9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3A2-22BB-42CA-81DE-F260D65D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6BF-D7A4-4D69-92F3-FB8AF13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AA8-D3C3-44DF-8BA9-41BB9B9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3D6-6BC8-4ECD-A9A2-D1095DA8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BCE-2D47-40C5-A9C6-48EC1ED9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860-5F8D-4985-B085-FA26D56D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96F-6D55-4BB6-AB37-8E55C7F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D29-09B5-454B-A310-8B5F05B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805-A8B3-457A-A59D-269E33B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500-456B-4EA7-807D-FC3ECDA7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5-04-29T13:31:45Z</dcterms:modified>
  <cp:revision>243</cp:revision>
  <dc:subject/>
  <dc:title>AP Chemistry Chapter 7</dc:title>
</cp:coreProperties>
</file>