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A5A-40B2-4B7D-98FF-B8974EE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BEF-2F5F-432C-82E4-2C8D0C15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0C0-B4AC-4AFF-BDC2-9DAA8A13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343-8088-4C65-B9D1-3328CFB5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625-CE37-4FA1-9AA9-1D7152F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A0F-9939-4A06-AE74-A7EB1DC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23A-BA1C-45DB-BC53-7A5CDF8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D14-DB5A-47AD-98FC-854378F3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FE2-AB69-4725-A9E7-2F73BFC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762-83A0-4E42-85EF-78DDD4C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B29-F3A7-48E8-92B5-35D882B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0FF-BD0D-4456-9697-E7D58B5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D30-0919-47D1-827D-CB9E60291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5-04-29T13:31:45Z</dcterms:modified>
  <cp:revision>243</cp:revision>
  <dc:subject/>
  <dc:title>AP Chemistry Chapter 7</dc:title>
</cp:coreProperties>
</file>