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837-6E06-4CF0-84CF-64BB70CC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AD7-F5B6-4D97-8CCF-7BCB9F4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811-42F4-4451-B6D8-E0316920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203-C597-4DE2-A88B-9F5191A6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D6F-D849-4EC5-88DA-A7EFE8FF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7B1-E11E-4657-BFD0-EABAD131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A0B-3396-45F9-8E73-BE83D986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D36-3BD6-4898-9EF5-02775A15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F6F-12BA-4A4E-8359-468DE271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F1F-8B21-4670-ABDE-9EC0A40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1B8-CA87-4C4E-9A37-4B1A1AF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C2E-5F12-4CEC-85FD-D64A00A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D03E-7AAF-4C47-9FB5-41E5DAB3A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2-05-04T01:36:15Z</dcterms:modified>
  <cp:revision>242</cp:revision>
  <dc:subject/>
  <dc:title>AP Chemistry Chapter 7</dc:title>
</cp:coreProperties>
</file>