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explode.wav" ContentType="audio/x-wav"/>
  <Override PartName="/ppt/media/image8.png" ContentType="image/png"/>
  <Override PartName="/ppt/media/image38.png" ContentType="image/png"/>
  <Override PartName="/ppt/media/image42.png" ContentType="image/png"/>
  <Override PartName="/ppt/media/image34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projctor.wav" ContentType="audio/x-wav"/>
  <Override PartName="/ppt/media/image41.png" ContentType="image/png"/>
  <Override PartName="/ppt/media/image50.jpeg" ContentType="image/jpeg"/>
  <Override PartName="/ppt/media/image48.jpeg" ContentType="image/jpeg"/>
  <Override PartName="/ppt/media/image53.jpeg" ContentType="image/jpeg"/>
  <Override PartName="/ppt/media/image43.png" ContentType="image/png"/>
  <Override PartName="/ppt/media/image51.png" ContentType="image/png"/>
  <Override PartName="/ppt/media/image54.jpeg" ContentType="image/jpeg"/>
  <Override PartName="/ppt/media/image36.wmf" ContentType="image/x-wmf"/>
  <Override PartName="/ppt/media/image52.jpeg" ContentType="image/jpeg"/>
  <Override PartName="/ppt/media/image33.png" ContentType="image/png"/>
  <Override PartName="/ppt/media/image55.png" ContentType="image/png"/>
  <Override PartName="/ppt/media/image35.wmf" ContentType="image/x-wmf"/>
  <Override PartName="/ppt/media/image29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9.png" ContentType="image/png"/>
  <Override PartName="/ppt/media/image39.png" ContentType="image/png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162-8B16-485F-92D5-987D72FE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7A1-EA47-4235-A144-849D57DE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CC0-81FC-4B51-9801-7A0D7DC5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A5B-E4A4-4D16-9633-9E99FE7C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108-4838-4831-9C85-B7F38E5F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3F12-5622-4803-BA3F-8EA98D0A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C70-0DD0-4333-B5F7-F975606D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CEE-1AF8-49AE-9D0D-0DA001E9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F66-07F0-4B82-A64E-136D6403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3A6-8C9D-467B-BED9-DB86068C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ED5-5170-4BDE-B25A-3598060A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1CE-83C6-40FA-B407-9487B3B9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4971-D506-4800-8233-681018792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ys.washington.edu/~young/116A/lecture/nobel98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y is the sky blue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ght a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00’s German physisist Max Planck studied emission of light by hot obj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objects emitted in small specific amounts 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the minimum quantity of E that can be lost or gained by an atom.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oposed E = h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is “Planck’s Constant”  6.626 x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3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J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028"/>
          <p:cNvSpPr/>
          <p:nvPr/>
        </p:nvSpPr>
        <p:spPr>
          <a:xfrm>
            <a:off x="3352680" y="1676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E = h</a:t>
            </a:r>
            <a:r>
              <a:rPr b="1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1534320" y="2560680"/>
            <a:ext cx="59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Energy, in units of Joules (kg·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/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032"/>
          <p:cNvSpPr/>
          <p:nvPr/>
        </p:nvSpPr>
        <p:spPr>
          <a:xfrm>
            <a:off x="1658880" y="320040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Planck’s constant (6.626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3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J·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033"/>
          <p:cNvSpPr/>
          <p:nvPr/>
        </p:nvSpPr>
        <p:spPr>
          <a:xfrm>
            <a:off x="1492920" y="393228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energy (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electromagnetic radiation is directly proportional to the frequency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the radia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otoelectric Effect (early 1900’s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l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e explained by the wave theory of ligh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s to the emission of e’ from a metal when light shines on i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a given metal, no e’ were emitted if the light was below a certain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ve theory said any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uld supply enough E to eject any e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are wave-like and particle like properties??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1981080"/>
          <a:ext cx="7772400" cy="4275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av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asurable frequency and waveleng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sorbed and emitted by matter (photoelectric effect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ility to interfere and diffra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mission of light by hot objec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ificant feature is repetitive natur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eation of line-emission spectra of elemen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bert Einstein (190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dual wave-particle n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particle carried 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instein called these particles “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hot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 photon = h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e’ to be removed, must be struck by single photon with minimum E required to knock e’ loo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’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etals requi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inimum v to exhibit photoelectric effec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-Atom Line Emission Spectrum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current is passed through a gas at low P, the potential E of some of the gas atoms increas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lowest E state of an at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cite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tom has higher potential E than the ground st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t atom returns to ground state, it gives off E.  (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ne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igh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sults in Hydrogen’s Line Emission Spectrum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21440" y="144792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duces a “bright line”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hydrogenspectrum"/>
          <p:cNvPicPr/>
          <p:nvPr/>
        </p:nvPicPr>
        <p:blipFill>
          <a:blip r:embed="rId1"/>
          <a:stretch/>
        </p:blipFill>
        <p:spPr>
          <a:xfrm>
            <a:off x="990720" y="1905120"/>
            <a:ext cx="7211880" cy="3692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troscopic analysis of the hydrogen spectrum…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pec"/>
          <p:cNvPicPr/>
          <p:nvPr/>
        </p:nvPicPr>
        <p:blipFill>
          <a:blip r:embed="rId1"/>
          <a:stretch/>
        </p:blipFill>
        <p:spPr>
          <a:xfrm>
            <a:off x="3429000" y="228600"/>
            <a:ext cx="5429160" cy="609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52280" y="24382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produces b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light with defin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 transit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volve jumps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finite amounts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ergy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Bohr Model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6" name="Picture 3" descr="Bohr"/>
          <p:cNvPicPr/>
          <p:nvPr/>
        </p:nvPicPr>
        <p:blipFill>
          <a:blip r:embed="rId1"/>
          <a:stretch/>
        </p:blipFill>
        <p:spPr>
          <a:xfrm>
            <a:off x="228600" y="99072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41720" y="4495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ils Boh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2590920" y="914400"/>
            <a:ext cx="3200400" cy="3962520"/>
          </a:xfrm>
          <a:prstGeom prst="wedgeRoundRectCallout">
            <a:avLst>
              <a:gd name="adj1" fmla="val -72421"/>
              <a:gd name="adj2" fmla="val -6087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 pictured electrons orbiting the nucleus much like planets orbiting the su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743200" y="31240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ut I was wrong! They’re more like bees around a h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Atom"/>
          <p:cNvPicPr/>
          <p:nvPr/>
        </p:nvPicPr>
        <p:blipFill>
          <a:blip r:embed="rId2"/>
          <a:stretch/>
        </p:blipFill>
        <p:spPr>
          <a:xfrm>
            <a:off x="6095880" y="1066680"/>
            <a:ext cx="2686320" cy="2675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6536160" y="3809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RONG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does a line emission spectrum tell you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e’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stantly movin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one E level to anoth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the distance between the two levels is always the sam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dentification of unknown s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11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rangement of Electrons in Ato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4120" y="2438280"/>
            <a:ext cx="35208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1998 Nobel Prize in Physics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as awarded "for the discovery of a new form of quantum fluid with fractionally charged excitations." At the left is a computer graphic of this kind of st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quantum_mech"/>
          <p:cNvPicPr/>
          <p:nvPr/>
        </p:nvPicPr>
        <p:blipFill>
          <a:blip r:embed="rId2"/>
          <a:stretch/>
        </p:blipFill>
        <p:spPr>
          <a:xfrm>
            <a:off x="533520" y="1981080"/>
            <a:ext cx="4663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ed an atom’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’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emi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id that e’ can circle the nucleus only is specific paths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bi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bits are separated from the nucleus by large empty spac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d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re the e- cannot exist.  (Rungs on a ladder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,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 increases as e’ are furth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the nucle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ile an e’ is in orbit, 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no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in nor lose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move to a higher E leve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 gains the amount of E = to the difference between the higher E orbit and the lower energy orb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falls, it emits 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 to the differ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bsorp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ains E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s off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the good with the bad (Bohr’s Model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o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d scientists to believe a similar model could be applied to all atom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ikes!!!  Did not explain the spectra of atoms with more than one e’ or chemical behavior of atoms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Wave-lik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4" descr="broglie"/>
          <p:cNvPicPr/>
          <p:nvPr/>
        </p:nvPicPr>
        <p:blipFill>
          <a:blip r:embed="rId1"/>
          <a:stretch/>
        </p:blipFill>
        <p:spPr>
          <a:xfrm>
            <a:off x="685800" y="1143000"/>
            <a:ext cx="3298680" cy="4572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99504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uis deBrogl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4038480" y="1447920"/>
            <a:ext cx="4724640" cy="2590560"/>
          </a:xfrm>
          <a:prstGeom prst="wedgeRoundRectCallout">
            <a:avLst>
              <a:gd name="adj1" fmla="val -66027"/>
              <a:gd name="adj2" fmla="val -43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propagates through space as an energy wave. To understand the atom, one must understand the behavior of electromagnetic wav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chrodinger Wave Equa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Picture 3" descr="schrodinger"/>
          <p:cNvPicPr/>
          <p:nvPr/>
        </p:nvPicPr>
        <p:blipFill>
          <a:blip r:embed="rId1"/>
          <a:stretch/>
        </p:blipFill>
        <p:spPr>
          <a:xfrm>
            <a:off x="609480" y="1523880"/>
            <a:ext cx="2530440" cy="358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>
            <a:off x="2743200" y="1828800"/>
            <a:ext cx="51055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7"/>
          <p:cNvGraphicFramePr/>
          <p:nvPr/>
        </p:nvGraphicFramePr>
        <p:xfrm>
          <a:off x="3124080" y="1981080"/>
          <a:ext cx="4343400" cy="11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1981080"/>
                    <a:ext cx="43434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8"/>
          <p:cNvSpPr/>
          <p:nvPr/>
        </p:nvSpPr>
        <p:spPr>
          <a:xfrm>
            <a:off x="3565440" y="400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quation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f a single electron being found along a single axis (x-ax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01400" y="51814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rwin Schrodin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148760" y="655560"/>
            <a:ext cx="78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nding waves do not propagate through sp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nding waves are fixed at both 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unpluckedstring"/>
          <p:cNvPicPr/>
          <p:nvPr/>
        </p:nvPicPr>
        <p:blipFill>
          <a:blip r:embed="rId4"/>
          <a:stretch/>
        </p:blipFill>
        <p:spPr>
          <a:xfrm>
            <a:off x="380880" y="1981080"/>
            <a:ext cx="4419720" cy="7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alfwavelength"/>
          <p:cNvPicPr/>
          <p:nvPr/>
        </p:nvPicPr>
        <p:blipFill>
          <a:blip r:embed="rId5"/>
          <a:stretch/>
        </p:blipFill>
        <p:spPr>
          <a:xfrm>
            <a:off x="5257800" y="1905120"/>
            <a:ext cx="3581280" cy="120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halfswavelength"/>
          <p:cNvPicPr/>
          <p:nvPr/>
        </p:nvPicPr>
        <p:blipFill>
          <a:blip r:embed="rId6"/>
          <a:stretch/>
        </p:blipFill>
        <p:spPr>
          <a:xfrm>
            <a:off x="457200" y="3429000"/>
            <a:ext cx="3657600" cy="134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3halfswavelength"/>
          <p:cNvPicPr/>
          <p:nvPr/>
        </p:nvPicPr>
        <p:blipFill>
          <a:blip r:embed="rId7"/>
          <a:stretch/>
        </p:blipFill>
        <p:spPr>
          <a:xfrm>
            <a:off x="5257800" y="3429000"/>
            <a:ext cx="3581280" cy="1279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 as a standing wave: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765360" y="5486400"/>
            <a:ext cx="72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 shapes are defined as the surface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ains 90% of the total electron prob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bital is a region within an atom where t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probability of finding an electron. This is a probability diagram for the s orbital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irst energy level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7" descr="sprobability"/>
          <p:cNvPicPr/>
          <p:nvPr/>
        </p:nvPicPr>
        <p:blipFill>
          <a:blip r:embed="rId1"/>
          <a:stretch/>
        </p:blipFill>
        <p:spPr>
          <a:xfrm>
            <a:off x="990720" y="2133720"/>
            <a:ext cx="67150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Text Box 1031"/>
          <p:cNvSpPr/>
          <p:nvPr/>
        </p:nvSpPr>
        <p:spPr>
          <a:xfrm>
            <a:off x="4114800" y="3124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032"/>
          <p:cNvSpPr/>
          <p:nvPr/>
        </p:nvSpPr>
        <p:spPr>
          <a:xfrm>
            <a:off x="5386320" y="4419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035" descr="Heisenberg_4"/>
          <p:cNvPicPr/>
          <p:nvPr/>
        </p:nvPicPr>
        <p:blipFill>
          <a:blip r:embed="rId1"/>
          <a:stretch/>
        </p:blipFill>
        <p:spPr>
          <a:xfrm>
            <a:off x="380880" y="990720"/>
            <a:ext cx="3060720" cy="4140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37"/>
          <p:cNvSpPr/>
          <p:nvPr/>
        </p:nvSpPr>
        <p:spPr>
          <a:xfrm>
            <a:off x="3429000" y="914400"/>
            <a:ext cx="5029200" cy="1676520"/>
          </a:xfrm>
          <a:prstGeom prst="wedgeRoundRectCallout">
            <a:avLst>
              <a:gd name="adj1" fmla="val -42138"/>
              <a:gd name="adj2" fmla="val 6723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e cannot simultaneously determine both the position and momentum of an electro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38"/>
          <p:cNvSpPr/>
          <p:nvPr/>
        </p:nvSpPr>
        <p:spPr>
          <a:xfrm>
            <a:off x="842040" y="515160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r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isenbe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97240" y="838080"/>
            <a:ext cx="76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of the same shape (s, for instance) grow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rger as n increase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8760" y="495288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des are regions of low probability within 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size_of_s_orbitals"/>
          <p:cNvPicPr/>
          <p:nvPr/>
        </p:nvPicPr>
        <p:blipFill>
          <a:blip r:embed="rId1"/>
          <a:stretch/>
        </p:blipFill>
        <p:spPr>
          <a:xfrm>
            <a:off x="1676520" y="1752480"/>
            <a:ext cx="5532480" cy="3222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izes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17600" y="503280"/>
            <a:ext cx="80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rbital has a spherical shape centered a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origin of the three axes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8120" y="57150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2" name="Picture 6" descr="sorbital"/>
          <p:cNvPicPr/>
          <p:nvPr/>
        </p:nvPicPr>
        <p:blipFill>
          <a:blip r:embed="rId1"/>
          <a:stretch/>
        </p:blipFill>
        <p:spPr>
          <a:xfrm>
            <a:off x="2590920" y="1676520"/>
            <a:ext cx="33242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Puzzle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762120" y="121932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ns and electrons are attracted to each other because of opposite char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ically charged particles moving in a curved path give off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pite these facts, atoms don’t collapse (Rutherford’s Model did not explain why!  We need a new model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66680" y="685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re are three dumbbell-shaped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rbital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ach energy level above n = 1, each assign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own axis (x, y and z)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rbital shap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18" descr="p_orbitals"/>
          <p:cNvPicPr/>
          <p:nvPr/>
        </p:nvPicPr>
        <p:blipFill>
          <a:blip r:embed="rId1"/>
          <a:stretch/>
        </p:blipFill>
        <p:spPr>
          <a:xfrm>
            <a:off x="16002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724280" y="4572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ngs get a bit more complicated with the fiv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that are found in 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sublevels beginning with n = 3. To remember the shapes, think of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bl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bel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095880" y="3276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d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bel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ut”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s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2" descr="d-orbitals"/>
          <p:cNvPicPr/>
          <p:nvPr/>
        </p:nvPicPr>
        <p:blipFill>
          <a:blip r:embed="rId1"/>
          <a:stretch/>
        </p:blipFill>
        <p:spPr>
          <a:xfrm>
            <a:off x="0" y="304920"/>
            <a:ext cx="4668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hape of f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Picture 4" descr="f_orbitals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lectron configuration of the elements of the first three ser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Picture 3" descr="confignotation"/>
          <p:cNvPicPr/>
          <p:nvPr/>
        </p:nvPicPr>
        <p:blipFill>
          <a:blip r:embed="rId1"/>
          <a:stretch/>
        </p:blipFill>
        <p:spPr>
          <a:xfrm>
            <a:off x="92160" y="1905120"/>
            <a:ext cx="905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rregular confirmations of Cr and Cu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3" descr="Cr_andCu"/>
          <p:cNvPicPr/>
          <p:nvPr/>
        </p:nvPicPr>
        <p:blipFill>
          <a:blip r:embed="rId1"/>
          <a:stretch/>
        </p:blipFill>
        <p:spPr>
          <a:xfrm>
            <a:off x="0" y="1600200"/>
            <a:ext cx="9132840" cy="33717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349640" y="121932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romium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a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148200" y="2057400"/>
            <a:ext cx="54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pper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981080" y="2057400"/>
            <a:ext cx="76212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4724280" y="2819520"/>
            <a:ext cx="609840" cy="1295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uli Exclusion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4" descr="nobelpauli1"/>
          <p:cNvPicPr/>
          <p:nvPr/>
        </p:nvPicPr>
        <p:blipFill>
          <a:blip r:embed="rId1"/>
          <a:stretch/>
        </p:blipFill>
        <p:spPr>
          <a:xfrm>
            <a:off x="457200" y="1066680"/>
            <a:ext cx="2478240" cy="350532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5"/>
          <p:cNvSpPr/>
          <p:nvPr/>
        </p:nvSpPr>
        <p:spPr>
          <a:xfrm>
            <a:off x="3048120" y="1371600"/>
            <a:ext cx="4800600" cy="1447920"/>
          </a:xfrm>
          <a:prstGeom prst="wedgeRoundRectCallout">
            <a:avLst>
              <a:gd name="adj1" fmla="val -45337"/>
              <a:gd name="adj2" fmla="val 71162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two electrons in an atom can have the same four quantum numb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19720" y="46483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olfga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u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ntum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822240" y="118908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ach electron in an atom has a unique set of 4 quantum numbers which describe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00200" y="228600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90720" y="1143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enerally symbolized by n, it denotes the shell (energy leve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energylevels"/>
          <p:cNvPicPr/>
          <p:nvPr/>
        </p:nvPicPr>
        <p:blipFill>
          <a:blip r:embed="rId1"/>
          <a:stretch/>
        </p:blipFill>
        <p:spPr>
          <a:xfrm>
            <a:off x="5181480" y="2286000"/>
            <a:ext cx="3108600" cy="3017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66680" y="266688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mber of electrons that can fit in a shel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308680" y="36576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33520" y="1523880"/>
            <a:ext cx="786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angular momentum quantum number, generally symbolized by </a:t>
            </a: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denotes the orbital (subshel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orbitals"/>
          <p:cNvPicPr/>
          <p:nvPr/>
        </p:nvPicPr>
        <p:blipFill>
          <a:blip r:embed="rId1"/>
          <a:stretch/>
        </p:blipFill>
        <p:spPr>
          <a:xfrm>
            <a:off x="1447920" y="2971800"/>
            <a:ext cx="6553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167652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 is made up of fluctuating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ic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gneti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fields that do not require the existence of mat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sible light is a kin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omagnetic radi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form of E with wavelike behavior as travels through space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 form of light travel at a spee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at is light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09480" y="10666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magnetic quantum number, generally symbolized by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denotes the orientation of the electron’s orbital with respect to the three axes in spac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magneticqn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" y="83808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in quantum number denotes the behavior (direction of spin) of an electron within a magnetic fie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066680" y="22096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ossibilities for electron spi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7"/>
          <p:cNvGraphicFramePr/>
          <p:nvPr/>
        </p:nvGraphicFramePr>
        <p:xfrm>
          <a:off x="3048120" y="2971800"/>
          <a:ext cx="884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1800"/>
                    <a:ext cx="884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8"/>
          <p:cNvGraphicFramePr/>
          <p:nvPr/>
        </p:nvGraphicFramePr>
        <p:xfrm>
          <a:off x="5029200" y="2971800"/>
          <a:ext cx="8859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971800"/>
                    <a:ext cx="885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signing the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62120" y="1066680"/>
            <a:ext cx="7635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nciple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shell (peri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gular Momentum:  </a:t>
            </a:r>
            <a:r>
              <a:rPr b="1" lang="en-US" sz="2400" spc="-1" strike="noStrike">
                <a:solidFill>
                  <a:srgbClr val="ffff00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= shape (s=0, p=1,   d=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gnetic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+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-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pi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+1/2 or – 1/2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lorin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orbital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electron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can we now write the quantum #’s for each e’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lectron Conf. and Quant #’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1447920"/>
          <a:ext cx="7772400" cy="554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incip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sha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r>
                        <a:rPr b="1" lang="en-US" sz="2000" spc="-1" strike="noStrike" baseline="-25000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orient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pi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 config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,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-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erm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n Configurations (1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…/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bital Nota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__  __      __ __ __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ufbau Princi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lowest first/periodic guid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und’s Ru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Single e’ before pairing begi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uli Exclu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up/down—no 2 e’ same set of quant. #’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est Occupied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ner-Shell e’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ble Gas No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27"/>
          <p:cNvSpPr/>
          <p:nvPr/>
        </p:nvSpPr>
        <p:spPr>
          <a:xfrm>
            <a:off x="631800" y="503280"/>
            <a:ext cx="76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in outer energy levels DO penetrate in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er energy level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5576760" y="1523880"/>
            <a:ext cx="31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is a prob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stribution for 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s 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29"/>
          <p:cNvSpPr/>
          <p:nvPr/>
        </p:nvSpPr>
        <p:spPr>
          <a:xfrm>
            <a:off x="5573160" y="3200400"/>
            <a:ext cx="32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parts of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agram corresp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“nodes” – reg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zero probabilit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enetration #1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1033" descr="penetration1"/>
          <p:cNvPicPr/>
          <p:nvPr/>
        </p:nvPicPr>
        <p:blipFill>
          <a:blip r:embed="rId1"/>
          <a:stretch/>
        </p:blipFill>
        <p:spPr>
          <a:xfrm>
            <a:off x="380880" y="1523880"/>
            <a:ext cx="487692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594720" y="426960"/>
            <a:ext cx="74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ich of the orbital types in the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nergy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oes not seem to have a “node”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245640" y="29718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760" y="60955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enetration #2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3" name="Picture 10" descr="penetration2"/>
          <p:cNvPicPr/>
          <p:nvPr/>
        </p:nvPicPr>
        <p:blipFill>
          <a:blip r:embed="rId1"/>
          <a:stretch/>
        </p:blipFill>
        <p:spPr>
          <a:xfrm>
            <a:off x="228600" y="1600200"/>
            <a:ext cx="5715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nciple, angular momentum, and magnetic quantum numbers: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Freestyle Script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Freestyle Script"/>
              </a:rPr>
              <a:t>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5" name="Picture 6" descr="orbital_table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5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Periodic La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4" descr="periodic"/>
          <p:cNvPicPr/>
          <p:nvPr/>
        </p:nvPicPr>
        <p:blipFill>
          <a:blip r:embed="rId1"/>
          <a:stretch/>
        </p:blipFill>
        <p:spPr>
          <a:xfrm>
            <a:off x="0" y="1143000"/>
            <a:ext cx="8305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ve-Particle Dualit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3520" y="838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JJ Thomson won the Nobel prize for describing the electron as a particl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33520" y="1676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s son, George Thomson won the Nobel prize for describing the wave-like nature of the electr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jjthomson"/>
          <p:cNvPicPr/>
          <p:nvPr/>
        </p:nvPicPr>
        <p:blipFill>
          <a:blip r:embed="rId1"/>
          <a:stretch/>
        </p:blipFill>
        <p:spPr>
          <a:xfrm>
            <a:off x="228600" y="2819520"/>
            <a:ext cx="2241720" cy="33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gpthomson"/>
          <p:cNvPicPr/>
          <p:nvPr/>
        </p:nvPicPr>
        <p:blipFill>
          <a:blip r:embed="rId2"/>
          <a:stretch/>
        </p:blipFill>
        <p:spPr>
          <a:xfrm>
            <a:off x="6705720" y="3002040"/>
            <a:ext cx="2274840" cy="32464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/>
          <p:cNvSpPr/>
          <p:nvPr/>
        </p:nvSpPr>
        <p:spPr>
          <a:xfrm>
            <a:off x="2362320" y="2666880"/>
            <a:ext cx="2057400" cy="1524240"/>
          </a:xfrm>
          <a:prstGeom prst="wedgeRoundRectCallout">
            <a:avLst>
              <a:gd name="adj1" fmla="val -66356"/>
              <a:gd name="adj2" fmla="val 7166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is a particl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4572000" y="2895480"/>
            <a:ext cx="2209680" cy="1600200"/>
          </a:xfrm>
          <a:prstGeom prst="wedgeRoundRectCallout">
            <a:avLst>
              <a:gd name="adj1" fmla="val 104023"/>
              <a:gd name="adj2" fmla="val 63689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is an energy wav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erties of the elements recur in regular cycl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riodicall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n the elements are arranged in order of increasing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tomic mas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w of Mendeleev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endeleev’s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2" name="Picture 3" descr="Mendeleevtable"/>
          <p:cNvPicPr/>
          <p:nvPr/>
        </p:nvPicPr>
        <p:blipFill>
          <a:blip r:embed="rId1"/>
          <a:stretch/>
        </p:blipFill>
        <p:spPr>
          <a:xfrm>
            <a:off x="0" y="1219320"/>
            <a:ext cx="6207120" cy="4194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Mendeleev"/>
          <p:cNvPicPr/>
          <p:nvPr/>
        </p:nvPicPr>
        <p:blipFill>
          <a:blip r:embed="rId2"/>
          <a:stretch/>
        </p:blipFill>
        <p:spPr>
          <a:xfrm>
            <a:off x="6248520" y="1219320"/>
            <a:ext cx="2820960" cy="2895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6247440" y="41608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mitri Mendelee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issing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85800" y="1981080"/>
          <a:ext cx="1295280" cy="41148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8.0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8.7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13"/>
          <p:cNvSpPr/>
          <p:nvPr/>
        </p:nvSpPr>
        <p:spPr>
          <a:xfrm>
            <a:off x="3886200" y="26668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505320" y="2438280"/>
            <a:ext cx="291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med missing element “Ekasilicon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3581280" y="434016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om base word “eka” meanging next in or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.61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32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38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x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lor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Cl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Cl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odern Russian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3" descr="russiantable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eriodic Table with Group Nam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1" name="Picture 3" descr="periodictable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in group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lem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:  n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lkali Me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:  n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lkaline Earth Metals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fused??? You’ve Got Company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" name="Picture 4" descr="eddington"/>
          <p:cNvPicPr/>
          <p:nvPr/>
        </p:nvPicPr>
        <p:blipFill>
          <a:blip r:embed="rId1"/>
          <a:stretch/>
        </p:blipFill>
        <p:spPr>
          <a:xfrm>
            <a:off x="533520" y="838080"/>
            <a:ext cx="2487600" cy="46389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3276720" y="838080"/>
            <a:ext cx="5181480" cy="1752840"/>
          </a:xfrm>
          <a:prstGeom prst="wedgeRoundRectCallout">
            <a:avLst>
              <a:gd name="adj1" fmla="val -68384"/>
              <a:gd name="adj2" fmla="val 90759"/>
              <a:gd name="adj3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familiar conceptions can be woven around the electron; something unknown is doing we don’t know what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276720" y="3048120"/>
            <a:ext cx="534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hysicist Sir Arthur Eddingt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The Nature of the Physical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193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in grou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m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3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Boro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4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Carbo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Nitroge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Oxyge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7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Fluorine Family(Halogen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Noble Gas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stly brittle soli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rder and denser than s-block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fter and less dense than d-blo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exception of Bismuth, found in nature only as compou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ce obtained as free metals, that are stable in the presence of ai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talloid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ransition me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als with typical metallic proper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ss reac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an group 1 or 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are so unreactive that they do not easily form compounds  (e.g. palladium, platinum, and gol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tween Group 3 &amp; 4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iny met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milar in reactivity to Group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nthanides (period 6)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re earth met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tinides (period 7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adioactiv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4 have been found naturally, rest are lab m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 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radius"/>
          <p:cNvPicPr/>
          <p:nvPr/>
        </p:nvPicPr>
        <p:blipFill>
          <a:blip r:embed="rId1"/>
          <a:stretch/>
        </p:blipFill>
        <p:spPr>
          <a:xfrm>
            <a:off x="1143000" y="990720"/>
            <a:ext cx="1096920" cy="777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2727360" y="1031760"/>
            <a:ext cx="641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alf of the distance between nuclei 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valently bonded diatomic molecu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607200" y="198108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covalent atomic radii"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55840" y="271296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eriodic Trends in Atomic Radi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219320" y="324648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s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188080" y="3664080"/>
            <a:ext cx="61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reased effective nuclear charge d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decreased shield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1141560" y="4541760"/>
            <a:ext cx="52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s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094120" y="495288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ddition of principal quantum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Determination of Atomic Radius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radiustable"/>
          <p:cNvPicPr/>
          <p:nvPr/>
        </p:nvPicPr>
        <p:blipFill>
          <a:blip r:embed="rId1"/>
          <a:stretch/>
        </p:blipFill>
        <p:spPr>
          <a:xfrm>
            <a:off x="3052800" y="133200"/>
            <a:ext cx="5862600" cy="649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bl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i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939960" y="990720"/>
            <a:ext cx="75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reases for successive electrons taken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same at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939600" y="1905120"/>
            <a:ext cx="55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in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115720" y="2362320"/>
            <a:ext cx="627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in the same quantum level d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t shield as effectively as electron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ner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447920" y="36576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127160" y="388620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209680" y="4495680"/>
            <a:ext cx="582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ter electrons are further from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Ionization Energ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- the energy required to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remov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an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electron from an atom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onization of Magnesi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530440" y="762120"/>
            <a:ext cx="37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 + 738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559600" y="121932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1451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88760" y="1676520"/>
            <a:ext cx="42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7733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3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Mg"/>
          <p:cNvPicPr/>
          <p:nvPr/>
        </p:nvPicPr>
        <p:blipFill>
          <a:blip r:embed="rId1"/>
          <a:stretch/>
        </p:blipFill>
        <p:spPr>
          <a:xfrm>
            <a:off x="1523880" y="2295360"/>
            <a:ext cx="5867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onization Energ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6" name="Picture 3" descr="1stionization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other Way to Look at Ionization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8" name="Picture 3" descr="ionization"/>
          <p:cNvPicPr/>
          <p:nvPr/>
        </p:nvPicPr>
        <p:blipFill>
          <a:blip r:embed="rId1"/>
          <a:stretch/>
        </p:blipFill>
        <p:spPr>
          <a:xfrm>
            <a:off x="1295280" y="914400"/>
            <a:ext cx="7029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wave"/>
          <p:cNvPicPr/>
          <p:nvPr/>
        </p:nvPicPr>
        <p:blipFill>
          <a:blip r:embed="rId1"/>
          <a:stretch/>
        </p:blipFill>
        <p:spPr>
          <a:xfrm>
            <a:off x="1981080" y="1447920"/>
            <a:ext cx="4564080" cy="2193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3426840" y="371016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 =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505880" y="438948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speed of light, a constant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(3.00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m/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477080" y="48466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296720" y="53341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wavelength, in met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ectromagnetic radiation propagates through space as a wave moving at the speed of light.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ALL FORMS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982080" y="1646280"/>
            <a:ext cx="67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finity 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961200" y="2209680"/>
            <a:ext cx="69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finity 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 as you go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087280" y="309420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further from the 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xperience less nuclear attra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141280" y="4084560"/>
            <a:ext cx="610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me irregularities due to repulsi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ces in the relatively small p orbita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Electron Affinit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- the energy change associated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         with the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addit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of an electron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Table of Electron Affinit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5" name="Picture 3" descr="electronaffinity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onic Radii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552600" y="106668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852200" y="1523880"/>
            <a:ext cx="47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sitivel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arged 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905120" y="19810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maller than the corresponding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00840" y="284472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905120" y="3352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egativel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arged 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905120" y="3886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arger than the correspond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om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Ion Siz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4" name="Picture 3" descr="ionsize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electrons available to be lost, gained, or shared in the formation of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ence Electrons hold atoms together in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alence Electr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“Outer Shell Electrons”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1911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Electronegativity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822240" y="1036800"/>
            <a:ext cx="100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easure of the ability of an atom in a chem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mpou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trac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lectron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same trends as electron affin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523880" y="2286000"/>
            <a:ext cx="700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egativities te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 acr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497600" y="2971800"/>
            <a:ext cx="723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egativities te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 down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roup or remain the s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electronegative:  4.0 (Pauling sca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rogen,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xygen, and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ogens mo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lkali and Alkali Ear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etals least (1.0-0.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lues used in chemical BO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iodic Table of Electronegativiti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2" name="Picture 3" descr="Electronegativity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mmation of Periodic Tren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4" name="Picture 3" descr="periodictrends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39240" y="0"/>
            <a:ext cx="24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66600" y="2743200"/>
            <a:ext cx="256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hor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mic Sans MS"/>
              </a:rPr>
              <a:t>Wavelength Table</a:t>
            </a: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8" name="Picture 7" descr="natureofwaves"/>
          <p:cNvPicPr/>
          <p:nvPr/>
        </p:nvPicPr>
        <p:blipFill>
          <a:blip r:embed="rId1"/>
          <a:stretch/>
        </p:blipFill>
        <p:spPr>
          <a:xfrm>
            <a:off x="2770200" y="152280"/>
            <a:ext cx="637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visiblespectrum"/>
          <p:cNvPicPr/>
          <p:nvPr/>
        </p:nvPicPr>
        <p:blipFill>
          <a:blip r:embed="rId1"/>
          <a:stretch/>
        </p:blipFill>
        <p:spPr>
          <a:xfrm>
            <a:off x="685800" y="1676520"/>
            <a:ext cx="7807320" cy="2708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477360" y="1066680"/>
            <a:ext cx="82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duces all of the colors in a continuous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ectroscopic analysis of the visible spectrum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mspectrum"/>
          <p:cNvPicPr/>
          <p:nvPr/>
        </p:nvPicPr>
        <p:blipFill>
          <a:blip r:embed="rId1"/>
          <a:stretch/>
        </p:blipFill>
        <p:spPr>
          <a:xfrm>
            <a:off x="11160" y="1011240"/>
            <a:ext cx="9121680" cy="48355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ypes of electromagnetic radiation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02:06:50Z</dcterms:created>
  <dc:creator>Andy Allan</dc:creator>
  <dc:description/>
  <dc:language>en-US</dc:language>
  <cp:lastModifiedBy>Cynthia Ahmed</cp:lastModifiedBy>
  <dcterms:modified xsi:type="dcterms:W3CDTF">2012-05-04T01:36:15Z</dcterms:modified>
  <cp:revision>242</cp:revision>
  <dc:subject/>
  <dc:title>AP Chemistry Chapter 7</dc:title>
</cp:coreProperties>
</file>