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png" ContentType="image/png"/>
  <Override PartName="/ppt/media/image13.jpeg" ContentType="image/jpeg"/>
  <Override PartName="/ppt/media/image24.png" ContentType="image/png"/>
  <Override PartName="/ppt/media/image11.jpeg" ContentType="image/jpeg"/>
  <Override PartName="/ppt/media/image12.png" ContentType="image/png"/>
  <Override PartName="/ppt/media/image33.png" ContentType="image/png"/>
  <Override PartName="/ppt/media/image10.png" ContentType="image/png"/>
  <Override PartName="/ppt/media/image29.png" ContentType="image/png"/>
  <Override PartName="/ppt/media/image32.png" ContentType="image/png"/>
  <Override PartName="/ppt/media/image40.wmf" ContentType="image/x-wmf"/>
  <Override PartName="/ppt/media/image34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projctor.wav" ContentType="audio/x-wav"/>
  <Override PartName="/ppt/media/image35.png" ContentType="image/png"/>
  <Override PartName="/ppt/media/explode.wav" ContentType="audio/x-wav"/>
  <Override PartName="/ppt/media/image5.jpeg" ContentType="image/jpeg"/>
  <Override PartName="/ppt/media/image8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DE2-C4F7-4139-97DA-0B3DB747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B15-D8C6-4DDF-941E-26C70E62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EE3-202B-4C99-8458-C20EFCDE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D9E-20EB-487E-BE80-27D1EAC7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8B8-C494-46D5-A07C-2FB1D42A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1E1-4A81-46EC-927E-E25DE370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029-B385-4E56-834B-67910D2C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A2D-5095-43A9-AD18-9E0D4D6F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F09-4C57-4BF6-AF15-EA59DA65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E81-2D85-4181-968A-B63C9987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B93-E318-4427-9961-66449767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270-D805-4EAF-A61C-1BF06DB2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42E5-2875-48C9-831C-A13F64B97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hys.washington.edu/~young/116A/lecture/nobel9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hy is the sky blue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emspectrum"/>
          <p:cNvPicPr/>
          <p:nvPr/>
        </p:nvPicPr>
        <p:blipFill>
          <a:blip r:embed="rId1"/>
          <a:stretch/>
        </p:blipFill>
        <p:spPr>
          <a:xfrm>
            <a:off x="11160" y="1011240"/>
            <a:ext cx="9121680" cy="4835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es of electromagnetic radiation: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otoelectric Effect (early 1900’s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ul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e explained by the wave theory of ligh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s to the emission of e’ from a metal when light shines on i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a given metal, no e’ were emitted if the light was below a certain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ve theory said any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ould supply enough E to eject any e’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ght a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00’s German physisist Max Planck studied emission of light by hot obj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objects emitted in small specific amounts calle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the minimum quantity of E that can be lost or gained by an atom.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oposed E = h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is “Planck’s Constant”  6.626 x 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3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J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are wave-like and particle like properties??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4275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Wav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 Properti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asurable frequency and wavelengt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sorbed and emitted by matter (photoelectric effect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bility to interfere and diffrac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mission of light by hot objec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ignificant feature is repetitive natur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eation of line-emission spectra of element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bert Einstein (190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ggested dual wave-particle n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particle carried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uantu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instein called these particles “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hot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photo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h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e’ to be removed, must be struck by single photon with minimum E required to knock e’ loo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’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etals requi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inimum v to exhibit photoelectric effec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28"/>
          <p:cNvSpPr/>
          <p:nvPr/>
        </p:nvSpPr>
        <p:spPr>
          <a:xfrm>
            <a:off x="2971800" y="1676520"/>
            <a:ext cx="297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E</a:t>
            </a:r>
            <a:r>
              <a:rPr b="1" i="1" lang="en-US" sz="3600" spc="-1" strike="noStrike" baseline="-25000">
                <a:solidFill>
                  <a:srgbClr val="ffff00"/>
                </a:solidFill>
                <a:latin typeface="Comic Sans MS"/>
                <a:ea typeface="Arial"/>
              </a:rPr>
              <a:t>photon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  <a:ea typeface="Arial"/>
              </a:rPr>
              <a:t>= h</a:t>
            </a:r>
            <a:r>
              <a:rPr b="1" i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029"/>
          <p:cNvSpPr/>
          <p:nvPr/>
        </p:nvSpPr>
        <p:spPr>
          <a:xfrm>
            <a:off x="1534320" y="256068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Energy, in units of Joules (kg·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/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32"/>
          <p:cNvSpPr/>
          <p:nvPr/>
        </p:nvSpPr>
        <p:spPr>
          <a:xfrm>
            <a:off x="1658880" y="320040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Planck’s constant (6.626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34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J·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33"/>
          <p:cNvSpPr/>
          <p:nvPr/>
        </p:nvSpPr>
        <p:spPr>
          <a:xfrm>
            <a:off x="1492920" y="393228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energy (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electromagnetic radiation is directly proportional to the frequency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of the radia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-Atom Line Emission Spectrum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current is passed through a gas at low P, the potential E of some of the gas atoms increas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lowest E state of an ato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cite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atom has higher potential E than the ground st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at atom returns to ground state, it gives off E.  (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igh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in Hydrogen’s Line Emission Spectrum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721440" y="14479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 “bright line”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hydrogenspectrum"/>
          <p:cNvPicPr/>
          <p:nvPr/>
        </p:nvPicPr>
        <p:blipFill>
          <a:blip r:embed="rId1"/>
          <a:stretch/>
        </p:blipFill>
        <p:spPr>
          <a:xfrm>
            <a:off x="990720" y="1905120"/>
            <a:ext cx="7211880" cy="3692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pectroscopic analysis of the hydrogen spectrum…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pec"/>
          <p:cNvPicPr/>
          <p:nvPr/>
        </p:nvPicPr>
        <p:blipFill>
          <a:blip r:embed="rId1"/>
          <a:stretch/>
        </p:blipFill>
        <p:spPr>
          <a:xfrm>
            <a:off x="3429000" y="228600"/>
            <a:ext cx="5429160" cy="6095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52280" y="24382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s produces ba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f light with defin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 transit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volve jumps o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finite amounts of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ergy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Bohr Model of the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3" descr="Bohr"/>
          <p:cNvPicPr/>
          <p:nvPr/>
        </p:nvPicPr>
        <p:blipFill>
          <a:blip r:embed="rId1"/>
          <a:stretch/>
        </p:blipFill>
        <p:spPr>
          <a:xfrm>
            <a:off x="228600" y="99072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441720" y="44956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eils Boh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2590920" y="914400"/>
            <a:ext cx="3200400" cy="3962520"/>
          </a:xfrm>
          <a:prstGeom prst="wedgeRoundRectCallout">
            <a:avLst>
              <a:gd name="adj1" fmla="val -72421"/>
              <a:gd name="adj2" fmla="val -6087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 pictured electrons orbiting the nucleus much like planets orbiting the s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31240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But I was wrong! They’re more like bees around a hiv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Atom"/>
          <p:cNvPicPr/>
          <p:nvPr/>
        </p:nvPicPr>
        <p:blipFill>
          <a:blip r:embed="rId2"/>
          <a:stretch/>
        </p:blipFill>
        <p:spPr>
          <a:xfrm>
            <a:off x="6095880" y="1066680"/>
            <a:ext cx="2686320" cy="2675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6536160" y="3809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RONG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5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rangement of Electrons in Atom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4120" y="2438280"/>
            <a:ext cx="35208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ea typeface="Arial"/>
                <a:hlinkClick r:id="rId1"/>
              </a:rPr>
              <a:t>1998 Nobel Prize in Physics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was awarded "for the discovery of a new form of quantum fluid with fractionally charged excitations." At the left is a computer graphic of this kind of st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quantum_mech"/>
          <p:cNvPicPr/>
          <p:nvPr/>
        </p:nvPicPr>
        <p:blipFill>
          <a:blip r:embed="rId2"/>
          <a:stretch/>
        </p:blipFill>
        <p:spPr>
          <a:xfrm>
            <a:off x="533520" y="1981080"/>
            <a:ext cx="4663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nked an atom’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’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emi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id that e’ can circle the nucleus only is specific paths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bi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bits are separated from the nucleus by large empty spaces 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d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where the e- cannot exist.  (Rungs on a ladder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,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increases as e’ are furth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the nucle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ohr’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del of H Ato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ile an e’ is in orbit, 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no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nor lose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move to a higher E leve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t gains the amount of E = to the difference between the higher E orbit and the lower energy orb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 falls, it emits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OTON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to the differ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bsorp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ains E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s off 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the good with the bad (Bohr’s Model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o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d scientists to believe a similar model could be applied to all atom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ikes!!!  Did not explain the spectra of atoms with more than one e’ or chemical behavior of atoms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does a line emission spectrum tell you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e’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stantly movin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one E level to anoth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s that the distance between the two levels is always the sam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dentification of unknown s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Wave-lik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4" descr="broglie"/>
          <p:cNvPicPr/>
          <p:nvPr/>
        </p:nvPicPr>
        <p:blipFill>
          <a:blip r:embed="rId1"/>
          <a:stretch/>
        </p:blipFill>
        <p:spPr>
          <a:xfrm>
            <a:off x="685800" y="1143000"/>
            <a:ext cx="329868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995040" y="579132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uis deBrogl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038480" y="1447920"/>
            <a:ext cx="4724640" cy="2590560"/>
          </a:xfrm>
          <a:prstGeom prst="wedgeRoundRectCallout">
            <a:avLst>
              <a:gd name="adj1" fmla="val -66027"/>
              <a:gd name="adj2" fmla="val -43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propagates through space as an energy wave. To understand the atom, one must understand the behavior of electromagnetic wav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chrodinger Wave Equa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3" descr="schrodinger"/>
          <p:cNvPicPr/>
          <p:nvPr/>
        </p:nvPicPr>
        <p:blipFill>
          <a:blip r:embed="rId1"/>
          <a:stretch/>
        </p:blipFill>
        <p:spPr>
          <a:xfrm>
            <a:off x="609480" y="1523880"/>
            <a:ext cx="253044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>
            <a:off x="2743200" y="1828800"/>
            <a:ext cx="51055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7"/>
          <p:cNvGraphicFramePr/>
          <p:nvPr/>
        </p:nvGraphicFramePr>
        <p:xfrm>
          <a:off x="3124080" y="1981080"/>
          <a:ext cx="4343400" cy="11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1981080"/>
                    <a:ext cx="434340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3565440" y="40086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quation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obabilit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f a single electron being found along a single axis (x-axi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01400" y="518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rwin Schroding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148760" y="655560"/>
            <a:ext cx="78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do not propagate through sp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nding waves are fixed at both e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unpluckedstring"/>
          <p:cNvPicPr/>
          <p:nvPr/>
        </p:nvPicPr>
        <p:blipFill>
          <a:blip r:embed="rId4"/>
          <a:stretch/>
        </p:blipFill>
        <p:spPr>
          <a:xfrm>
            <a:off x="380880" y="1981080"/>
            <a:ext cx="4419720" cy="72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alfwavelength"/>
          <p:cNvPicPr/>
          <p:nvPr/>
        </p:nvPicPr>
        <p:blipFill>
          <a:blip r:embed="rId5"/>
          <a:stretch/>
        </p:blipFill>
        <p:spPr>
          <a:xfrm>
            <a:off x="5257800" y="1905120"/>
            <a:ext cx="3581280" cy="120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halfswavelength"/>
          <p:cNvPicPr/>
          <p:nvPr/>
        </p:nvPicPr>
        <p:blipFill>
          <a:blip r:embed="rId6"/>
          <a:stretch/>
        </p:blipFill>
        <p:spPr>
          <a:xfrm>
            <a:off x="457200" y="3429000"/>
            <a:ext cx="3657600" cy="134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3halfswavelength"/>
          <p:cNvPicPr/>
          <p:nvPr/>
        </p:nvPicPr>
        <p:blipFill>
          <a:blip r:embed="rId7"/>
          <a:stretch/>
        </p:blipFill>
        <p:spPr>
          <a:xfrm>
            <a:off x="5257800" y="3429000"/>
            <a:ext cx="3581280" cy="1279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 as a standing wave: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5360" y="5486400"/>
            <a:ext cx="72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 shapes are defined as the surface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ntains 90% of the total electron probabilit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orbital is a region within an atom where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a probability of finding an electron. This is a probability diagram for the s orbital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first energy level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Picture 7" descr="sprobability"/>
          <p:cNvPicPr/>
          <p:nvPr/>
        </p:nvPicPr>
        <p:blipFill>
          <a:blip r:embed="rId1"/>
          <a:stretch/>
        </p:blipFill>
        <p:spPr>
          <a:xfrm>
            <a:off x="990720" y="2133720"/>
            <a:ext cx="67150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031"/>
          <p:cNvSpPr/>
          <p:nvPr/>
        </p:nvSpPr>
        <p:spPr>
          <a:xfrm>
            <a:off x="41148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032"/>
          <p:cNvSpPr/>
          <p:nvPr/>
        </p:nvSpPr>
        <p:spPr>
          <a:xfrm>
            <a:off x="5386320" y="4419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35" descr="Heisenberg_4"/>
          <p:cNvPicPr/>
          <p:nvPr/>
        </p:nvPicPr>
        <p:blipFill>
          <a:blip r:embed="rId1"/>
          <a:stretch/>
        </p:blipFill>
        <p:spPr>
          <a:xfrm>
            <a:off x="380880" y="990720"/>
            <a:ext cx="3060720" cy="4140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37"/>
          <p:cNvSpPr/>
          <p:nvPr/>
        </p:nvSpPr>
        <p:spPr>
          <a:xfrm>
            <a:off x="3429000" y="914400"/>
            <a:ext cx="5029200" cy="1676520"/>
          </a:xfrm>
          <a:prstGeom prst="wedgeRoundRectCallout">
            <a:avLst>
              <a:gd name="adj1" fmla="val -42138"/>
              <a:gd name="adj2" fmla="val 6723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e cannot simultaneously determine both the position and momentum of an electro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38"/>
          <p:cNvSpPr/>
          <p:nvPr/>
        </p:nvSpPr>
        <p:spPr>
          <a:xfrm>
            <a:off x="842040" y="5151600"/>
            <a:ext cx="192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er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eisenbe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97240" y="8380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of the same shape (s, for instance) grow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arger as n increase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98760" y="495288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des are regions of low probability within 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5" descr="size_of_s_orbitals"/>
          <p:cNvPicPr/>
          <p:nvPr/>
        </p:nvPicPr>
        <p:blipFill>
          <a:blip r:embed="rId1"/>
          <a:stretch/>
        </p:blipFill>
        <p:spPr>
          <a:xfrm>
            <a:off x="1676520" y="1752480"/>
            <a:ext cx="5532480" cy="3222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izes of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do we know about the atom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orbital_filling_table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Orbital filling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lectron configuration of the elements of the first three ser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Picture 3" descr="confignotation"/>
          <p:cNvPicPr/>
          <p:nvPr/>
        </p:nvPicPr>
        <p:blipFill>
          <a:blip r:embed="rId1"/>
          <a:stretch/>
        </p:blipFill>
        <p:spPr>
          <a:xfrm>
            <a:off x="92160" y="1905120"/>
            <a:ext cx="905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rregular confirmations of Cr and Cu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3" descr="Cr_andCu"/>
          <p:cNvPicPr/>
          <p:nvPr/>
        </p:nvPicPr>
        <p:blipFill>
          <a:blip r:embed="rId1"/>
          <a:stretch/>
        </p:blipFill>
        <p:spPr>
          <a:xfrm>
            <a:off x="0" y="1600200"/>
            <a:ext cx="9132840" cy="3371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349640" y="121932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hromium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hal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148200" y="2057400"/>
            <a:ext cx="54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pper steals a 4s electron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FIL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3d sub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981080" y="2057400"/>
            <a:ext cx="762120" cy="2057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4724280" y="2819520"/>
            <a:ext cx="609840" cy="1295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17600" y="503280"/>
            <a:ext cx="80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 has a spherical shape centered a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origin of the three axes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8120" y="5715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5" name="Picture 6" descr="sorbital"/>
          <p:cNvPicPr/>
          <p:nvPr/>
        </p:nvPicPr>
        <p:blipFill>
          <a:blip r:embed="rId1"/>
          <a:stretch/>
        </p:blipFill>
        <p:spPr>
          <a:xfrm>
            <a:off x="2590920" y="1676520"/>
            <a:ext cx="33242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066680" y="685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re are three dumbbell-shaped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orbitals i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nergy level above n = 1, each assign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ts own axis (x, y and z) in sp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rbital shap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18" descr="p_orbitals"/>
          <p:cNvPicPr/>
          <p:nvPr/>
        </p:nvPicPr>
        <p:blipFill>
          <a:blip r:embed="rId1"/>
          <a:stretch/>
        </p:blipFill>
        <p:spPr>
          <a:xfrm>
            <a:off x="1600200" y="19051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4724280" y="45720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ings get a bit more complicated with the fiv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rbitals that are found in th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sublevels beginning with n = 3. To remember the shapes, think of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bl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95880" y="3276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umbel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nut”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orbital shapes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2" descr="d-orbitals"/>
          <p:cNvPicPr/>
          <p:nvPr/>
        </p:nvPicPr>
        <p:blipFill>
          <a:blip r:embed="rId1"/>
          <a:stretch/>
        </p:blipFill>
        <p:spPr>
          <a:xfrm>
            <a:off x="0" y="304920"/>
            <a:ext cx="4668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hape of f orbital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4" descr="f_orbitals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electrons available to be lost, gained, or shared in the formation of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lence Electrons hold atoms together in chemical compound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are valence electrons determin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s+p, Roman numerals, count the “main groups”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Valence Electro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“Outer Shell Electrons”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radius"/>
          <p:cNvPicPr/>
          <p:nvPr/>
        </p:nvPicPr>
        <p:blipFill>
          <a:blip r:embed="rId1"/>
          <a:stretch/>
        </p:blipFill>
        <p:spPr>
          <a:xfrm>
            <a:off x="1152360" y="1419120"/>
            <a:ext cx="1097280" cy="777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2727360" y="1260360"/>
            <a:ext cx="64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Half of the distance between nuclei 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covalently bonded diatomic molecu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615840" y="198108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"covalent atomic radii"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55840" y="271296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Periodic Trends in Atomic Radi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219320" y="324648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s acro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perio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94280" y="3664080"/>
            <a:ext cx="61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d effective nuclear charge d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+ and e- added to same 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evel (pulls e- closer to the nucleu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71600" y="48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adiu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s dow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 grou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346120" y="5356080"/>
            <a:ext cx="64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ddition of principal E levels caus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- to be further from the 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d increased shield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Radius:  The distance between the valence electrons and the nucleus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radiustable"/>
          <p:cNvPicPr/>
          <p:nvPr/>
        </p:nvPicPr>
        <p:blipFill>
          <a:blip r:embed="rId1"/>
          <a:stretch/>
        </p:blipFill>
        <p:spPr>
          <a:xfrm>
            <a:off x="3052800" y="133200"/>
            <a:ext cx="5862600" cy="649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abl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om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dii</a:t>
            </a: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167652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Light is made up of fluctuating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ic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n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magneti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fields that do not require the existence of matt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Visible light is a kin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electromagnetic radi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 (form of E with wavelike behavior as travels through space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ll form of light travel at a speed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3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 m/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765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What is light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39960" y="990720"/>
            <a:ext cx="750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creases for successive electrons taken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same at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in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362320" y="2792520"/>
            <a:ext cx="674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number of protons increases, whic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rengthens the attraction of the nucleu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- and more E is needed 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remov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500120" y="3529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295280" y="46483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de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133720" y="5029200"/>
            <a:ext cx="58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Outer electrons are further from th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34760"/>
            <a:ext cx="8381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Ionization Energy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nergy required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mo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an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          electron from an ato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Ionization of Magnesi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30440" y="762120"/>
            <a:ext cx="37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 + 738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59600" y="1219320"/>
            <a:ext cx="41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1451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88760" y="1676520"/>
            <a:ext cx="42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+ 7733 kJ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Mg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 + 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Mg"/>
          <p:cNvPicPr/>
          <p:nvPr/>
        </p:nvPicPr>
        <p:blipFill>
          <a:blip r:embed="rId1"/>
          <a:stretch/>
        </p:blipFill>
        <p:spPr>
          <a:xfrm>
            <a:off x="1523880" y="2295360"/>
            <a:ext cx="5867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7924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able of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onization Energi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1" name="Picture 3" descr="1stionization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other Way to Look at Ionization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3" descr="ionization"/>
          <p:cNvPicPr/>
          <p:nvPr/>
        </p:nvPicPr>
        <p:blipFill>
          <a:blip r:embed="rId1"/>
          <a:stretch/>
        </p:blipFill>
        <p:spPr>
          <a:xfrm>
            <a:off x="1295280" y="914400"/>
            <a:ext cx="7029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943200" y="990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2254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decreas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cross a peri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421000" y="2971800"/>
            <a:ext cx="63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s the number of protons increases,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cleus has more attraction for t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valence electr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447920" y="36576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 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219320" y="4235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ends to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increas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own a gro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133720" y="5029200"/>
            <a:ext cx="58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valence electrons are easier to remove when they are further from the nucleus (less nuclear pull/more shield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312920"/>
            <a:ext cx="80010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8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030320" y="9237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allic Charact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A measure of how easily an element loses a valence electr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auli Exclusion Princip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3" name="Picture 4" descr="nobelpauli1"/>
          <p:cNvPicPr/>
          <p:nvPr/>
        </p:nvPicPr>
        <p:blipFill>
          <a:blip r:embed="rId1"/>
          <a:stretch/>
        </p:blipFill>
        <p:spPr>
          <a:xfrm>
            <a:off x="457200" y="1066680"/>
            <a:ext cx="2478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3048120" y="1371600"/>
            <a:ext cx="4800600" cy="1447920"/>
          </a:xfrm>
          <a:prstGeom prst="wedgeRoundRectCallout">
            <a:avLst>
              <a:gd name="adj1" fmla="val -45337"/>
              <a:gd name="adj2" fmla="val 71162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two electrons in an atom can have the same four quantum number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819720" y="46483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olfga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aul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uantum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22240" y="1189080"/>
            <a:ext cx="74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Each electron in an atom has a unique set of 4 quantum numbers which describe i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600200" y="2286000"/>
            <a:ext cx="595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al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incipal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143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Generally symbolized by n, it denotes the shell (energy leve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energylevels"/>
          <p:cNvPicPr/>
          <p:nvPr/>
        </p:nvPicPr>
        <p:blipFill>
          <a:blip r:embed="rId1"/>
          <a:stretch/>
        </p:blipFill>
        <p:spPr>
          <a:xfrm>
            <a:off x="5181480" y="2286000"/>
            <a:ext cx="3108600" cy="3017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066680" y="266688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umber of electrons that can fit in a shel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308680" y="3657600"/>
            <a:ext cx="8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2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ngular Momentum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33520" y="1523880"/>
            <a:ext cx="7864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angular momentum quantum number, generally symbolized by </a:t>
            </a:r>
            <a:r>
              <a:rPr b="1" i="1" lang="en-US" sz="3600" spc="-1" strike="noStrike">
                <a:solidFill>
                  <a:srgbClr val="ffffff"/>
                </a:solidFill>
                <a:latin typeface="Brush Script MT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bital (subshell) in which the electron is loc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orbitals"/>
          <p:cNvPicPr/>
          <p:nvPr/>
        </p:nvPicPr>
        <p:blipFill>
          <a:blip r:embed="rId1"/>
          <a:stretch/>
        </p:blipFill>
        <p:spPr>
          <a:xfrm>
            <a:off x="1447920" y="2971800"/>
            <a:ext cx="6553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gnetic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480" y="10666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magnetic quantum number, generally symbolized by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, denotes the orientation of the electron’s orbital with respect to the three axes in spa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magneticqn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ve-Particle Dualit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33520" y="838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JJ Thomson won the Nobel prize for describing the electron as a particl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1676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s son, George Thomson won the Nobel prize for describing the wave-like nature of the electr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jjthomson"/>
          <p:cNvPicPr/>
          <p:nvPr/>
        </p:nvPicPr>
        <p:blipFill>
          <a:blip r:embed="rId1"/>
          <a:stretch/>
        </p:blipFill>
        <p:spPr>
          <a:xfrm>
            <a:off x="228600" y="2819520"/>
            <a:ext cx="224172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pthomson"/>
          <p:cNvPicPr/>
          <p:nvPr/>
        </p:nvPicPr>
        <p:blipFill>
          <a:blip r:embed="rId2"/>
          <a:stretch/>
        </p:blipFill>
        <p:spPr>
          <a:xfrm>
            <a:off x="6705720" y="3002040"/>
            <a:ext cx="2274840" cy="32464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7"/>
          <p:cNvSpPr/>
          <p:nvPr/>
        </p:nvSpPr>
        <p:spPr>
          <a:xfrm>
            <a:off x="2362320" y="2666880"/>
            <a:ext cx="2057400" cy="1524240"/>
          </a:xfrm>
          <a:prstGeom prst="wedgeRoundRectCallout">
            <a:avLst>
              <a:gd name="adj1" fmla="val -66356"/>
              <a:gd name="adj2" fmla="val 71666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 particl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572000" y="2895480"/>
            <a:ext cx="2209680" cy="1600200"/>
          </a:xfrm>
          <a:prstGeom prst="wedgeRoundRectCallout">
            <a:avLst>
              <a:gd name="adj1" fmla="val 104023"/>
              <a:gd name="adj2" fmla="val 63689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 electron is an energy wav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in Quantum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57200" y="8380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pin quantum number denotes the behavior (direction of spin) of an electron within a magnetic fie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66680" y="22096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ossibilities for electron spi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Object 7"/>
          <p:cNvGraphicFramePr/>
          <p:nvPr/>
        </p:nvGraphicFramePr>
        <p:xfrm>
          <a:off x="3048120" y="2971800"/>
          <a:ext cx="884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71800"/>
                    <a:ext cx="884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8"/>
          <p:cNvGraphicFramePr/>
          <p:nvPr/>
        </p:nvGraphicFramePr>
        <p:xfrm>
          <a:off x="5029200" y="2971800"/>
          <a:ext cx="8859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971800"/>
                    <a:ext cx="885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signing the Numb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1066680"/>
            <a:ext cx="7635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inciple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hell (perio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ngular Momentum:  </a:t>
            </a:r>
            <a:r>
              <a:rPr b="1" lang="en-US" sz="2400" spc="-1" strike="noStrike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= shape (s=0, p=1,   d=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Magnetic: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+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to -</a:t>
            </a:r>
            <a:r>
              <a:rPr b="1" lang="en-US" sz="2400" spc="-1" strike="noStrike">
                <a:solidFill>
                  <a:srgbClr val="ffffff"/>
                </a:solidFill>
                <a:latin typeface="Script MT Bold"/>
                <a:ea typeface="Arial"/>
              </a:rPr>
              <a:t>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Spin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:  +1/2 or – 1/2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lorin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orbital not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the electron configur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can we now write the quantum #’s for each e’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lectron Conf. and Quant #’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5800" y="1447920"/>
          <a:ext cx="7772400" cy="55404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incip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sha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</a:t>
                      </a:r>
                      <a:r>
                        <a:rPr b="1" lang="en-US" sz="2000" spc="-1" strike="noStrike" baseline="-25000">
                          <a:solidFill>
                            <a:srgbClr val="ffff00"/>
                          </a:solidFill>
                          <a:latin typeface="Script MT Bold"/>
                        </a:rPr>
                        <a:t>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Script MT Bold"/>
                        </a:rPr>
                        <a:t>orient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pi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’ config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,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,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,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s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/- 1/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p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inciple, angular momentum, and magnetic quantum numbers: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Freestyle Script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Freestyle Script"/>
              </a:rPr>
              <a:t>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4" name="Picture 6" descr="orbital_table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Ke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erm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ound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n Configurations (1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…/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bital Notation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__  __      __ __ __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ufbau Princip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lowest first/periodic gu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und’s Ru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 Single e’ before pairing begi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uli Exclu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up/down—no 2 e’ same set of quant. #’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est Occupied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er-Shell e’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oble Gas Not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fused??? You’ve Got Company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eddington"/>
          <p:cNvPicPr/>
          <p:nvPr/>
        </p:nvPicPr>
        <p:blipFill>
          <a:blip r:embed="rId1"/>
          <a:stretch/>
        </p:blipFill>
        <p:spPr>
          <a:xfrm>
            <a:off x="533520" y="838080"/>
            <a:ext cx="2487600" cy="46389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3276720" y="838080"/>
            <a:ext cx="5181480" cy="1752840"/>
          </a:xfrm>
          <a:prstGeom prst="wedgeRoundRectCallout">
            <a:avLst>
              <a:gd name="adj1" fmla="val -68384"/>
              <a:gd name="adj2" fmla="val 90759"/>
              <a:gd name="adj3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 familiar conceptions can be woven around the electron; something unknown is doing we don’t know what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276720" y="3048120"/>
            <a:ext cx="534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hysicist Sir Arthur Eddingt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The Nature of the Physical Wor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193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wave"/>
          <p:cNvPicPr/>
          <p:nvPr/>
        </p:nvPicPr>
        <p:blipFill>
          <a:blip r:embed="rId1"/>
          <a:stretch/>
        </p:blipFill>
        <p:spPr>
          <a:xfrm>
            <a:off x="1981080" y="1447920"/>
            <a:ext cx="456408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426840" y="371016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c = </a:t>
            </a:r>
            <a:r>
              <a:rPr b="1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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505880" y="438948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C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speed of light, a constan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(3.00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  <a:ea typeface="Arial"/>
              </a:rPr>
              <a:t>8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m/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77080" y="48466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frequency, in units of hertz (hz, se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  <a:ea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296720" y="533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 wavelength, in met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lectromagnetic radiation propagates through space as a wave moving at the speed of light.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ALL FORMS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9240" y="0"/>
            <a:ext cx="24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Low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6600" y="2743200"/>
            <a:ext cx="256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ho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Waveleng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Frequ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High ENER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omic Sans MS"/>
              </a:rPr>
              <a:t>Wavelength Table</a:t>
            </a: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1" name="Picture 7" descr="natureofwaves"/>
          <p:cNvPicPr/>
          <p:nvPr/>
        </p:nvPicPr>
        <p:blipFill>
          <a:blip r:embed="rId1"/>
          <a:stretch/>
        </p:blipFill>
        <p:spPr>
          <a:xfrm>
            <a:off x="2770200" y="152280"/>
            <a:ext cx="637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visiblespectrum"/>
          <p:cNvPicPr/>
          <p:nvPr/>
        </p:nvPicPr>
        <p:blipFill>
          <a:blip r:embed="rId1"/>
          <a:stretch/>
        </p:blipFill>
        <p:spPr>
          <a:xfrm>
            <a:off x="685800" y="1676520"/>
            <a:ext cx="7807320" cy="2708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77360" y="1066680"/>
            <a:ext cx="82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produces all of the colors in a continuous spect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ectroscopic analysis of the visible spectrum…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02:06:50Z</dcterms:created>
  <dc:creator>Andy Allan</dc:creator>
  <dc:description/>
  <dc:language>en-US</dc:language>
  <cp:lastModifiedBy>Cynthia Ahmed</cp:lastModifiedBy>
  <dcterms:modified xsi:type="dcterms:W3CDTF">2017-10-23T18:51:55Z</dcterms:modified>
  <cp:revision>252</cp:revision>
  <dc:subject/>
  <dc:title>AP Chemistry Chapter 7</dc:title>
</cp:coreProperties>
</file>